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1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0" name="PlaceHolder 5"/>
          <p:cNvSpPr>
            <a:spLocks noGrp="1"/>
          </p:cNvSpPr>
          <p:nvPr>
            <p:ph type="ftr" idx="1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1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3B74-EAFC-4465-8709-7111C7F05AF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6321-5BAF-4226-8074-BE5EE48AA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discuss some of the communication styles we use everyday in this module. What is important to note is that no matter how hard we try to be a clear and assertive communicator, there will always be a chance that we fall back on less effective methods.  This can be because of the situation, the history between the person with whom we are having the discussion and ourselves. We try not to make things personal but it takes practice and vigi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A157-E801-434E-BE99-286999EB9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D294-1F31-493F-8547-2E01930E1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s summarizes the twin interventions of this effor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elements of the Comprehensive Unit-based Safety Program or CUSP</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5 evidence-based techniques and strategies for eliminating CLAB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5092-A6D7-420F-93EE-332F325F8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s summarizes the twin interventions of this effor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elements of the Comprehensive Unit-based Safety Program or CUSP</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5 evidence-based techniques and strategies for eliminating CLABSI</a:t>
            </a: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9B60-40D8-4C15-8C00-9F654ACE1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315010-2111-4D69-9A2C-C4E4513851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6B3511F-24DE-4C0F-AC0E-CE2526EB4CB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2E63E6A-8240-48EC-9D55-B4E7C42FAC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0A74CC79-1201-4FAA-8B57-6691939C53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FA5D83D1-964A-4751-88A3-D9FF458DB9E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74B6469-CEB5-499A-BA33-7A3132B7DBC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A6B388B-8C77-49A3-AAB3-205A584B783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A36466A-EDB2-4309-9AF0-261A1ED444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B0BC07E-468B-4919-82DC-70DB0C96DCF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3E2EFBF3-0C63-4EA6-90A2-987608D3293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8C79F98A-E93D-444A-8254-A4EC5B54773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C6B0A8D-8885-4723-8463-EFCAE5CFD56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01C924A-BA2B-485B-94F7-EF088AA961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C538A19-63A8-4D85-8EC6-48AB4473793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846CE28-C215-40FD-BC70-FF2224000A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972748A-A710-4F00-A9FE-5CCD0B0942C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2C8A649-FA95-4A27-BB0C-2325BA26A70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60D122BC-0C6B-4244-BDC1-B595E164F73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DF1ED2E7-AB11-403D-8859-8F3315C7D5C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5CD7B9D-2F2F-4C40-848F-97762BE7550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6830071-DD84-4EFE-B150-207BDD9E9B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F779096-2D82-4C3F-AD7A-BC18C0E3D6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049C27-586C-4E9B-A7E7-51579E9BF67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1A956F0-7E0B-4D24-BD60-F0E83A705DA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FD19E7B-FBF4-4058-B4D6-2FD83EF4155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ACB70C61-0983-4251-9908-F41FF20442C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209CFED-F290-423A-B316-C6F115BFF6F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866BCD9-F68D-4FBB-B0F1-755F010C5A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B2AFA35-3C12-43D4-B166-A4282199507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3B8E9A9-A748-4BCD-932A-507D428450B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273DFEB-7C91-4BB3-ACA5-5C14A56F76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BE84568-6F6F-46CE-81EF-B242AA0790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9261C89-6A9B-440F-992D-9D1D3C518A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F9523D3-319E-447B-87FF-2EF06FE9F45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E583AE2-41B9-4A38-B09B-067697F3F90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ACCEB9D-5C90-4AD7-9607-CE87571489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7E4F667-0925-41CD-AE2C-6C39A1167B8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2230074-C873-4AFF-B612-F5AF2DED62A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C1BABE5-474F-45BF-AC1B-28DC32CE96E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6BBCDA4-92BD-4767-903D-77F98126C9F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AD9E85E-EFD9-4FC8-9DC9-FADCCF8CA81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4EA283E-E7EA-4552-B836-1D737448FB0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9433C9B-C612-4B30-8D73-856B271A163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CC71D11-3AFE-42DB-9DC9-B0CB0CA5F0F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E673FC-DF32-4EB1-9978-BC972D1C275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8E9B2CE-BFD7-4FE7-858D-982A4AD5849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0066470-E7FE-4912-8143-278CB8749F8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EB4A1B2-D649-484A-A6B6-A0410A8FD27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B66AD14-DEAA-4388-B517-D4F59DA6753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FA75BFB-8324-48F4-8E4C-7475C15110E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B7B735F-DFE5-404C-B7CA-0400AE908B1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539D413-FA9A-4F04-8543-D8652C6D2E5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E913535-84B3-40C2-8FBF-5A61549C0B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0DCE103-6F2F-40B0-913A-4A17EF528C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41B5FA2-AD0E-4D1E-8C4B-52CC991712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C2AA360-486E-40F4-839F-6399D7EA6E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86664E4-F44B-428C-89D7-26F5309372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CDFCAD0-D2FD-46B2-8C37-4D4D7E0B7F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F619D9F-7B0D-42B9-A0EF-29693A1933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6F646CD-31B3-4D05-8A6F-C6E14D6FC8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6A8F1DD-591B-4877-8C42-006F146F72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7CF5D6F-9B90-4FD0-991C-8AEDE8D981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9CD748-D823-41E5-8E08-3D89E1E2C95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6BFAC8-BF07-4180-8B0B-79C45CD15F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1F07ADD-F460-4F21-8CE9-126C1028CB8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23F7EF5-AE9B-44D4-B323-CC6D227EA2F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B8DAE056-3A01-41A3-ADA3-DE7A66C96C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3E3FE86-F312-419E-B6BC-2E92A4EA25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2765E23-4A22-49E3-AF7B-2E5E0AD737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E17CBB9-DCE6-4729-B871-95705726BF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A43E01-719D-4290-969B-EF721F1CBF0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39AF87C-2EB9-4A8A-ACAE-CCF14A5AE7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90127D0-D699-42C4-B0BD-1BCE0AB2D9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16E39AF-D7F5-41B5-970D-C7573CAF98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9B764FC-8446-4679-9EB4-AF908067D61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84C841-6326-40DF-AF1B-51D93EC4698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6CEDF86-DDB0-46BA-B8B2-1B0D6EF4A9B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25B8EDE-89EA-4A6D-97D8-9A56BEBD8E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DC540A9-4A5E-47D7-B56A-1046A5048F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7265069-4FB7-457A-B527-72C96F52E94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87BBF20-3834-4FFE-A8E3-7B51A654DA8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E9EA673-3819-42BB-901B-B1B3F7000B6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2A3F00-65FB-4219-8562-75EE52979E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72E9895-763B-4480-8A61-2F3E137D2BF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1D4431-C7D4-42A6-8B55-92B6E28F372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8A4ACBB-EF4A-49EC-9F03-59809019912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B41982E-E097-467C-BE19-DCEF13E457D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D2D632E-E26F-46AB-90E2-8C1314F4933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BE51438-E188-482A-B623-CDD0BA1CBD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D8A6310B-1FB9-4B96-A215-261B18F700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0FC1115-C820-48F2-BFBC-855206253DA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9A8EC47-2306-4880-A55F-D18C36880EC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8D71157-2855-41D0-A95A-AA5813253A7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314A8D4-22BA-420A-A869-E47206A39D4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92C6F40-3CC1-4424-8D12-BD2429F16F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4B8C92B-51BB-4F06-9A03-053033AC474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F9F56A5-408A-4BAA-9E1C-0EA86CC6659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B62FAFA-DDC5-433A-A937-5E671124194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94E5BB6-EF5F-4504-A8DF-1F00C6EDB7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D9B0CA1-D7EB-43A9-97F4-097B94A033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13ADD94-2803-4409-A245-221DA7F2487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37147B9-33CA-498E-BB56-CCC77ACC91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1CF6E81-1B92-4F4E-99A2-45725B5CF64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921AA22-3955-42D1-87AF-C409BE84C64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4ED5A14-F570-44B8-805A-D0C2089F583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3ED0FE7-3A8C-4B08-A874-6848AB92AB9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B2728671-BAD7-4E53-A7FE-54905567724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7F8445A-F5E8-447C-BAB2-809023EBA9D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032E94D-735E-45C6-84EE-41EDCBCD6F4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B92F36F-999A-4B8B-95CF-58894131507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CCD0CA7-6087-4351-ADC7-A45918946F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679023B-A749-4EB6-A5A2-C40BED7FA3E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67F2A5F-C9B0-4986-8611-880B5CCF1A0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3A71036-C824-4471-BC32-9251AA8D275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2D4EC3B-4104-4841-9812-1EEF888F7CA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4BA26EF-7EB3-46ED-979A-330CF880F4D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16B48765-73B2-4E8A-969D-45C95001867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AC59B83-C247-4DED-88E9-46ED45F2EA6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E058A16-BA56-4049-A3E2-017459BA085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073A3DA6-2DE0-4A2B-A123-60B0B534601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1F871F4-E583-4D32-B241-E0198C32111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6E441E3-BF38-4798-8F2A-D132A6F757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D001640-07ED-4B1B-9863-81B78AE0FDD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DE17151-5227-4F8A-BF1C-B093E9DE12F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87908C6-4952-4D2F-9330-AADD39DD7E7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F72D206-D608-45B5-8ED6-61D6BC8E9AA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E5CCFCA9-43CB-49CF-A79B-144AA1B38DB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F134B34D-10AF-40F2-89D6-0958CE0E7E5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2503754-B8B0-4111-AA8C-075497E7840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723EEF2-7586-4B8B-A13A-66D3B3E0DAA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B8A97C0-BD34-411F-94FB-37872719824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E240B88-5A52-4EEF-A467-157135C609F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4D26744F-1ED4-4B10-9F38-9B075E62CA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8F9180-1796-481E-A76B-D86F4C5C09F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D00BD349-2DD8-46B9-9BB0-72F126DF177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4B5992E-2AC0-4153-9C96-3C3F0435E04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49DA2DC-E0A7-4AD9-A876-556D87C30B2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0EF5849-B7D5-4788-B604-4B71049184A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59154D1-55FE-4AB5-B1C7-96FEB048F80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691E8A9-3D68-44F0-A39A-69FEC552D67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1FFAA3DC-52C6-40E5-A79C-E419F22247A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F492B35-BDD3-4CC5-9979-E6EFF766AC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3D6468B-DE98-4B59-9B10-68F6CCAA6AA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30A38EB-E4CF-4D7A-90A3-BA2A32C1C6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4856-C51E-4E38-92FE-36B4D834A1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8" name="Picture 10" descr="alt=&quot;&quot;"/>
          <p:cNvPicPr/>
          <p:nvPr/>
        </p:nvPicPr>
        <p:blipFill>
          <a:blip r:embed="rId2"/>
          <a:stretch/>
        </p:blipFill>
        <p:spPr>
          <a:xfrm>
            <a:off x="6696000" y="5665680"/>
            <a:ext cx="2448000" cy="119232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1" name="PlaceHolder 3"/>
          <p:cNvSpPr>
            <a:spLocks noGrp="1"/>
          </p:cNvSpPr>
          <p:nvPr>
            <p:ph type="sldNum" idx="10"/>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2E41-EC77-4F20-A1AC-AACCE11AA1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7"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AA20-E644-48C9-8C4D-85CF87EFE39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18"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13"/>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AC62-C77C-487F-BF21-224D9F2986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3" name="Picture 10" descr="CUSP-LOGO-no-tagline.gif"/>
          <p:cNvPicPr/>
          <p:nvPr/>
        </p:nvPicPr>
        <p:blipFill>
          <a:blip r:embed="rId2"/>
          <a:stretch/>
        </p:blipFill>
        <p:spPr>
          <a:xfrm>
            <a:off x="6696000" y="5665680"/>
            <a:ext cx="2448000" cy="1192320"/>
          </a:xfrm>
          <a:prstGeom prst="rect">
            <a:avLst/>
          </a:prstGeom>
          <a:ln w="0">
            <a:noFill/>
          </a:ln>
        </p:spPr>
      </p:pic>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6"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DC7C-F0DF-40D5-91DF-B8150B1239B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67"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5"/>
          <p:cNvSpPr>
            <a:spLocks noGrp="1"/>
          </p:cNvSpPr>
          <p:nvPr>
            <p:ph type="sldNum" idx="16"/>
          </p:nvPr>
        </p:nvSpPr>
        <p:spPr>
          <a:xfrm>
            <a:off x="3805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11C2-94A8-4260-8D39-5D687C3A69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10" descr="alt=&quot;&quot;"/>
          <p:cNvPicPr/>
          <p:nvPr/>
        </p:nvPicPr>
        <p:blipFill>
          <a:blip r:embed="rId2"/>
          <a:stretch/>
        </p:blipFill>
        <p:spPr>
          <a:xfrm>
            <a:off x="6696000" y="5665680"/>
            <a:ext cx="2448000" cy="11923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7838-4F1E-4DBD-9687-6122FB136E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Picture 10" descr="alt=&quot;&quot;"/>
          <p:cNvPicPr/>
          <p:nvPr/>
        </p:nvPicPr>
        <p:blipFill>
          <a:blip r:embed="rId2"/>
          <a:stretch/>
        </p:blipFill>
        <p:spPr>
          <a:xfrm>
            <a:off x="6696000" y="5665680"/>
            <a:ext cx="2448000" cy="119232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 name="PlaceHolder 3"/>
          <p:cNvSpPr>
            <a:spLocks noGrp="1"/>
          </p:cNvSpPr>
          <p:nvPr>
            <p:ph type="sldNum" idx="3"/>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88AE-0EC8-436B-B3AC-9F49FC6011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Picture 10" descr="alt=&quot;&quot;"/>
          <p:cNvPicPr/>
          <p:nvPr/>
        </p:nvPicPr>
        <p:blipFill>
          <a:blip r:embed="rId2"/>
          <a:stretch/>
        </p:blipFill>
        <p:spPr>
          <a:xfrm>
            <a:off x="6696000" y="5665680"/>
            <a:ext cx="2448000" cy="119232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 name="PlaceHolder 3"/>
          <p:cNvSpPr>
            <a:spLocks noGrp="1"/>
          </p:cNvSpPr>
          <p:nvPr>
            <p:ph type="sldNum" idx="4"/>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1BB4-D915-4895-975A-276784A527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Picture 10" descr="alt=&quot;&quot;"/>
          <p:cNvPicPr/>
          <p:nvPr/>
        </p:nvPicPr>
        <p:blipFill>
          <a:blip r:embed="rId2"/>
          <a:stretch/>
        </p:blipFill>
        <p:spPr>
          <a:xfrm>
            <a:off x="6696000" y="5665680"/>
            <a:ext cx="2448000" cy="119232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8" name="PlaceHolder 3"/>
          <p:cNvSpPr>
            <a:spLocks noGrp="1"/>
          </p:cNvSpPr>
          <p:nvPr>
            <p:ph type="sldNum" idx="5"/>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273A-1FED-41C4-BA76-9D14D62686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2" name="Picture 10" descr="alt=&quot;&quot;"/>
          <p:cNvPicPr/>
          <p:nvPr/>
        </p:nvPicPr>
        <p:blipFill>
          <a:blip r:embed="rId2"/>
          <a:stretch/>
        </p:blipFill>
        <p:spPr>
          <a:xfrm>
            <a:off x="6696000" y="5665680"/>
            <a:ext cx="2448000" cy="1192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 name="PlaceHolder 3"/>
          <p:cNvSpPr>
            <a:spLocks noGrp="1"/>
          </p:cNvSpPr>
          <p:nvPr>
            <p:ph type="sldNum" idx="6"/>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ACB8-FDF3-4541-94FE-51DD51D8D1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9" name="Picture 10" descr="alt=&quot;&quot;"/>
          <p:cNvPicPr/>
          <p:nvPr/>
        </p:nvPicPr>
        <p:blipFill>
          <a:blip r:embed="rId2"/>
          <a:stretch/>
        </p:blipFill>
        <p:spPr>
          <a:xfrm>
            <a:off x="6696000" y="5665680"/>
            <a:ext cx="2448000" cy="119232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sldNum" idx="7"/>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E9E6-7EF7-46E8-90BB-C7CCB43194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6" name="Picture 10" descr="alt=&quot;&quot;"/>
          <p:cNvPicPr/>
          <p:nvPr/>
        </p:nvPicPr>
        <p:blipFill>
          <a:blip r:embed="rId2"/>
          <a:stretch/>
        </p:blipFill>
        <p:spPr>
          <a:xfrm>
            <a:off x="6696000" y="5665680"/>
            <a:ext cx="2448000" cy="1192320"/>
          </a:xfrm>
          <a:prstGeom prst="rect">
            <a:avLst/>
          </a:prstGeom>
          <a:ln w="0">
            <a:noFill/>
          </a:ln>
        </p:spPr>
      </p:pic>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sldNum" idx="8"/>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2512-8F98-4146-8643-1A82200FC4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3" name="Picture 10" descr="alt=&quot;&quot;"/>
          <p:cNvPicPr/>
          <p:nvPr/>
        </p:nvPicPr>
        <p:blipFill>
          <a:blip r:embed="rId2"/>
          <a:stretch/>
        </p:blipFill>
        <p:spPr>
          <a:xfrm>
            <a:off x="6696000" y="5665680"/>
            <a:ext cx="2448000" cy="11923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6" name="PlaceHolder 3"/>
          <p:cNvSpPr>
            <a:spLocks noGrp="1"/>
          </p:cNvSpPr>
          <p:nvPr>
            <p:ph type="sldNum" idx="9"/>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98D4-0AB0-48EB-9CE3-5FD4024828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09480" y="237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n the CUSP: Stop BSI</a:t>
            </a:r>
            <a:br>
              <a:rPr sz="4400"/>
            </a:br>
            <a:r>
              <a:rPr b="0" lang="en-US" sz="4400" spc="-1" strike="noStrike">
                <a:solidFill>
                  <a:srgbClr val="ffffff"/>
                </a:solidFill>
                <a:latin typeface="Calibri"/>
              </a:rPr>
              <a:t>Appropriate Assertion</a:t>
            </a:r>
            <a:endParaRPr b="0" lang="en-US" sz="4400" spc="-1" strike="noStrike">
              <a:solidFill>
                <a:srgbClr val="000000"/>
              </a:solidFill>
              <a:latin typeface="Calibri"/>
            </a:endParaRPr>
          </a:p>
        </p:txBody>
      </p:sp>
      <p:sp>
        <p:nvSpPr>
          <p:cNvPr id="613" name="PlaceHolder 2"/>
          <p:cNvSpPr>
            <a:spLocks noGrp="1"/>
          </p:cNvSpPr>
          <p:nvPr>
            <p:ph type="subTitle"/>
          </p:nvPr>
        </p:nvSpPr>
        <p:spPr>
          <a:xfrm>
            <a:off x="380880" y="2590920"/>
            <a:ext cx="8305920" cy="2590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David Thompson, DNSc, MS, R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Jill Marsteller, PhD, MPP</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Department of Anesthesiology and Critical Care Medicin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The Johns Hopkins Quality and Safety Research Group</a:t>
            </a:r>
            <a:endParaRPr b="0" lang="en-US" sz="1800" spc="-1" strike="noStrike">
              <a:solidFill>
                <a:srgbClr val="000000"/>
              </a:solidFill>
              <a:latin typeface="Calibri"/>
            </a:endParaRPr>
          </a:p>
        </p:txBody>
      </p:sp>
      <p:pic>
        <p:nvPicPr>
          <p:cNvPr id="614" name="Picture 10" descr="CUSP-LOGO-no-tagline.gif"/>
          <p:cNvPicPr/>
          <p:nvPr/>
        </p:nvPicPr>
        <p:blipFill>
          <a:blip r:embed="rId1"/>
          <a:stretch/>
        </p:blipFill>
        <p:spPr>
          <a:xfrm>
            <a:off x="6797520" y="5715000"/>
            <a:ext cx="234648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 </a:t>
            </a:r>
            <a:r>
              <a:rPr b="0" lang="en-US" sz="3600" spc="-1" strike="noStrike">
                <a:solidFill>
                  <a:srgbClr val="ffffff"/>
                </a:solidFill>
                <a:latin typeface="Calibri"/>
              </a:rPr>
              <a:t>Helpful Hints in Applying</a:t>
            </a:r>
            <a:br>
              <a:rPr sz="3600"/>
            </a:br>
            <a:r>
              <a:rPr b="0" lang="en-US" sz="3600" spc="-1" strike="noStrike">
                <a:solidFill>
                  <a:srgbClr val="ffffff"/>
                </a:solidFill>
                <a:latin typeface="Calibri"/>
              </a:rPr>
              <a:t>The Assertion Model</a:t>
            </a:r>
            <a:endParaRPr b="0" lang="en-US" sz="3600" spc="-1" strike="noStrike">
              <a:solidFill>
                <a:srgbClr val="000000"/>
              </a:solidFill>
              <a:latin typeface="Calibri"/>
            </a:endParaRPr>
          </a:p>
        </p:txBody>
      </p:sp>
      <p:sp>
        <p:nvSpPr>
          <p:cNvPr id="656" name=""/>
          <p:cNvSpPr txBox="1"/>
          <p:nvPr/>
        </p:nvSpPr>
        <p:spPr>
          <a:xfrm>
            <a:off x="456840" y="1646280"/>
            <a:ext cx="8001000" cy="4525920"/>
          </a:xfrm>
          <a:prstGeom prst="rect">
            <a:avLst/>
          </a:prstGeom>
          <a:noFill/>
          <a:ln w="0">
            <a:noFill/>
          </a:ln>
        </p:spPr>
        <p:txBody>
          <a:bodyPr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the common goal: Quality care, the welfare of the patient, safety; it’s hard to disagree with safe, high-quality care</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the issue of who’s right and who’s wrong</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atient-centered care”– It is not who is right or who is wrong, it is what is best for the patient</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ersonalize the conversation</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ly avoid being perceived as judgmental</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hard on the problem, not the peop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
          <p:cNvSpPr txBox="1"/>
          <p:nvPr/>
        </p:nvSpPr>
        <p:spPr>
          <a:xfrm>
            <a:off x="838080" y="6400440"/>
            <a:ext cx="2509920" cy="2761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58" name="Slide Number Placeholder 3"/>
          <p:cNvSpPr/>
          <p:nvPr/>
        </p:nvSpPr>
        <p:spPr>
          <a:xfrm>
            <a:off x="304920" y="6356520"/>
            <a:ext cx="3808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34E2-F269-4D40-8080-B02E498C7C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proving Assertion</a:t>
            </a:r>
            <a:endParaRPr b="0" lang="en-US" sz="4400" spc="-1" strike="noStrike">
              <a:solidFill>
                <a:srgbClr val="000000"/>
              </a:solidFill>
              <a:latin typeface="Calibri"/>
            </a:endParaRPr>
          </a:p>
        </p:txBody>
      </p:sp>
      <p:sp>
        <p:nvSpPr>
          <p:cNvPr id="660" name=""/>
          <p:cNvSpPr txBox="1"/>
          <p:nvPr/>
        </p:nvSpPr>
        <p:spPr>
          <a:xfrm>
            <a:off x="304920" y="1933560"/>
            <a:ext cx="4495680" cy="43020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mes First -</a:t>
            </a:r>
            <a:r>
              <a:rPr b="0" lang="en-US" sz="2400" spc="-1" strike="noStrike">
                <a:solidFill>
                  <a:srgbClr val="000000"/>
                </a:solidFill>
                <a:latin typeface="Calibri"/>
              </a:rPr>
              <a:t> get their attention</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eye contact </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 you concern and feelings</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the issue (clear, concise)</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e action(s)</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ssert as necessary</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ee on course of action</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calate if no resolution</a:t>
            </a:r>
            <a:endParaRPr b="0" lang="en-US" sz="2400" spc="-1" strike="noStrike">
              <a:solidFill>
                <a:srgbClr val="000000"/>
              </a:solidFill>
              <a:latin typeface="Calibri"/>
            </a:endParaRPr>
          </a:p>
        </p:txBody>
      </p:sp>
      <p:grpSp>
        <p:nvGrpSpPr>
          <p:cNvPr id="661" name="Diagram 8"/>
          <p:cNvGrpSpPr/>
          <p:nvPr/>
        </p:nvGrpSpPr>
        <p:grpSpPr>
          <a:xfrm>
            <a:off x="5334120" y="2390760"/>
            <a:ext cx="3276000" cy="3018960"/>
            <a:chOff x="5334120" y="2390760"/>
            <a:chExt cx="3276000" cy="3018960"/>
          </a:xfrm>
        </p:grpSpPr>
        <p:sp>
          <p:nvSpPr>
            <p:cNvPr id="662" name="_s2052"/>
            <p:cNvSpPr/>
            <p:nvPr/>
          </p:nvSpPr>
          <p:spPr>
            <a:xfrm>
              <a:off x="6176160" y="2390760"/>
              <a:ext cx="2228760" cy="2191320"/>
            </a:xfrm>
            <a:custGeom>
              <a:avLst/>
              <a:gdLst>
                <a:gd name="textAreaLeft" fmla="*/ 326520 w 2228760"/>
                <a:gd name="textAreaRight" fmla="*/ 1902240 w 2228760"/>
                <a:gd name="textAreaTop" fmla="*/ 321120 h 2191320"/>
                <a:gd name="textAreaBottom" fmla="*/ 1870200 h 2191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3" name="_s2053"/>
            <p:cNvSpPr/>
            <p:nvPr/>
          </p:nvSpPr>
          <p:spPr>
            <a:xfrm rot="5400000">
              <a:off x="6400080" y="2684520"/>
              <a:ext cx="2190960" cy="2228760"/>
            </a:xfrm>
            <a:custGeom>
              <a:avLst/>
              <a:gdLst>
                <a:gd name="textAreaLeft" fmla="*/ 320760 w 2190960"/>
                <a:gd name="textAreaRight" fmla="*/ 1870200 w 2190960"/>
                <a:gd name="textAreaTop" fmla="*/ 326520 h 2228760"/>
                <a:gd name="textAreaBottom" fmla="*/ 1902240 h 22287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_s2054"/>
            <p:cNvSpPr/>
            <p:nvPr/>
          </p:nvSpPr>
          <p:spPr>
            <a:xfrm rot="10800000">
              <a:off x="5857560" y="3218760"/>
              <a:ext cx="2229120" cy="2190960"/>
            </a:xfrm>
            <a:custGeom>
              <a:avLst/>
              <a:gdLst>
                <a:gd name="textAreaLeft" fmla="*/ 326520 w 2229120"/>
                <a:gd name="textAreaRight" fmla="*/ 1902600 w 2229120"/>
                <a:gd name="textAreaTop" fmla="*/ 320760 h 2190960"/>
                <a:gd name="textAreaBottom" fmla="*/ 1870200 h 2190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_s2055"/>
            <p:cNvSpPr/>
            <p:nvPr/>
          </p:nvSpPr>
          <p:spPr>
            <a:xfrm rot="16200000">
              <a:off x="5352840" y="2684520"/>
              <a:ext cx="2190960" cy="2228760"/>
            </a:xfrm>
            <a:custGeom>
              <a:avLst/>
              <a:gdLst>
                <a:gd name="textAreaLeft" fmla="*/ 320760 w 2190960"/>
                <a:gd name="textAreaRight" fmla="*/ 1870200 w 2190960"/>
                <a:gd name="textAreaTop" fmla="*/ 326520 h 2228760"/>
                <a:gd name="textAreaBottom" fmla="*/ 1902240 h 22287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_s2056"/>
            <p:cNvSpPr/>
            <p:nvPr/>
          </p:nvSpPr>
          <p:spPr>
            <a:xfrm>
              <a:off x="7565400" y="2390760"/>
              <a:ext cx="83916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Get Attention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NAMES Firs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7" name="_s2057"/>
            <p:cNvSpPr/>
            <p:nvPr/>
          </p:nvSpPr>
          <p:spPr>
            <a:xfrm>
              <a:off x="7566840" y="4382640"/>
              <a:ext cx="83952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he issu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8" name="_s2058"/>
            <p:cNvSpPr/>
            <p:nvPr/>
          </p:nvSpPr>
          <p:spPr>
            <a:xfrm>
              <a:off x="5540760" y="4384080"/>
              <a:ext cx="83952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ose Action</a:t>
              </a:r>
              <a:endParaRPr b="0" lang="en-US" sz="900" spc="-1" strike="noStrike">
                <a:solidFill>
                  <a:srgbClr val="000000"/>
                </a:solidFill>
                <a:latin typeface="Arial"/>
              </a:endParaRPr>
            </a:p>
          </p:txBody>
        </p:sp>
        <p:sp>
          <p:nvSpPr>
            <p:cNvPr id="669" name="_s2059"/>
            <p:cNvSpPr/>
            <p:nvPr/>
          </p:nvSpPr>
          <p:spPr>
            <a:xfrm>
              <a:off x="5539320" y="2392200"/>
              <a:ext cx="83916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ree on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rse of Action</a:t>
              </a:r>
              <a:endParaRPr b="0" lang="en-US" sz="900" spc="-1" strike="noStrike">
                <a:solidFill>
                  <a:srgbClr val="000000"/>
                </a:solidFill>
                <a:latin typeface="Arial"/>
              </a:endParaRPr>
            </a:p>
          </p:txBody>
        </p:sp>
      </p:grpSp>
      <p:sp>
        <p:nvSpPr>
          <p:cNvPr id="670" name=""/>
          <p:cNvSpPr txBox="1"/>
          <p:nvPr/>
        </p:nvSpPr>
        <p:spPr>
          <a:xfrm>
            <a:off x="685800" y="6400440"/>
            <a:ext cx="2509920" cy="276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71" name="Slide Number Placeholder 3"/>
          <p:cNvSpPr/>
          <p:nvPr/>
        </p:nvSpPr>
        <p:spPr>
          <a:xfrm>
            <a:off x="28440" y="6324480"/>
            <a:ext cx="6098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5DE4-4146-4CB0-9F68-593F6C89BC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37.  “It is easy for personnel in this ICU to ask questions when there is something that they do not understand</a:t>
            </a:r>
            <a:endParaRPr b="0" lang="en-US" sz="2800" spc="-1" strike="noStrike">
              <a:solidFill>
                <a:srgbClr val="000000"/>
              </a:solidFill>
              <a:latin typeface="Calibri"/>
            </a:endParaRPr>
          </a:p>
        </p:txBody>
      </p:sp>
      <p:graphicFrame>
        <p:nvGraphicFramePr>
          <p:cNvPr id="673" name="Object 4"/>
          <p:cNvGraphicFramePr/>
          <p:nvPr/>
        </p:nvGraphicFramePr>
        <p:xfrm>
          <a:off x="990720" y="1752480"/>
          <a:ext cx="5943600" cy="4448160"/>
        </p:xfrm>
        <a:graphic>
          <a:graphicData uri="http://schemas.openxmlformats.org/presentationml/2006/ole">
            <p:oleObj r:id="rId1" spid="">
              <p:embed/>
              <p:pic>
                <p:nvPicPr>
                  <p:cNvPr id="674" name="Object 4" descr="An Image of a graph "/>
                  <p:cNvPicPr/>
                  <p:nvPr/>
                </p:nvPicPr>
                <p:blipFill>
                  <a:blip r:embed="rId2"/>
                  <a:stretch/>
                </p:blipFill>
                <p:spPr>
                  <a:xfrm>
                    <a:off x="990720" y="1752480"/>
                    <a:ext cx="5943600" cy="4448160"/>
                  </a:xfrm>
                  <a:prstGeom prst="rect">
                    <a:avLst/>
                  </a:prstGeom>
                  <a:ln w="0">
                    <a:noFill/>
                  </a:ln>
                </p:spPr>
              </p:pic>
            </p:oleObj>
          </a:graphicData>
        </a:graphic>
      </p:graphicFrame>
      <p:sp>
        <p:nvSpPr>
          <p:cNvPr id="675" name="Slide Number Placeholder 5"/>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F6E5-671F-4A9A-AFAB-DA1809D529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26.  “In This ICU, It Is Difficult To Speak Up If I Perceive A Problem With Patient Care.”</a:t>
            </a:r>
            <a:endParaRPr b="0" lang="en-US" sz="3100" spc="-1" strike="noStrike">
              <a:solidFill>
                <a:srgbClr val="000000"/>
              </a:solidFill>
              <a:latin typeface="Calibri"/>
            </a:endParaRPr>
          </a:p>
        </p:txBody>
      </p:sp>
      <p:graphicFrame>
        <p:nvGraphicFramePr>
          <p:cNvPr id="677" name="Object 4"/>
          <p:cNvGraphicFramePr/>
          <p:nvPr/>
        </p:nvGraphicFramePr>
        <p:xfrm>
          <a:off x="1687680" y="1706400"/>
          <a:ext cx="5768640" cy="4313520"/>
        </p:xfrm>
        <a:graphic>
          <a:graphicData uri="http://schemas.openxmlformats.org/presentationml/2006/ole">
            <p:oleObj r:id="rId1" spid="">
              <p:embed/>
              <p:pic>
                <p:nvPicPr>
                  <p:cNvPr id="678" name="Object 4" descr="An Image of a Graph with readings from 0 to 100"/>
                  <p:cNvPicPr/>
                  <p:nvPr/>
                </p:nvPicPr>
                <p:blipFill>
                  <a:blip r:embed="rId2"/>
                  <a:stretch/>
                </p:blipFill>
                <p:spPr>
                  <a:xfrm>
                    <a:off x="1687680" y="1706400"/>
                    <a:ext cx="5768640" cy="4313520"/>
                  </a:xfrm>
                  <a:prstGeom prst="rect">
                    <a:avLst/>
                  </a:prstGeom>
                  <a:ln w="0">
                    <a:noFill/>
                  </a:ln>
                </p:spPr>
              </p:pic>
            </p:oleObj>
          </a:graphicData>
        </a:graphic>
      </p:graphicFrame>
      <p:sp>
        <p:nvSpPr>
          <p:cNvPr id="679"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A4B1-FDDB-4EAA-9A90-D45BF7195D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32.  “Disagreements In This ICU Are Resolved Appropriately (i.e. not </a:t>
            </a:r>
            <a:r>
              <a:rPr b="0" i="1" lang="en-US" sz="2800" spc="-1" strike="noStrike">
                <a:solidFill>
                  <a:srgbClr val="ffffff"/>
                </a:solidFill>
                <a:latin typeface="Calibri"/>
              </a:rPr>
              <a:t>who</a:t>
            </a:r>
            <a:r>
              <a:rPr b="0" lang="en-US" sz="2800" spc="-1" strike="noStrike">
                <a:solidFill>
                  <a:srgbClr val="ffffff"/>
                </a:solidFill>
                <a:latin typeface="Calibri"/>
              </a:rPr>
              <a:t> is right, but </a:t>
            </a:r>
            <a:r>
              <a:rPr b="0" i="1" lang="en-US" sz="2800" spc="-1" strike="noStrike">
                <a:solidFill>
                  <a:srgbClr val="ffffff"/>
                </a:solidFill>
                <a:latin typeface="Calibri"/>
              </a:rPr>
              <a:t>what</a:t>
            </a:r>
            <a:r>
              <a:rPr b="0" lang="en-US" sz="2800" spc="-1" strike="noStrike">
                <a:solidFill>
                  <a:srgbClr val="ffffff"/>
                </a:solidFill>
                <a:latin typeface="Calibri"/>
              </a:rPr>
              <a:t> is best for the patient).”</a:t>
            </a:r>
            <a:endParaRPr b="0" lang="en-US" sz="2800" spc="-1" strike="noStrike">
              <a:solidFill>
                <a:srgbClr val="000000"/>
              </a:solidFill>
              <a:latin typeface="Calibri"/>
            </a:endParaRPr>
          </a:p>
        </p:txBody>
      </p:sp>
      <p:graphicFrame>
        <p:nvGraphicFramePr>
          <p:cNvPr id="681" name="Object 4"/>
          <p:cNvGraphicFramePr/>
          <p:nvPr/>
        </p:nvGraphicFramePr>
        <p:xfrm>
          <a:off x="1687680" y="1706400"/>
          <a:ext cx="5768640" cy="4313520"/>
        </p:xfrm>
        <a:graphic>
          <a:graphicData uri="http://schemas.openxmlformats.org/presentationml/2006/ole">
            <p:oleObj r:id="rId1" spid="">
              <p:embed/>
              <p:pic>
                <p:nvPicPr>
                  <p:cNvPr id="682" name="Object 4" descr="An Image of a Graph with readings from 0 to 100"/>
                  <p:cNvPicPr/>
                  <p:nvPr/>
                </p:nvPicPr>
                <p:blipFill>
                  <a:blip r:embed="rId2"/>
                  <a:stretch/>
                </p:blipFill>
                <p:spPr>
                  <a:xfrm>
                    <a:off x="1687680" y="1706400"/>
                    <a:ext cx="5768640" cy="4313520"/>
                  </a:xfrm>
                  <a:prstGeom prst="rect">
                    <a:avLst/>
                  </a:prstGeom>
                  <a:ln w="0">
                    <a:noFill/>
                  </a:ln>
                </p:spPr>
              </p:pic>
            </p:oleObj>
          </a:graphicData>
        </a:graphic>
      </p:graphicFrame>
      <p:sp>
        <p:nvSpPr>
          <p:cNvPr id="683"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50BD-AA4E-4B98-9FCE-C41F77E8F7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scussion</a:t>
            </a:r>
            <a:endParaRPr b="0" lang="en-US" sz="4400" spc="-1" strike="noStrike">
              <a:solidFill>
                <a:srgbClr val="000000"/>
              </a:solidFill>
              <a:latin typeface="Calibri"/>
            </a:endParaRPr>
          </a:p>
        </p:txBody>
      </p:sp>
      <p:sp>
        <p:nvSpPr>
          <p:cNvPr id="685" name=""/>
          <p:cNvSpPr txBox="1"/>
          <p:nvPr/>
        </p:nvSpPr>
        <p:spPr>
          <a:xfrm>
            <a:off x="457200" y="1981080"/>
            <a:ext cx="822960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it difficult to always be assertive?</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you do to assure that your concerns are heard?</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we do at the organizational level that will help you succeed at providing safe patient-centered c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1665-9E92-4195-95DB-C0A94F7309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next?</a:t>
            </a:r>
            <a:endParaRPr b="0" lang="en-US" sz="4400" spc="-1" strike="noStrike">
              <a:solidFill>
                <a:srgbClr val="000000"/>
              </a:solidFill>
              <a:latin typeface="Calibri"/>
            </a:endParaRPr>
          </a:p>
        </p:txBody>
      </p:sp>
      <p:sp>
        <p:nvSpPr>
          <p:cNvPr id="688" name=""/>
          <p:cNvSpPr txBox="1"/>
          <p:nvPr/>
        </p:nvSpPr>
        <p:spPr>
          <a:xfrm>
            <a:off x="380880" y="1752480"/>
            <a:ext cx="822960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build on our assertive training to effectively master conflict resolution strategies</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skill sets we should work on before we begin to address personal and work-related confli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B2DF-821D-4F14-86F8-9B094C6D94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munication Styles</a:t>
            </a:r>
            <a:endParaRPr b="0" lang="en-US" sz="4400" spc="-1" strike="noStrike">
              <a:solidFill>
                <a:srgbClr val="000000"/>
              </a:solidFill>
              <a:latin typeface="Calibri"/>
            </a:endParaRPr>
          </a:p>
        </p:txBody>
      </p:sp>
      <p:sp>
        <p:nvSpPr>
          <p:cNvPr id="616" name=""/>
          <p:cNvSpPr txBox="1"/>
          <p:nvPr/>
        </p:nvSpPr>
        <p:spPr>
          <a:xfrm>
            <a:off x="609480" y="2742840"/>
            <a:ext cx="1524240" cy="46188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ertive</a:t>
            </a:r>
            <a:endParaRPr b="0" lang="en-US" sz="2400" spc="-1" strike="noStrike">
              <a:solidFill>
                <a:srgbClr val="000000"/>
              </a:solidFill>
              <a:latin typeface="Calibri"/>
            </a:endParaRPr>
          </a:p>
        </p:txBody>
      </p:sp>
      <p:pic>
        <p:nvPicPr>
          <p:cNvPr id="617" name="Picture 5" descr="A picture of the medical symbol"/>
          <p:cNvPicPr/>
          <p:nvPr/>
        </p:nvPicPr>
        <p:blipFill>
          <a:blip r:embed="rId1"/>
          <a:stretch/>
        </p:blipFill>
        <p:spPr>
          <a:xfrm>
            <a:off x="1905120" y="1871640"/>
            <a:ext cx="4724280" cy="3957840"/>
          </a:xfrm>
          <a:prstGeom prst="rect">
            <a:avLst/>
          </a:prstGeom>
          <a:ln w="0">
            <a:noFill/>
          </a:ln>
        </p:spPr>
      </p:pic>
      <p:sp>
        <p:nvSpPr>
          <p:cNvPr id="618" name=""/>
          <p:cNvSpPr txBox="1"/>
          <p:nvPr/>
        </p:nvSpPr>
        <p:spPr>
          <a:xfrm>
            <a:off x="6629400" y="3228840"/>
            <a:ext cx="1905120" cy="46224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Aggressive</a:t>
            </a:r>
            <a:endParaRPr b="0" lang="en-US" sz="2400" spc="-1" strike="noStrike">
              <a:solidFill>
                <a:srgbClr val="000000"/>
              </a:solidFill>
              <a:latin typeface="Calibri"/>
            </a:endParaRPr>
          </a:p>
        </p:txBody>
      </p:sp>
      <p:sp>
        <p:nvSpPr>
          <p:cNvPr id="619" name=""/>
          <p:cNvSpPr txBox="1"/>
          <p:nvPr/>
        </p:nvSpPr>
        <p:spPr>
          <a:xfrm>
            <a:off x="1447920" y="5938560"/>
            <a:ext cx="4495680" cy="46188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assive or Passive Aggressive ?</a:t>
            </a:r>
            <a:endParaRPr b="0" lang="en-US" sz="2400" spc="-1" strike="noStrike">
              <a:solidFill>
                <a:srgbClr val="000000"/>
              </a:solidFill>
              <a:latin typeface="Calibri"/>
            </a:endParaRPr>
          </a:p>
        </p:txBody>
      </p:sp>
      <p:sp>
        <p:nvSpPr>
          <p:cNvPr id="620" name=""/>
          <p:cNvSpPr txBox="1"/>
          <p:nvPr/>
        </p:nvSpPr>
        <p:spPr>
          <a:xfrm>
            <a:off x="228600" y="6535440"/>
            <a:ext cx="3276720" cy="2458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2004 JHU Quality and Safety Research Group</a:t>
            </a:r>
            <a:endParaRPr b="0" lang="en-US" sz="1000" spc="-1" strike="noStrike">
              <a:solidFill>
                <a:srgbClr val="000000"/>
              </a:solidFill>
              <a:latin typeface="Calibri"/>
            </a:endParaRPr>
          </a:p>
        </p:txBody>
      </p:sp>
      <p:sp>
        <p:nvSpPr>
          <p:cNvPr id="621" name="Slide Number Placeholder 2"/>
          <p:cNvSpPr/>
          <p:nvPr/>
        </p:nvSpPr>
        <p:spPr>
          <a:xfrm>
            <a:off x="38160" y="6454800"/>
            <a:ext cx="228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30D4-A27B-4E33-9CEC-BE563685C6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ggressive - the goal is to dominate and win!</a:t>
            </a:r>
            <a:endParaRPr b="0" lang="en-US" sz="4000" spc="-1" strike="noStrike">
              <a:solidFill>
                <a:srgbClr val="000000"/>
              </a:solidFill>
              <a:latin typeface="Calibri"/>
            </a:endParaRPr>
          </a:p>
        </p:txBody>
      </p:sp>
      <p:sp>
        <p:nvSpPr>
          <p:cNvPr id="623" name=""/>
          <p:cNvSpPr txBox="1"/>
          <p:nvPr/>
        </p:nvSpPr>
        <p:spPr>
          <a:xfrm>
            <a:off x="457200" y="1905120"/>
            <a:ext cx="8229600" cy="4525920"/>
          </a:xfrm>
          <a:prstGeom prst="rect">
            <a:avLst/>
          </a:prstGeom>
          <a:noFill/>
          <a:ln w="0">
            <a:noFill/>
          </a:ln>
        </p:spPr>
        <p:txBody>
          <a:bodyPr anchor="t">
            <a:normAutofit/>
          </a:bodyPr>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s what I think. What you think does not matter. You are uninformed”</a:t>
            </a:r>
            <a:endParaRPr b="0" lang="en-US" sz="3200" spc="-1" strike="noStrike">
              <a:solidFill>
                <a:srgbClr val="000000"/>
              </a:solidFill>
              <a:latin typeface="Calibri"/>
            </a:endParaRPr>
          </a:p>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expression of feelings, thoughts in a way that is not wholly truthful</a:t>
            </a:r>
            <a:endParaRPr b="0" lang="en-US" sz="3200" spc="-1" strike="noStrike">
              <a:solidFill>
                <a:srgbClr val="000000"/>
              </a:solidFill>
              <a:latin typeface="Calibri"/>
            </a:endParaRPr>
          </a:p>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ly done in an inappropriate and unprofessional manner</a:t>
            </a:r>
            <a:endParaRPr b="0" lang="en-US" sz="3200" spc="-1" strike="noStrike">
              <a:solidFill>
                <a:srgbClr val="000000"/>
              </a:solidFill>
              <a:latin typeface="Calibri"/>
            </a:endParaRPr>
          </a:p>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language: Clenched fists, crossed arms, glaring eyes, intrusive on personal space</a:t>
            </a:r>
            <a:endParaRPr b="0" lang="en-US" sz="3200" spc="-1" strike="noStrike">
              <a:solidFill>
                <a:srgbClr val="000000"/>
              </a:solidFill>
              <a:latin typeface="Calibri"/>
            </a:endParaRPr>
          </a:p>
        </p:txBody>
      </p:sp>
      <p:sp>
        <p:nvSpPr>
          <p:cNvPr id="624" name="Slide Number Placeholder 3"/>
          <p:cNvSpPr/>
          <p:nvPr/>
        </p:nvSpPr>
        <p:spPr>
          <a:xfrm>
            <a:off x="3808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F5A1-5A9E-4A8D-B2C4-CCE2F553E1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assivity - the goal is to appease and avoid conflict at all costs!</a:t>
            </a:r>
            <a:endParaRPr b="0" lang="en-US" sz="4000" spc="-1" strike="noStrike">
              <a:solidFill>
                <a:srgbClr val="000000"/>
              </a:solidFill>
              <a:latin typeface="Calibri"/>
            </a:endParaRPr>
          </a:p>
        </p:txBody>
      </p:sp>
      <p:sp>
        <p:nvSpPr>
          <p:cNvPr id="626" name=""/>
          <p:cNvSpPr txBox="1"/>
          <p:nvPr/>
        </p:nvSpPr>
        <p:spPr>
          <a:xfrm>
            <a:off x="609480" y="1981080"/>
            <a:ext cx="8229600" cy="365760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 to express your thoughts or opinions</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rcastic </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 in with resentment </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ain silent</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language: “The Victim Stance”</a:t>
            </a:r>
            <a:endParaRPr b="0" lang="en-US" sz="3200" spc="-1" strike="noStrike">
              <a:solidFill>
                <a:srgbClr val="000000"/>
              </a:solidFill>
              <a:latin typeface="Calibri"/>
            </a:endParaRPr>
          </a:p>
        </p:txBody>
      </p:sp>
      <p:sp>
        <p:nvSpPr>
          <p:cNvPr id="627"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4066-CADA-4137-8819-BBEC5DD87F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rtiveness</a:t>
            </a:r>
            <a:endParaRPr b="0" lang="en-US" sz="4400" spc="-1" strike="noStrike">
              <a:solidFill>
                <a:srgbClr val="000000"/>
              </a:solidFill>
              <a:latin typeface="Calibri"/>
            </a:endParaRPr>
          </a:p>
        </p:txBody>
      </p:sp>
      <p:sp>
        <p:nvSpPr>
          <p:cNvPr id="629" name=""/>
          <p:cNvSpPr txBox="1"/>
          <p:nvPr/>
        </p:nvSpPr>
        <p:spPr>
          <a:xfrm>
            <a:off x="380880" y="19051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rtiveness is an attitude and a way of positively relating to those around you; skills set for effective communication. </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yourself as having worth</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value others equally, respecting their right to an opinion</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e in communication respectfully, while also respecting your own opin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Slide Number Placeholder 3"/>
          <p:cNvSpPr/>
          <p:nvPr/>
        </p:nvSpPr>
        <p:spPr>
          <a:xfrm>
            <a:off x="380880" y="6400800"/>
            <a:ext cx="609840" cy="320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7A74-95E9-427A-A844-B5ABA05F7D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rtion IS</a:t>
            </a:r>
            <a:endParaRPr b="0" lang="en-US" sz="4400" spc="-1" strike="noStrike">
              <a:solidFill>
                <a:srgbClr val="000000"/>
              </a:solidFill>
              <a:latin typeface="Calibri"/>
            </a:endParaRPr>
          </a:p>
        </p:txBody>
      </p:sp>
      <p:sp>
        <p:nvSpPr>
          <p:cNvPr id="632" name=""/>
          <p:cNvSpPr txBox="1"/>
          <p:nvPr/>
        </p:nvSpPr>
        <p:spPr>
          <a:xfrm>
            <a:off x="152280" y="1905120"/>
            <a:ext cx="8839440" cy="3657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eing appropriately assertive means:</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ed in thought and communication </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ak clearly and audibly</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avowing perfection while looking for clarification and common understanding</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ed by the entire team (not just a “subordinate” skill-set, and it must be valued by the receiver to 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
          <p:cNvSpPr txBox="1"/>
          <p:nvPr/>
        </p:nvSpPr>
        <p:spPr>
          <a:xfrm>
            <a:off x="609120" y="6476760"/>
            <a:ext cx="2590920" cy="2458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2004 Quality and Safety Research Group</a:t>
            </a:r>
            <a:endParaRPr b="0" lang="en-US" sz="1000" spc="-1" strike="noStrike">
              <a:solidFill>
                <a:srgbClr val="000000"/>
              </a:solidFill>
              <a:latin typeface="Calibri"/>
            </a:endParaRPr>
          </a:p>
        </p:txBody>
      </p:sp>
      <p:sp>
        <p:nvSpPr>
          <p:cNvPr id="634" name="Slide Number Placeholder 3"/>
          <p:cNvSpPr/>
          <p:nvPr/>
        </p:nvSpPr>
        <p:spPr>
          <a:xfrm>
            <a:off x="304920" y="6356520"/>
            <a:ext cx="304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3168-D928-494A-A0E0-37BAAC1E8E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rtion Includes:</a:t>
            </a:r>
            <a:endParaRPr b="0" lang="en-US" sz="4400" spc="-1" strike="noStrike">
              <a:solidFill>
                <a:srgbClr val="000000"/>
              </a:solidFill>
              <a:latin typeface="Calibri"/>
            </a:endParaRPr>
          </a:p>
        </p:txBody>
      </p:sp>
      <p:sp>
        <p:nvSpPr>
          <p:cNvPr id="636" name=""/>
          <p:cNvSpPr txBox="1"/>
          <p:nvPr/>
        </p:nvSpPr>
        <p:spPr>
          <a:xfrm>
            <a:off x="456840" y="1752480"/>
            <a:ext cx="8001000" cy="4314960"/>
          </a:xfrm>
          <a:prstGeom prst="rect">
            <a:avLst/>
          </a:prstGeom>
          <a:noFill/>
          <a:ln w="0">
            <a:noFill/>
          </a:ln>
        </p:spPr>
        <p:txBody>
          <a:bodyPr anchor="t">
            <a:normAutofit/>
          </a:bodyPr>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ying “yes” when indicated, but “no” when you mean “no”</a:t>
            </a:r>
            <a:endParaRPr b="0" lang="en-US" sz="2800" spc="-1" strike="noStrike">
              <a:solidFill>
                <a:srgbClr val="000000"/>
              </a:solidFill>
              <a:latin typeface="Calibri"/>
            </a:endParaRPr>
          </a:p>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I” when not speaking for the team</a:t>
            </a:r>
            <a:endParaRPr b="0" lang="en-US" sz="2800" spc="-1" strike="noStrike">
              <a:solidFill>
                <a:srgbClr val="000000"/>
              </a:solidFill>
              <a:latin typeface="Calibri"/>
            </a:endParaRPr>
          </a:p>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ectively defending your position, even if it provokes conflict</a:t>
            </a:r>
            <a:endParaRPr b="0" lang="en-US" sz="2800" spc="-1" strike="noStrike">
              <a:solidFill>
                <a:srgbClr val="000000"/>
              </a:solidFill>
              <a:latin typeface="Calibri"/>
            </a:endParaRPr>
          </a:p>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language:  Secure, upright position in a relaxed manner, making eye contact, standing with open hands</a:t>
            </a:r>
            <a:endParaRPr b="0" lang="en-US" sz="2800" spc="-1" strike="noStrike">
              <a:solidFill>
                <a:srgbClr val="000000"/>
              </a:solidFill>
              <a:latin typeface="Calibri"/>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
          <p:cNvSpPr txBox="1"/>
          <p:nvPr/>
        </p:nvSpPr>
        <p:spPr>
          <a:xfrm>
            <a:off x="533520" y="6476760"/>
            <a:ext cx="3581280" cy="2458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2004 Quality and Safety Research Group</a:t>
            </a:r>
            <a:endParaRPr b="0" lang="en-US" sz="1000" spc="-1" strike="noStrike">
              <a:solidFill>
                <a:srgbClr val="000000"/>
              </a:solidFill>
              <a:latin typeface="Calibri"/>
            </a:endParaRPr>
          </a:p>
        </p:txBody>
      </p:sp>
      <p:sp>
        <p:nvSpPr>
          <p:cNvPr id="638" name="Slide Number Placeholder 2"/>
          <p:cNvSpPr/>
          <p:nvPr/>
        </p:nvSpPr>
        <p:spPr>
          <a:xfrm>
            <a:off x="152280" y="6400800"/>
            <a:ext cx="381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6881-78B3-4168-9B53-F2AB063B95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ssertion  Is Not</a:t>
            </a:r>
            <a:endParaRPr b="0" lang="en-US" sz="3600" spc="-1" strike="noStrike">
              <a:solidFill>
                <a:srgbClr val="000000"/>
              </a:solidFill>
              <a:latin typeface="Calibri"/>
            </a:endParaRPr>
          </a:p>
        </p:txBody>
      </p:sp>
      <p:sp>
        <p:nvSpPr>
          <p:cNvPr id="640" name=""/>
          <p:cNvSpPr txBox="1"/>
          <p:nvPr/>
        </p:nvSpPr>
        <p:spPr>
          <a:xfrm>
            <a:off x="380880" y="1752480"/>
            <a:ext cx="6553440" cy="4525920"/>
          </a:xfrm>
          <a:prstGeom prst="rect">
            <a:avLst/>
          </a:prstGeom>
          <a:noFill/>
          <a:ln w="0">
            <a:noFill/>
          </a:ln>
        </p:spPr>
        <p:txBody>
          <a:bodyPr anchor="t">
            <a:normAutofit/>
          </a:bodyPr>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gressive </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stile</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rontational</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biguous</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eaning</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escending</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ish</a:t>
            </a:r>
            <a:endParaRPr b="0" lang="en-US" sz="3200" spc="-1" strike="noStrike">
              <a:solidFill>
                <a:srgbClr val="000000"/>
              </a:solidFill>
              <a:latin typeface="Calibri"/>
            </a:endParaRPr>
          </a:p>
        </p:txBody>
      </p:sp>
      <p:sp>
        <p:nvSpPr>
          <p:cNvPr id="641" name=""/>
          <p:cNvSpPr txBox="1"/>
          <p:nvPr/>
        </p:nvSpPr>
        <p:spPr>
          <a:xfrm>
            <a:off x="380880" y="6476760"/>
            <a:ext cx="2509920" cy="2761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42" name="Slide Number Placeholder 7"/>
          <p:cNvSpPr/>
          <p:nvPr/>
        </p:nvSpPr>
        <p:spPr>
          <a:xfrm>
            <a:off x="7632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134B-D891-45C6-BCCD-CEAFE98FF9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mmunication to Improve Patient Safety: A Continuous Process</a:t>
            </a:r>
            <a:endParaRPr b="0" lang="en-US" sz="3600" spc="-1" strike="noStrike">
              <a:solidFill>
                <a:srgbClr val="000000"/>
              </a:solidFill>
              <a:latin typeface="Calibri"/>
            </a:endParaRPr>
          </a:p>
        </p:txBody>
      </p:sp>
      <p:grpSp>
        <p:nvGrpSpPr>
          <p:cNvPr id="644" name="Diagram 7"/>
          <p:cNvGrpSpPr/>
          <p:nvPr/>
        </p:nvGrpSpPr>
        <p:grpSpPr>
          <a:xfrm>
            <a:off x="838080" y="1828800"/>
            <a:ext cx="7695720" cy="4419000"/>
            <a:chOff x="838080" y="1828800"/>
            <a:chExt cx="7695720" cy="4419000"/>
          </a:xfrm>
        </p:grpSpPr>
        <p:sp>
          <p:nvSpPr>
            <p:cNvPr id="645" name="_s1028"/>
            <p:cNvSpPr/>
            <p:nvPr/>
          </p:nvSpPr>
          <p:spPr>
            <a:xfrm>
              <a:off x="2067840" y="1828800"/>
              <a:ext cx="5235840" cy="3006360"/>
            </a:xfrm>
            <a:custGeom>
              <a:avLst/>
              <a:gdLst>
                <a:gd name="textAreaLeft" fmla="*/ 767160 w 5235840"/>
                <a:gd name="textAreaRight" fmla="*/ 4468680 w 5235840"/>
                <a:gd name="textAreaTop" fmla="*/ 440280 h 3006360"/>
                <a:gd name="textAreaBottom" fmla="*/ 2566080 h 300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6" name="_s1029"/>
            <p:cNvSpPr/>
            <p:nvPr/>
          </p:nvSpPr>
          <p:spPr>
            <a:xfrm rot="5400000">
              <a:off x="4412880" y="1420560"/>
              <a:ext cx="3006360" cy="5235120"/>
            </a:xfrm>
            <a:custGeom>
              <a:avLst/>
              <a:gdLst>
                <a:gd name="textAreaLeft" fmla="*/ 440280 w 3006360"/>
                <a:gd name="textAreaRight" fmla="*/ 2566080 w 3006360"/>
                <a:gd name="textAreaTop" fmla="*/ 766800 h 5235120"/>
                <a:gd name="textAreaBottom" fmla="*/ 4468320 h 52351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_s1030"/>
            <p:cNvSpPr/>
            <p:nvPr/>
          </p:nvSpPr>
          <p:spPr>
            <a:xfrm rot="10800000">
              <a:off x="2067840" y="3241440"/>
              <a:ext cx="5235840" cy="3006360"/>
            </a:xfrm>
            <a:custGeom>
              <a:avLst/>
              <a:gdLst>
                <a:gd name="textAreaLeft" fmla="*/ 767160 w 5235840"/>
                <a:gd name="textAreaRight" fmla="*/ 4468680 w 5235840"/>
                <a:gd name="textAreaTop" fmla="*/ 440280 h 3006360"/>
                <a:gd name="textAreaBottom" fmla="*/ 2566080 h 300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8" name="_s1031"/>
            <p:cNvSpPr/>
            <p:nvPr/>
          </p:nvSpPr>
          <p:spPr>
            <a:xfrm rot="16200000">
              <a:off x="1952280" y="1420200"/>
              <a:ext cx="3006360" cy="5235120"/>
            </a:xfrm>
            <a:custGeom>
              <a:avLst/>
              <a:gdLst>
                <a:gd name="textAreaLeft" fmla="*/ 440280 w 3006360"/>
                <a:gd name="textAreaRight" fmla="*/ 2566080 w 3006360"/>
                <a:gd name="textAreaTop" fmla="*/ 766800 h 5235120"/>
                <a:gd name="textAreaBottom" fmla="*/ 4468320 h 52351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9" name="_s1032"/>
            <p:cNvSpPr/>
            <p:nvPr/>
          </p:nvSpPr>
          <p:spPr>
            <a:xfrm>
              <a:off x="6079680" y="2105280"/>
              <a:ext cx="197136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t Atten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Names Fir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_s1033"/>
            <p:cNvSpPr/>
            <p:nvPr/>
          </p:nvSpPr>
          <p:spPr>
            <a:xfrm>
              <a:off x="6082560" y="4838400"/>
              <a:ext cx="197208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the issu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_s1034"/>
            <p:cNvSpPr/>
            <p:nvPr/>
          </p:nvSpPr>
          <p:spPr>
            <a:xfrm>
              <a:off x="1323360" y="4840560"/>
              <a:ext cx="197208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 Action</a:t>
              </a:r>
              <a:endParaRPr b="0" lang="en-US" sz="2000" spc="-1" strike="noStrike">
                <a:solidFill>
                  <a:srgbClr val="000000"/>
                </a:solidFill>
                <a:latin typeface="Arial"/>
              </a:endParaRPr>
            </a:p>
          </p:txBody>
        </p:sp>
        <p:sp>
          <p:nvSpPr>
            <p:cNvPr id="652" name="_s1035"/>
            <p:cNvSpPr/>
            <p:nvPr/>
          </p:nvSpPr>
          <p:spPr>
            <a:xfrm>
              <a:off x="1320480" y="2107440"/>
              <a:ext cx="197136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 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 of Action</a:t>
              </a:r>
              <a:endParaRPr b="0" lang="en-US" sz="2000" spc="-1" strike="noStrike">
                <a:solidFill>
                  <a:srgbClr val="000000"/>
                </a:solidFill>
                <a:latin typeface="Arial"/>
              </a:endParaRPr>
            </a:p>
          </p:txBody>
        </p:sp>
      </p:grpSp>
      <p:sp>
        <p:nvSpPr>
          <p:cNvPr id="653" name=""/>
          <p:cNvSpPr txBox="1"/>
          <p:nvPr/>
        </p:nvSpPr>
        <p:spPr>
          <a:xfrm>
            <a:off x="756720" y="6400440"/>
            <a:ext cx="2667240" cy="276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54" name="Slide Number Placeholder 3"/>
          <p:cNvSpPr/>
          <p:nvPr/>
        </p:nvSpPr>
        <p:spPr>
          <a:xfrm>
            <a:off x="152280" y="6324480"/>
            <a:ext cx="3812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9488-BF06-4EA8-A951-C86EC64830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8:52Z</dcterms:created>
  <dc:creator>thret1</dc:creator>
  <dc:description/>
  <dc:language>en-US</dc:language>
  <cp:lastModifiedBy>Karen Fleming-Michael</cp:lastModifiedBy>
  <dcterms:modified xsi:type="dcterms:W3CDTF">2012-12-21T18:24:26Z</dcterms:modified>
  <cp:revision>295</cp:revision>
  <dc:subject/>
  <dc:title>On the CUSP: Stop BS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5149243E18E894E866B845766CF3156</vt:lpwstr>
  </property>
</Properties>
</file>