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1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0" name="PlaceHolder 5"/>
          <p:cNvSpPr>
            <a:spLocks noGrp="1"/>
          </p:cNvSpPr>
          <p:nvPr>
            <p:ph type="ftr" idx="1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1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2AB8-7510-4D6C-BAAF-9475127BBC1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6F8E-5B2B-4A86-8F20-4D0880149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discuss some of the communication styles we use everyday in this module. What is important to note is that no matter how hard we try to be a clear and assertive communicator, there will always be a chance that we fall back on less effective methods.  This can be because of the situation, the history between the person with whom we are having the discussion and ourselves. We try not to make things personal but it takes practice and vigi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0D8E-D32D-4F62-B0FB-E75F99985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F8F6-1B0E-40DF-A3AB-F63106507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s summarizes the twin interventions of this effor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elements of the Comprehensive Unit-based Safety Program or CUSP</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5 evidence-based techniques and strategies for eliminating CLAB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9B31-3E55-424C-8BF4-C471A0B81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s summarizes the twin interventions of this effor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elements of the Comprehensive Unit-based Safety Program or CUSP</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5 evidence-based techniques and strategies for eliminating CLABSI</a:t>
            </a: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9B45-0576-4564-B2B4-5A9FA41D1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4FA44-4A4D-47E1-92F3-EC5BA2C8EC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E881DF4-CA00-4D82-88C4-908B18795F0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783BDD9-7B8D-446F-8666-00E2BB17843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2964F7E8-4917-48CA-9DA5-0D9D81765A9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B0D8B4A-C344-44A2-9402-A4659D5524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EB526DB-469B-442B-A809-055A56C44AE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62DB692-A31D-4A19-828A-C75DF98745B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E02030A-6DD9-4B46-8939-50794C16790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50C5FDD-FE6C-4112-9199-2CAC02D42F9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4C0C2AB5-2971-4ADF-BEDF-EA0FDE10368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50D1120-BAE1-4804-B9F1-FCF49A304A0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B203DE0-0395-44ED-B00A-47B417B11F7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B2C04FC-0681-4649-804C-46A0F4E763F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EF3CE0C-EB22-4BD4-A26F-8456B00BDE0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5F21032-6218-434A-B31D-B2DB719A864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683A190-671A-4B5A-B890-910BA20926E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C8E5545-EE9D-4CC4-8D47-5EC1932315D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7E64B449-6783-4ABC-BE5C-E7F91E79B2B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BB32A850-B529-48B3-83EA-5A089BB0EFC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D70484C-0DF2-49CC-9A03-D3A4C41C8C1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66777D6-5597-4594-8A2B-39A2D5708D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00859CB-8D52-4235-8841-317D086A4A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2CB05B-D34D-4253-9475-CBED1C3B50C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FE1F06A-DF7D-416C-A92B-161159525C4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6EE0DAB7-0574-4F49-8C66-F1A2443602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60D320E-D71C-4BE3-AD56-15A17DEC5D2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4A5AE18-CAE9-4F30-B00F-C8A109C211E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B96D788-A15F-410D-BEC9-AE20AAA714E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E4DD35C-26ED-4ED8-A9C5-A7301C85EC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0F18BF3-D0C6-4A5D-8120-08319B726F8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B550CFE-A688-4824-8C99-8C24851596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EA460C9-7CB9-4FE1-A732-19AD1DC6A9F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018754D-B504-4185-B99C-2C0B6D2D1B1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33307C1-207B-42C3-B213-4A083FA2E75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22F899F-3F33-41F9-8E5C-3AEA7C8F9F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29AA90B-6233-494C-9824-6F33DD82396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BFE406B-D3E4-4E02-B509-7CDF5E1284F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87E54FF-C291-4D99-83BE-B58278159B7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D4C6BB4-A2EA-4751-9C6F-15D3CB92080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6FFC0CF-95C3-4875-A527-C9B2329F311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4DE5D3F-DF69-4277-BE41-DD4D62C35B2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C2DF017-19FF-410B-A2FE-A4B95F68C03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CC59FE9-0BDE-48A4-B9C8-0E68DC6DCA8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7C8FFCC-2427-4A48-BD05-EAAF4242392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2815A3D-B676-4C35-92B1-F8F20AB2433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7FAD65C-6A81-4DE1-A09C-1F2504D18CF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8D3FDB9-0C44-4E3E-829B-28B5A2169F1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DF00019-D5B3-458B-BC9C-992F199E195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8E53D36-DD7B-4E11-8E95-CE7296AE0CA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20462B5-EFE7-48DD-88AC-EB2879E53EA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F56A929-CEA9-438D-A3CD-B4E43F874FB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721DCE0-82AF-4AE5-8446-99D7439D1F7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6A25811-1686-4D41-830E-B227535255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6D142CF-0C19-463A-B802-C60FCD6A03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CA90366-6485-4A77-8D68-ADCE3577DC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943CF6-7927-4486-A404-21FF633159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817CFDF-4CB4-443B-B233-7BD4ABAE75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23D9C1-7A23-4C51-AF9C-C076D33682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187BAF9-DDAA-466E-8C29-205D681F8D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12C5D39-8BB2-455F-B94D-5D495DCA92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9D18E8E-E265-4DF6-817C-AFF1FD512B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F43EFAF-3496-40AB-8C0D-94582EB6EC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EFCB7F9-073D-46E1-8643-7B4F90C738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904427A-C416-4C38-A3E0-AF506E0F36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A8FDC54-B669-4283-A804-0B0915C902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A2EC884-1E3C-42E0-8091-1840CA1640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9F8F923B-DF16-4C66-81B0-2D3C203EFB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1AE0456-1F77-46D3-B0A2-568FABB5476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743A2B6-71F2-48A0-BD48-1AB2C8781D6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F09F66E-B88B-4CE4-BCB7-E678E6CBEA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22DDB7F-8436-4335-9439-AC2D6ACC18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A6AB96D-50C2-44AD-932B-3D80C4CCB0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23EA7C3-FA5C-49C5-A8F8-DC098D0E63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485033C-184C-4D83-ACFD-EEACD9313E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7873547-7199-4503-97B1-644E5D5493E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C03CC2-CA5A-4055-97EA-26FCBA48118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CC449BA-2074-47B7-8835-260C30B6886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89699D9-127E-499A-90A8-99ED38EB73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76CAD40-A13C-4116-B853-BBD272072D9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2C43DB4-0E36-44E0-854C-1B349C6ECE4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CDEC07E-FA97-41CC-B9EA-8C03E12CC29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CADB053-2117-4E43-89B1-CF03321DDB5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9A0233-F80F-43BF-8D0C-99620CCD259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BA8C78-D12E-4722-A106-25F9E8D6F24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E40E181-E5CB-419E-82EA-92DFD7E2BDF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719DA74-94C6-4291-A1FB-1988E7F1551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A35195D-2D5B-46C7-A0BF-2940FFBC1E0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5088499-64AC-4351-B165-4651B321D9C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FABEBDF-DF01-4242-906B-7B14849B57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C8E32788-689D-4E81-9B33-93CA70E38F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94ABEC3-EE80-4064-A23D-F78D250F7BB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B42FF37-4797-4164-8111-E61A2515502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0D25FBE-4F6A-4DBF-87D2-AC3522F86AE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2126A36-C19E-43CD-8CD0-5AB195E93B7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4CF8291-73F4-4E36-A7D9-93436AA7026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18D42CC-5B46-4B97-8C36-9315CBD9366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16849E0-9541-435F-8284-0AE9794A6F8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CECE956-C1BA-461E-92A3-FE1B37449FD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4E91D68-241A-4704-97BE-AB8239C600D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6782554-1AE4-4975-B909-72B6815315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14FE6F8-285A-443B-8EB1-815F16D116F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F447BE1-902A-4197-AEBD-72A62F2955B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B2FD59C-8A5E-4885-AC07-117857ECB01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CA9CB11-A5B2-40B4-AB7B-8F879F9B37A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38545F3-F65C-4EF7-B27D-8FBFAF615E5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F09413E-51E7-4043-B513-BF0A709ECFA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7B17566-1530-40CF-9D54-8C3B9210539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55D3E5B-5A3A-48E2-9989-366F393CCAC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5B0376-C3A9-4913-8446-3069984D987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24332D3-FCD4-4529-AC14-3ECF1F614AD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348C66B-590A-4D16-A4F6-26D6E25F1E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DCF5144-969F-46C6-8637-F15E0F126E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579038B-729F-4EBB-8CFF-D6BDE5EAAD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0B38D82-B864-43CF-9BE8-7A27E463188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9C4E36A-6D29-43C4-B4B2-A826C6EA0D9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927522D-DCAD-474C-ACE8-6736251BBC9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4100076-B769-4396-AF6D-8DBE4C62862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1E8D711-1941-4F4C-937C-6B81D645096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694AEBD-FFA2-4DD3-9360-C6885AFEAC2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5D98739C-9512-4902-9BCF-FB0876B4F86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8F4B8E5-4677-4CE3-9B6F-675A1AE336D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C520551-E1E7-45EA-8E7E-0EAC61D0EE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48DC347-204B-42EB-95AE-C27C94EF34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C994B1A-2FA2-45D9-9ECA-54C6797E0FB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BEF339D-76E2-4316-A5E7-CFD6C6EB814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656BB5E-6DDF-4384-81ED-31751403967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B1253134-40C2-47A9-82DF-E80A8766BC7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5C0E19D-D5D1-4370-8C34-4D96093AA97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BFBF265-DDBA-42A6-9E8C-AA5600E4C7D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423179C-9DE3-4B34-A163-888B063836C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3D1C0F5-DDA7-410C-ACD6-A64C2085316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48DCCD3-806D-475E-9171-7A36FBE3EB0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BC7AC3CD-A3A6-445D-BFC5-4B583DD1EA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309768B-2111-434D-B639-AAAC30F5735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F2A3593C-ABE7-497D-AF8A-6111D0EADFC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9E8E78C-7F58-4E77-A804-A744BA6FCF9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E45AA40-B6FB-4CE2-A0CF-4AEDEA9072E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2999AFB-1BED-4F78-A578-4C2E1463FDC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00E2F39-6D6D-47CF-AE61-8BA3CF4B17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1D3E5F67-D4B8-4B8A-A090-E1FAA871216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F9BEC06-1831-4A96-96C1-AC2C08C6393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3D5923B-2B4A-4DBB-80B1-65FC8346287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DBA2E65-A2BF-4E22-85CF-8CAFEA2110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0DB819A-7EB0-4142-AB21-B0AF4E1D6D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3ED3-67B2-4EBF-A40E-9F904DD575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8" name="Picture 10" descr="alt=&quot;&quot;"/>
          <p:cNvPicPr/>
          <p:nvPr/>
        </p:nvPicPr>
        <p:blipFill>
          <a:blip r:embed="rId2"/>
          <a:stretch/>
        </p:blipFill>
        <p:spPr>
          <a:xfrm>
            <a:off x="6696000" y="5665680"/>
            <a:ext cx="2448000" cy="119232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1" name="PlaceHolder 3"/>
          <p:cNvSpPr>
            <a:spLocks noGrp="1"/>
          </p:cNvSpPr>
          <p:nvPr>
            <p:ph type="sldNum" idx="10"/>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FA58-D0E2-44A7-9B42-14D3386EB1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7"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E84A-7751-41E6-8A81-A337040696F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18"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13"/>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51F1-480C-4316-9F89-9FC7BF617E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3" name="Picture 10" descr="CUSP-LOGO-no-tagline.gif"/>
          <p:cNvPicPr/>
          <p:nvPr/>
        </p:nvPicPr>
        <p:blipFill>
          <a:blip r:embed="rId2"/>
          <a:stretch/>
        </p:blipFill>
        <p:spPr>
          <a:xfrm>
            <a:off x="6696000" y="5665680"/>
            <a:ext cx="2448000" cy="1192320"/>
          </a:xfrm>
          <a:prstGeom prst="rect">
            <a:avLst/>
          </a:prstGeom>
          <a:ln w="0">
            <a:noFill/>
          </a:ln>
        </p:spPr>
      </p:pic>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6"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911F-FF40-4E49-A869-7513285CC78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67"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5"/>
          <p:cNvSpPr>
            <a:spLocks noGrp="1"/>
          </p:cNvSpPr>
          <p:nvPr>
            <p:ph type="sldNum" idx="16"/>
          </p:nvPr>
        </p:nvSpPr>
        <p:spPr>
          <a:xfrm>
            <a:off x="3805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FE74-27CD-4447-BE7C-27AB670727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10" descr="alt=&quot;&quot;"/>
          <p:cNvPicPr/>
          <p:nvPr/>
        </p:nvPicPr>
        <p:blipFill>
          <a:blip r:embed="rId2"/>
          <a:stretch/>
        </p:blipFill>
        <p:spPr>
          <a:xfrm>
            <a:off x="6696000" y="5665680"/>
            <a:ext cx="2448000" cy="11923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4415-669F-4B4E-BB9C-3768A9AA08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Picture 10" descr="alt=&quot;&quot;"/>
          <p:cNvPicPr/>
          <p:nvPr/>
        </p:nvPicPr>
        <p:blipFill>
          <a:blip r:embed="rId2"/>
          <a:stretch/>
        </p:blipFill>
        <p:spPr>
          <a:xfrm>
            <a:off x="6696000" y="5665680"/>
            <a:ext cx="2448000" cy="119232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 name="PlaceHolder 3"/>
          <p:cNvSpPr>
            <a:spLocks noGrp="1"/>
          </p:cNvSpPr>
          <p:nvPr>
            <p:ph type="sldNum" idx="3"/>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8885-3998-42A9-8683-BF6A2E8699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Picture 10" descr="alt=&quot;&quot;"/>
          <p:cNvPicPr/>
          <p:nvPr/>
        </p:nvPicPr>
        <p:blipFill>
          <a:blip r:embed="rId2"/>
          <a:stretch/>
        </p:blipFill>
        <p:spPr>
          <a:xfrm>
            <a:off x="6696000" y="5665680"/>
            <a:ext cx="2448000" cy="119232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 name="PlaceHolder 3"/>
          <p:cNvSpPr>
            <a:spLocks noGrp="1"/>
          </p:cNvSpPr>
          <p:nvPr>
            <p:ph type="sldNum" idx="4"/>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42F4-029F-44F0-9F95-172F35F3EB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Picture 10" descr="alt=&quot;&quot;"/>
          <p:cNvPicPr/>
          <p:nvPr/>
        </p:nvPicPr>
        <p:blipFill>
          <a:blip r:embed="rId2"/>
          <a:stretch/>
        </p:blipFill>
        <p:spPr>
          <a:xfrm>
            <a:off x="6696000" y="5665680"/>
            <a:ext cx="2448000" cy="119232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8" name="PlaceHolder 3"/>
          <p:cNvSpPr>
            <a:spLocks noGrp="1"/>
          </p:cNvSpPr>
          <p:nvPr>
            <p:ph type="sldNum" idx="5"/>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0C6F-2F8A-4476-8AB4-3C749E926F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2" name="Picture 10" descr="alt=&quot;&quot;"/>
          <p:cNvPicPr/>
          <p:nvPr/>
        </p:nvPicPr>
        <p:blipFill>
          <a:blip r:embed="rId2"/>
          <a:stretch/>
        </p:blipFill>
        <p:spPr>
          <a:xfrm>
            <a:off x="6696000" y="5665680"/>
            <a:ext cx="2448000" cy="1192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 name="PlaceHolder 3"/>
          <p:cNvSpPr>
            <a:spLocks noGrp="1"/>
          </p:cNvSpPr>
          <p:nvPr>
            <p:ph type="sldNum" idx="6"/>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C141-3577-43E5-B46E-396BDC60BB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9" name="Picture 10" descr="alt=&quot;&quot;"/>
          <p:cNvPicPr/>
          <p:nvPr/>
        </p:nvPicPr>
        <p:blipFill>
          <a:blip r:embed="rId2"/>
          <a:stretch/>
        </p:blipFill>
        <p:spPr>
          <a:xfrm>
            <a:off x="6696000" y="5665680"/>
            <a:ext cx="2448000" cy="119232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sldNum" idx="7"/>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FDFD-D933-4FB5-A1D0-95916A8D01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6" name="Picture 10" descr="alt=&quot;&quot;"/>
          <p:cNvPicPr/>
          <p:nvPr/>
        </p:nvPicPr>
        <p:blipFill>
          <a:blip r:embed="rId2"/>
          <a:stretch/>
        </p:blipFill>
        <p:spPr>
          <a:xfrm>
            <a:off x="6696000" y="5665680"/>
            <a:ext cx="2448000" cy="1192320"/>
          </a:xfrm>
          <a:prstGeom prst="rect">
            <a:avLst/>
          </a:prstGeom>
          <a:ln w="0">
            <a:noFill/>
          </a:ln>
        </p:spPr>
      </p:pic>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sldNum" idx="8"/>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15C0-595A-45BC-87C3-44A3B6FAF6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3" name="Picture 10" descr="alt=&quot;&quot;"/>
          <p:cNvPicPr/>
          <p:nvPr/>
        </p:nvPicPr>
        <p:blipFill>
          <a:blip r:embed="rId2"/>
          <a:stretch/>
        </p:blipFill>
        <p:spPr>
          <a:xfrm>
            <a:off x="6696000" y="5665680"/>
            <a:ext cx="2448000" cy="11923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6" name="PlaceHolder 3"/>
          <p:cNvSpPr>
            <a:spLocks noGrp="1"/>
          </p:cNvSpPr>
          <p:nvPr>
            <p:ph type="sldNum" idx="9"/>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2ABD-EB2F-4C07-9904-9C8E989B7D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09480" y="237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n the CUSP: Stop BSI</a:t>
            </a:r>
            <a:br>
              <a:rPr sz="4400"/>
            </a:br>
            <a:r>
              <a:rPr b="0" lang="en-US" sz="4400" spc="-1" strike="noStrike">
                <a:solidFill>
                  <a:srgbClr val="ffffff"/>
                </a:solidFill>
                <a:latin typeface="Calibri"/>
              </a:rPr>
              <a:t>Appropriate Assertion</a:t>
            </a:r>
            <a:endParaRPr b="0" lang="en-US" sz="4400" spc="-1" strike="noStrike">
              <a:solidFill>
                <a:srgbClr val="000000"/>
              </a:solidFill>
              <a:latin typeface="Calibri"/>
            </a:endParaRPr>
          </a:p>
        </p:txBody>
      </p:sp>
      <p:sp>
        <p:nvSpPr>
          <p:cNvPr id="613" name="PlaceHolder 2"/>
          <p:cNvSpPr>
            <a:spLocks noGrp="1"/>
          </p:cNvSpPr>
          <p:nvPr>
            <p:ph type="subTitle"/>
          </p:nvPr>
        </p:nvSpPr>
        <p:spPr>
          <a:xfrm>
            <a:off x="380880" y="2590920"/>
            <a:ext cx="8305920" cy="2590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David Thompson, DNSc, MS, R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Jill Marsteller, PhD, MPP</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Department of Anesthesiology and Critical Care Medicin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The Johns Hopkins Quality and Safety Research Group</a:t>
            </a:r>
            <a:endParaRPr b="0" lang="en-US" sz="1800" spc="-1" strike="noStrike">
              <a:solidFill>
                <a:srgbClr val="000000"/>
              </a:solidFill>
              <a:latin typeface="Calibri"/>
            </a:endParaRPr>
          </a:p>
        </p:txBody>
      </p:sp>
      <p:pic>
        <p:nvPicPr>
          <p:cNvPr id="614" name="Picture 10" descr="CUSP-LOGO-no-tagline.gif"/>
          <p:cNvPicPr/>
          <p:nvPr/>
        </p:nvPicPr>
        <p:blipFill>
          <a:blip r:embed="rId1"/>
          <a:stretch/>
        </p:blipFill>
        <p:spPr>
          <a:xfrm>
            <a:off x="6797520" y="5715000"/>
            <a:ext cx="234648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 </a:t>
            </a:r>
            <a:r>
              <a:rPr b="0" lang="en-US" sz="3600" spc="-1" strike="noStrike">
                <a:solidFill>
                  <a:srgbClr val="ffffff"/>
                </a:solidFill>
                <a:latin typeface="Calibri"/>
              </a:rPr>
              <a:t>Helpful Hints in Applying</a:t>
            </a:r>
            <a:br>
              <a:rPr sz="3600"/>
            </a:br>
            <a:r>
              <a:rPr b="0" lang="en-US" sz="3600" spc="-1" strike="noStrike">
                <a:solidFill>
                  <a:srgbClr val="ffffff"/>
                </a:solidFill>
                <a:latin typeface="Calibri"/>
              </a:rPr>
              <a:t>The Assertion Model</a:t>
            </a:r>
            <a:endParaRPr b="0" lang="en-US" sz="3600" spc="-1" strike="noStrike">
              <a:solidFill>
                <a:srgbClr val="000000"/>
              </a:solidFill>
              <a:latin typeface="Calibri"/>
            </a:endParaRPr>
          </a:p>
        </p:txBody>
      </p:sp>
      <p:sp>
        <p:nvSpPr>
          <p:cNvPr id="656" name=""/>
          <p:cNvSpPr txBox="1"/>
          <p:nvPr/>
        </p:nvSpPr>
        <p:spPr>
          <a:xfrm>
            <a:off x="456840" y="1646280"/>
            <a:ext cx="8001000" cy="4525920"/>
          </a:xfrm>
          <a:prstGeom prst="rect">
            <a:avLst/>
          </a:prstGeom>
          <a:noFill/>
          <a:ln w="0">
            <a:noFill/>
          </a:ln>
        </p:spPr>
        <p:txBody>
          <a:bodyPr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the common goal: Quality care, the welfare of the patient, safety; it’s hard to disagree with safe, high-quality care</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the issue of who’s right and who’s wrong</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atient-centered care”– It is not who is right or who is wrong, it is what is best for the patient</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ersonalize the conversation</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ly avoid being perceived as judgmental</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hard on the problem, not the peop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
          <p:cNvSpPr txBox="1"/>
          <p:nvPr/>
        </p:nvSpPr>
        <p:spPr>
          <a:xfrm>
            <a:off x="838080" y="6400440"/>
            <a:ext cx="2509920" cy="2761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58" name="Slide Number Placeholder 3"/>
          <p:cNvSpPr/>
          <p:nvPr/>
        </p:nvSpPr>
        <p:spPr>
          <a:xfrm>
            <a:off x="304920" y="6356520"/>
            <a:ext cx="3808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EC08-BBB7-4E80-B720-BCFCEDB449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proving Assertion</a:t>
            </a:r>
            <a:endParaRPr b="0" lang="en-US" sz="4400" spc="-1" strike="noStrike">
              <a:solidFill>
                <a:srgbClr val="000000"/>
              </a:solidFill>
              <a:latin typeface="Calibri"/>
            </a:endParaRPr>
          </a:p>
        </p:txBody>
      </p:sp>
      <p:sp>
        <p:nvSpPr>
          <p:cNvPr id="660" name=""/>
          <p:cNvSpPr txBox="1"/>
          <p:nvPr/>
        </p:nvSpPr>
        <p:spPr>
          <a:xfrm>
            <a:off x="304920" y="1933560"/>
            <a:ext cx="4495680" cy="43020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mes First -</a:t>
            </a:r>
            <a:r>
              <a:rPr b="0" lang="en-US" sz="2400" spc="-1" strike="noStrike">
                <a:solidFill>
                  <a:srgbClr val="000000"/>
                </a:solidFill>
                <a:latin typeface="Calibri"/>
              </a:rPr>
              <a:t> get their attention</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eye contact </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 you concern and feelings</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the issue (clear, concise)</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e action(s)</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ssert as necessary</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ee on course of action</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calate if no resolution</a:t>
            </a:r>
            <a:endParaRPr b="0" lang="en-US" sz="2400" spc="-1" strike="noStrike">
              <a:solidFill>
                <a:srgbClr val="000000"/>
              </a:solidFill>
              <a:latin typeface="Calibri"/>
            </a:endParaRPr>
          </a:p>
        </p:txBody>
      </p:sp>
      <p:grpSp>
        <p:nvGrpSpPr>
          <p:cNvPr id="661" name="Diagram 8"/>
          <p:cNvGrpSpPr/>
          <p:nvPr/>
        </p:nvGrpSpPr>
        <p:grpSpPr>
          <a:xfrm>
            <a:off x="5334120" y="2390760"/>
            <a:ext cx="3276000" cy="3018960"/>
            <a:chOff x="5334120" y="2390760"/>
            <a:chExt cx="3276000" cy="3018960"/>
          </a:xfrm>
        </p:grpSpPr>
        <p:sp>
          <p:nvSpPr>
            <p:cNvPr id="662" name="_s2052"/>
            <p:cNvSpPr/>
            <p:nvPr/>
          </p:nvSpPr>
          <p:spPr>
            <a:xfrm>
              <a:off x="6176160" y="2390760"/>
              <a:ext cx="2228760" cy="2191320"/>
            </a:xfrm>
            <a:custGeom>
              <a:avLst/>
              <a:gdLst>
                <a:gd name="textAreaLeft" fmla="*/ 326520 w 2228760"/>
                <a:gd name="textAreaRight" fmla="*/ 1902240 w 2228760"/>
                <a:gd name="textAreaTop" fmla="*/ 321120 h 2191320"/>
                <a:gd name="textAreaBottom" fmla="*/ 1870200 h 2191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3" name="_s2053"/>
            <p:cNvSpPr/>
            <p:nvPr/>
          </p:nvSpPr>
          <p:spPr>
            <a:xfrm rot="5400000">
              <a:off x="6400080" y="2684520"/>
              <a:ext cx="2190960" cy="2228760"/>
            </a:xfrm>
            <a:custGeom>
              <a:avLst/>
              <a:gdLst>
                <a:gd name="textAreaLeft" fmla="*/ 320760 w 2190960"/>
                <a:gd name="textAreaRight" fmla="*/ 1870200 w 2190960"/>
                <a:gd name="textAreaTop" fmla="*/ 326520 h 2228760"/>
                <a:gd name="textAreaBottom" fmla="*/ 1902240 h 22287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_s2054"/>
            <p:cNvSpPr/>
            <p:nvPr/>
          </p:nvSpPr>
          <p:spPr>
            <a:xfrm rot="10800000">
              <a:off x="5857560" y="3218760"/>
              <a:ext cx="2229120" cy="2190960"/>
            </a:xfrm>
            <a:custGeom>
              <a:avLst/>
              <a:gdLst>
                <a:gd name="textAreaLeft" fmla="*/ 326520 w 2229120"/>
                <a:gd name="textAreaRight" fmla="*/ 1902600 w 2229120"/>
                <a:gd name="textAreaTop" fmla="*/ 320760 h 2190960"/>
                <a:gd name="textAreaBottom" fmla="*/ 1870200 h 2190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_s2055"/>
            <p:cNvSpPr/>
            <p:nvPr/>
          </p:nvSpPr>
          <p:spPr>
            <a:xfrm rot="16200000">
              <a:off x="5352840" y="2684520"/>
              <a:ext cx="2190960" cy="2228760"/>
            </a:xfrm>
            <a:custGeom>
              <a:avLst/>
              <a:gdLst>
                <a:gd name="textAreaLeft" fmla="*/ 320760 w 2190960"/>
                <a:gd name="textAreaRight" fmla="*/ 1870200 w 2190960"/>
                <a:gd name="textAreaTop" fmla="*/ 326520 h 2228760"/>
                <a:gd name="textAreaBottom" fmla="*/ 1902240 h 22287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_s2056"/>
            <p:cNvSpPr/>
            <p:nvPr/>
          </p:nvSpPr>
          <p:spPr>
            <a:xfrm>
              <a:off x="7565400" y="2390760"/>
              <a:ext cx="83916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Get Attention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NAMES Firs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7" name="_s2057"/>
            <p:cNvSpPr/>
            <p:nvPr/>
          </p:nvSpPr>
          <p:spPr>
            <a:xfrm>
              <a:off x="7566840" y="4382640"/>
              <a:ext cx="83952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he issu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8" name="_s2058"/>
            <p:cNvSpPr/>
            <p:nvPr/>
          </p:nvSpPr>
          <p:spPr>
            <a:xfrm>
              <a:off x="5540760" y="4384080"/>
              <a:ext cx="83952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ose Action</a:t>
              </a:r>
              <a:endParaRPr b="0" lang="en-US" sz="900" spc="-1" strike="noStrike">
                <a:solidFill>
                  <a:srgbClr val="000000"/>
                </a:solidFill>
                <a:latin typeface="Arial"/>
              </a:endParaRPr>
            </a:p>
          </p:txBody>
        </p:sp>
        <p:sp>
          <p:nvSpPr>
            <p:cNvPr id="669" name="_s2059"/>
            <p:cNvSpPr/>
            <p:nvPr/>
          </p:nvSpPr>
          <p:spPr>
            <a:xfrm>
              <a:off x="5539320" y="2392200"/>
              <a:ext cx="83916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ree on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rse of Action</a:t>
              </a:r>
              <a:endParaRPr b="0" lang="en-US" sz="900" spc="-1" strike="noStrike">
                <a:solidFill>
                  <a:srgbClr val="000000"/>
                </a:solidFill>
                <a:latin typeface="Arial"/>
              </a:endParaRPr>
            </a:p>
          </p:txBody>
        </p:sp>
      </p:grpSp>
      <p:sp>
        <p:nvSpPr>
          <p:cNvPr id="670" name=""/>
          <p:cNvSpPr txBox="1"/>
          <p:nvPr/>
        </p:nvSpPr>
        <p:spPr>
          <a:xfrm>
            <a:off x="685800" y="6400440"/>
            <a:ext cx="2509920" cy="276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71" name="Slide Number Placeholder 3"/>
          <p:cNvSpPr/>
          <p:nvPr/>
        </p:nvSpPr>
        <p:spPr>
          <a:xfrm>
            <a:off x="28440" y="6324480"/>
            <a:ext cx="6098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011FF-0D5B-40D4-B548-590E807DCF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37.  “It is easy for personnel in this ICU to ask questions when there is something that they do not understand</a:t>
            </a:r>
            <a:endParaRPr b="0" lang="en-US" sz="2800" spc="-1" strike="noStrike">
              <a:solidFill>
                <a:srgbClr val="000000"/>
              </a:solidFill>
              <a:latin typeface="Calibri"/>
            </a:endParaRPr>
          </a:p>
        </p:txBody>
      </p:sp>
      <p:graphicFrame>
        <p:nvGraphicFramePr>
          <p:cNvPr id="673" name="Object 4"/>
          <p:cNvGraphicFramePr/>
          <p:nvPr/>
        </p:nvGraphicFramePr>
        <p:xfrm>
          <a:off x="990720" y="1752480"/>
          <a:ext cx="5943600" cy="4448160"/>
        </p:xfrm>
        <a:graphic>
          <a:graphicData uri="http://schemas.openxmlformats.org/presentationml/2006/ole">
            <p:oleObj r:id="rId1" spid="">
              <p:embed/>
              <p:pic>
                <p:nvPicPr>
                  <p:cNvPr id="674" name="Object 4" descr="An Image of a graph "/>
                  <p:cNvPicPr/>
                  <p:nvPr/>
                </p:nvPicPr>
                <p:blipFill>
                  <a:blip r:embed="rId2"/>
                  <a:stretch/>
                </p:blipFill>
                <p:spPr>
                  <a:xfrm>
                    <a:off x="990720" y="1752480"/>
                    <a:ext cx="5943600" cy="4448160"/>
                  </a:xfrm>
                  <a:prstGeom prst="rect">
                    <a:avLst/>
                  </a:prstGeom>
                  <a:ln w="0">
                    <a:noFill/>
                  </a:ln>
                </p:spPr>
              </p:pic>
            </p:oleObj>
          </a:graphicData>
        </a:graphic>
      </p:graphicFrame>
      <p:sp>
        <p:nvSpPr>
          <p:cNvPr id="675" name="Slide Number Placeholder 5"/>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BD45-12E1-4997-BC32-C415F7247F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26.  “In This ICU, It Is Difficult To Speak Up If I Perceive A Problem With Patient Care.”</a:t>
            </a:r>
            <a:endParaRPr b="0" lang="en-US" sz="3100" spc="-1" strike="noStrike">
              <a:solidFill>
                <a:srgbClr val="000000"/>
              </a:solidFill>
              <a:latin typeface="Calibri"/>
            </a:endParaRPr>
          </a:p>
        </p:txBody>
      </p:sp>
      <p:graphicFrame>
        <p:nvGraphicFramePr>
          <p:cNvPr id="677" name="Object 4"/>
          <p:cNvGraphicFramePr/>
          <p:nvPr/>
        </p:nvGraphicFramePr>
        <p:xfrm>
          <a:off x="1687680" y="1706400"/>
          <a:ext cx="5768640" cy="4313520"/>
        </p:xfrm>
        <a:graphic>
          <a:graphicData uri="http://schemas.openxmlformats.org/presentationml/2006/ole">
            <p:oleObj r:id="rId1" spid="">
              <p:embed/>
              <p:pic>
                <p:nvPicPr>
                  <p:cNvPr id="678" name="Object 4" descr="An Image of a Graph with readings from 0 to 100"/>
                  <p:cNvPicPr/>
                  <p:nvPr/>
                </p:nvPicPr>
                <p:blipFill>
                  <a:blip r:embed="rId2"/>
                  <a:stretch/>
                </p:blipFill>
                <p:spPr>
                  <a:xfrm>
                    <a:off x="1687680" y="1706400"/>
                    <a:ext cx="5768640" cy="4313520"/>
                  </a:xfrm>
                  <a:prstGeom prst="rect">
                    <a:avLst/>
                  </a:prstGeom>
                  <a:ln w="0">
                    <a:noFill/>
                  </a:ln>
                </p:spPr>
              </p:pic>
            </p:oleObj>
          </a:graphicData>
        </a:graphic>
      </p:graphicFrame>
      <p:sp>
        <p:nvSpPr>
          <p:cNvPr id="679"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58AC-E179-48AD-82E4-E8DAF2A955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32.  “Disagreements In This ICU Are Resolved Appropriately (i.e. not </a:t>
            </a:r>
            <a:r>
              <a:rPr b="0" i="1" lang="en-US" sz="2800" spc="-1" strike="noStrike">
                <a:solidFill>
                  <a:srgbClr val="ffffff"/>
                </a:solidFill>
                <a:latin typeface="Calibri"/>
              </a:rPr>
              <a:t>who</a:t>
            </a:r>
            <a:r>
              <a:rPr b="0" lang="en-US" sz="2800" spc="-1" strike="noStrike">
                <a:solidFill>
                  <a:srgbClr val="ffffff"/>
                </a:solidFill>
                <a:latin typeface="Calibri"/>
              </a:rPr>
              <a:t> is right, but </a:t>
            </a:r>
            <a:r>
              <a:rPr b="0" i="1" lang="en-US" sz="2800" spc="-1" strike="noStrike">
                <a:solidFill>
                  <a:srgbClr val="ffffff"/>
                </a:solidFill>
                <a:latin typeface="Calibri"/>
              </a:rPr>
              <a:t>what</a:t>
            </a:r>
            <a:r>
              <a:rPr b="0" lang="en-US" sz="2800" spc="-1" strike="noStrike">
                <a:solidFill>
                  <a:srgbClr val="ffffff"/>
                </a:solidFill>
                <a:latin typeface="Calibri"/>
              </a:rPr>
              <a:t> is best for the patient).”</a:t>
            </a:r>
            <a:endParaRPr b="0" lang="en-US" sz="2800" spc="-1" strike="noStrike">
              <a:solidFill>
                <a:srgbClr val="000000"/>
              </a:solidFill>
              <a:latin typeface="Calibri"/>
            </a:endParaRPr>
          </a:p>
        </p:txBody>
      </p:sp>
      <p:graphicFrame>
        <p:nvGraphicFramePr>
          <p:cNvPr id="681" name="Object 4"/>
          <p:cNvGraphicFramePr/>
          <p:nvPr/>
        </p:nvGraphicFramePr>
        <p:xfrm>
          <a:off x="1687680" y="1706400"/>
          <a:ext cx="5768640" cy="4313520"/>
        </p:xfrm>
        <a:graphic>
          <a:graphicData uri="http://schemas.openxmlformats.org/presentationml/2006/ole">
            <p:oleObj r:id="rId1" spid="">
              <p:embed/>
              <p:pic>
                <p:nvPicPr>
                  <p:cNvPr id="682" name="Object 4" descr="An Image of a Graph with readings from 0 to 100"/>
                  <p:cNvPicPr/>
                  <p:nvPr/>
                </p:nvPicPr>
                <p:blipFill>
                  <a:blip r:embed="rId2"/>
                  <a:stretch/>
                </p:blipFill>
                <p:spPr>
                  <a:xfrm>
                    <a:off x="1687680" y="1706400"/>
                    <a:ext cx="5768640" cy="4313520"/>
                  </a:xfrm>
                  <a:prstGeom prst="rect">
                    <a:avLst/>
                  </a:prstGeom>
                  <a:ln w="0">
                    <a:noFill/>
                  </a:ln>
                </p:spPr>
              </p:pic>
            </p:oleObj>
          </a:graphicData>
        </a:graphic>
      </p:graphicFrame>
      <p:sp>
        <p:nvSpPr>
          <p:cNvPr id="683"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2D58-DD5E-45B6-AC47-9BDE8E3852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scussion</a:t>
            </a:r>
            <a:endParaRPr b="0" lang="en-US" sz="4400" spc="-1" strike="noStrike">
              <a:solidFill>
                <a:srgbClr val="000000"/>
              </a:solidFill>
              <a:latin typeface="Calibri"/>
            </a:endParaRPr>
          </a:p>
        </p:txBody>
      </p:sp>
      <p:sp>
        <p:nvSpPr>
          <p:cNvPr id="685" name=""/>
          <p:cNvSpPr txBox="1"/>
          <p:nvPr/>
        </p:nvSpPr>
        <p:spPr>
          <a:xfrm>
            <a:off x="457200" y="1981080"/>
            <a:ext cx="822960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it difficult to always be assertive?</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you do to assure that your concerns are heard?</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we do at the organizational level that will help you succeed at providing safe patient-centered c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6565-0D88-42BB-8187-0DB6D10520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next?</a:t>
            </a:r>
            <a:endParaRPr b="0" lang="en-US" sz="4400" spc="-1" strike="noStrike">
              <a:solidFill>
                <a:srgbClr val="000000"/>
              </a:solidFill>
              <a:latin typeface="Calibri"/>
            </a:endParaRPr>
          </a:p>
        </p:txBody>
      </p:sp>
      <p:sp>
        <p:nvSpPr>
          <p:cNvPr id="688" name=""/>
          <p:cNvSpPr txBox="1"/>
          <p:nvPr/>
        </p:nvSpPr>
        <p:spPr>
          <a:xfrm>
            <a:off x="380880" y="1752480"/>
            <a:ext cx="822960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build on our assertive training to effectively master conflict resolution strategies</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skill sets we should work on before we begin to address personal and work-related confli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D082-A508-4C96-A58E-8EFD45B186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munication Styles</a:t>
            </a:r>
            <a:endParaRPr b="0" lang="en-US" sz="4400" spc="-1" strike="noStrike">
              <a:solidFill>
                <a:srgbClr val="000000"/>
              </a:solidFill>
              <a:latin typeface="Calibri"/>
            </a:endParaRPr>
          </a:p>
        </p:txBody>
      </p:sp>
      <p:sp>
        <p:nvSpPr>
          <p:cNvPr id="616" name=""/>
          <p:cNvSpPr txBox="1"/>
          <p:nvPr/>
        </p:nvSpPr>
        <p:spPr>
          <a:xfrm>
            <a:off x="609480" y="2742840"/>
            <a:ext cx="1524240" cy="46188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ertive</a:t>
            </a:r>
            <a:endParaRPr b="0" lang="en-US" sz="2400" spc="-1" strike="noStrike">
              <a:solidFill>
                <a:srgbClr val="000000"/>
              </a:solidFill>
              <a:latin typeface="Calibri"/>
            </a:endParaRPr>
          </a:p>
        </p:txBody>
      </p:sp>
      <p:pic>
        <p:nvPicPr>
          <p:cNvPr id="617" name="Picture 5" descr="A picture of the medical symbol"/>
          <p:cNvPicPr/>
          <p:nvPr/>
        </p:nvPicPr>
        <p:blipFill>
          <a:blip r:embed="rId1"/>
          <a:stretch/>
        </p:blipFill>
        <p:spPr>
          <a:xfrm>
            <a:off x="1905120" y="1871640"/>
            <a:ext cx="4724280" cy="3957840"/>
          </a:xfrm>
          <a:prstGeom prst="rect">
            <a:avLst/>
          </a:prstGeom>
          <a:ln w="0">
            <a:noFill/>
          </a:ln>
        </p:spPr>
      </p:pic>
      <p:sp>
        <p:nvSpPr>
          <p:cNvPr id="618" name=""/>
          <p:cNvSpPr txBox="1"/>
          <p:nvPr/>
        </p:nvSpPr>
        <p:spPr>
          <a:xfrm>
            <a:off x="6629400" y="3228840"/>
            <a:ext cx="1905120" cy="46224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Aggressive</a:t>
            </a:r>
            <a:endParaRPr b="0" lang="en-US" sz="2400" spc="-1" strike="noStrike">
              <a:solidFill>
                <a:srgbClr val="000000"/>
              </a:solidFill>
              <a:latin typeface="Calibri"/>
            </a:endParaRPr>
          </a:p>
        </p:txBody>
      </p:sp>
      <p:sp>
        <p:nvSpPr>
          <p:cNvPr id="619" name=""/>
          <p:cNvSpPr txBox="1"/>
          <p:nvPr/>
        </p:nvSpPr>
        <p:spPr>
          <a:xfrm>
            <a:off x="1447920" y="5938560"/>
            <a:ext cx="4495680" cy="46188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assive or Passive Aggressive ?</a:t>
            </a:r>
            <a:endParaRPr b="0" lang="en-US" sz="2400" spc="-1" strike="noStrike">
              <a:solidFill>
                <a:srgbClr val="000000"/>
              </a:solidFill>
              <a:latin typeface="Calibri"/>
            </a:endParaRPr>
          </a:p>
        </p:txBody>
      </p:sp>
      <p:sp>
        <p:nvSpPr>
          <p:cNvPr id="620" name=""/>
          <p:cNvSpPr txBox="1"/>
          <p:nvPr/>
        </p:nvSpPr>
        <p:spPr>
          <a:xfrm>
            <a:off x="228600" y="6535440"/>
            <a:ext cx="3276720" cy="2458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2004 JHU Quality and Safety Research Group</a:t>
            </a:r>
            <a:endParaRPr b="0" lang="en-US" sz="1000" spc="-1" strike="noStrike">
              <a:solidFill>
                <a:srgbClr val="000000"/>
              </a:solidFill>
              <a:latin typeface="Calibri"/>
            </a:endParaRPr>
          </a:p>
        </p:txBody>
      </p:sp>
      <p:sp>
        <p:nvSpPr>
          <p:cNvPr id="621" name="Slide Number Placeholder 2"/>
          <p:cNvSpPr/>
          <p:nvPr/>
        </p:nvSpPr>
        <p:spPr>
          <a:xfrm>
            <a:off x="38160" y="6454800"/>
            <a:ext cx="228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5659-C049-4072-8E58-7819DB4942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ggressive - the goal is to dominate and win!</a:t>
            </a:r>
            <a:endParaRPr b="0" lang="en-US" sz="4000" spc="-1" strike="noStrike">
              <a:solidFill>
                <a:srgbClr val="000000"/>
              </a:solidFill>
              <a:latin typeface="Calibri"/>
            </a:endParaRPr>
          </a:p>
        </p:txBody>
      </p:sp>
      <p:sp>
        <p:nvSpPr>
          <p:cNvPr id="623" name=""/>
          <p:cNvSpPr txBox="1"/>
          <p:nvPr/>
        </p:nvSpPr>
        <p:spPr>
          <a:xfrm>
            <a:off x="457200" y="1905120"/>
            <a:ext cx="8229600" cy="4525920"/>
          </a:xfrm>
          <a:prstGeom prst="rect">
            <a:avLst/>
          </a:prstGeom>
          <a:noFill/>
          <a:ln w="0">
            <a:noFill/>
          </a:ln>
        </p:spPr>
        <p:txBody>
          <a:bodyPr anchor="t">
            <a:normAutofit/>
          </a:bodyPr>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s what I think. What you think does not matter. You are uninformed”</a:t>
            </a:r>
            <a:endParaRPr b="0" lang="en-US" sz="3200" spc="-1" strike="noStrike">
              <a:solidFill>
                <a:srgbClr val="000000"/>
              </a:solidFill>
              <a:latin typeface="Calibri"/>
            </a:endParaRPr>
          </a:p>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expression of feelings, thoughts in a way that is not wholly truthful</a:t>
            </a:r>
            <a:endParaRPr b="0" lang="en-US" sz="3200" spc="-1" strike="noStrike">
              <a:solidFill>
                <a:srgbClr val="000000"/>
              </a:solidFill>
              <a:latin typeface="Calibri"/>
            </a:endParaRPr>
          </a:p>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ly done in an inappropriate and unprofessional manner</a:t>
            </a:r>
            <a:endParaRPr b="0" lang="en-US" sz="3200" spc="-1" strike="noStrike">
              <a:solidFill>
                <a:srgbClr val="000000"/>
              </a:solidFill>
              <a:latin typeface="Calibri"/>
            </a:endParaRPr>
          </a:p>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language: Clenched fists, crossed arms, glaring eyes, intrusive on personal space</a:t>
            </a:r>
            <a:endParaRPr b="0" lang="en-US" sz="3200" spc="-1" strike="noStrike">
              <a:solidFill>
                <a:srgbClr val="000000"/>
              </a:solidFill>
              <a:latin typeface="Calibri"/>
            </a:endParaRPr>
          </a:p>
        </p:txBody>
      </p:sp>
      <p:sp>
        <p:nvSpPr>
          <p:cNvPr id="624" name="Slide Number Placeholder 3"/>
          <p:cNvSpPr/>
          <p:nvPr/>
        </p:nvSpPr>
        <p:spPr>
          <a:xfrm>
            <a:off x="3808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C990-3DC4-402A-8C27-397FEFD723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assivity - the goal is to appease and avoid conflict at all costs!</a:t>
            </a:r>
            <a:endParaRPr b="0" lang="en-US" sz="4000" spc="-1" strike="noStrike">
              <a:solidFill>
                <a:srgbClr val="000000"/>
              </a:solidFill>
              <a:latin typeface="Calibri"/>
            </a:endParaRPr>
          </a:p>
        </p:txBody>
      </p:sp>
      <p:sp>
        <p:nvSpPr>
          <p:cNvPr id="626" name=""/>
          <p:cNvSpPr txBox="1"/>
          <p:nvPr/>
        </p:nvSpPr>
        <p:spPr>
          <a:xfrm>
            <a:off x="609480" y="1981080"/>
            <a:ext cx="8229600" cy="365760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 to express your thoughts or opinions</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rcastic </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 in with resentment </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ain silent</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language: “The Victim Stance”</a:t>
            </a:r>
            <a:endParaRPr b="0" lang="en-US" sz="3200" spc="-1" strike="noStrike">
              <a:solidFill>
                <a:srgbClr val="000000"/>
              </a:solidFill>
              <a:latin typeface="Calibri"/>
            </a:endParaRPr>
          </a:p>
        </p:txBody>
      </p:sp>
      <p:sp>
        <p:nvSpPr>
          <p:cNvPr id="627"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244D-07D3-4F09-B4A5-72FA981BF3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rtiveness</a:t>
            </a:r>
            <a:endParaRPr b="0" lang="en-US" sz="4400" spc="-1" strike="noStrike">
              <a:solidFill>
                <a:srgbClr val="000000"/>
              </a:solidFill>
              <a:latin typeface="Calibri"/>
            </a:endParaRPr>
          </a:p>
        </p:txBody>
      </p:sp>
      <p:sp>
        <p:nvSpPr>
          <p:cNvPr id="629" name=""/>
          <p:cNvSpPr txBox="1"/>
          <p:nvPr/>
        </p:nvSpPr>
        <p:spPr>
          <a:xfrm>
            <a:off x="380880" y="19051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rtiveness is an attitude and a way of positively relating to those around you; skills set for effective communication. </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yourself as having worth</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value others equally, respecting their right to an opinion</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e in communication respectfully, while also respecting your own opin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Slide Number Placeholder 3"/>
          <p:cNvSpPr/>
          <p:nvPr/>
        </p:nvSpPr>
        <p:spPr>
          <a:xfrm>
            <a:off x="380880" y="6400800"/>
            <a:ext cx="609840" cy="320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2DD0-8C85-4512-AA65-28B7C5CC27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rtion IS</a:t>
            </a:r>
            <a:endParaRPr b="0" lang="en-US" sz="4400" spc="-1" strike="noStrike">
              <a:solidFill>
                <a:srgbClr val="000000"/>
              </a:solidFill>
              <a:latin typeface="Calibri"/>
            </a:endParaRPr>
          </a:p>
        </p:txBody>
      </p:sp>
      <p:sp>
        <p:nvSpPr>
          <p:cNvPr id="632" name=""/>
          <p:cNvSpPr txBox="1"/>
          <p:nvPr/>
        </p:nvSpPr>
        <p:spPr>
          <a:xfrm>
            <a:off x="152280" y="1905120"/>
            <a:ext cx="8839440" cy="3657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eing appropriately assertive means:</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ed in thought and communication </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ak clearly and audibly</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avowing perfection while looking for clarification and common understanding</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ed by the entire team (not just a “subordinate” skill-set, and it must be valued by the receiver to 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
          <p:cNvSpPr txBox="1"/>
          <p:nvPr/>
        </p:nvSpPr>
        <p:spPr>
          <a:xfrm>
            <a:off x="609120" y="6476760"/>
            <a:ext cx="2590920" cy="2458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2004 Quality and Safety Research Group</a:t>
            </a:r>
            <a:endParaRPr b="0" lang="en-US" sz="1000" spc="-1" strike="noStrike">
              <a:solidFill>
                <a:srgbClr val="000000"/>
              </a:solidFill>
              <a:latin typeface="Calibri"/>
            </a:endParaRPr>
          </a:p>
        </p:txBody>
      </p:sp>
      <p:sp>
        <p:nvSpPr>
          <p:cNvPr id="634" name="Slide Number Placeholder 3"/>
          <p:cNvSpPr/>
          <p:nvPr/>
        </p:nvSpPr>
        <p:spPr>
          <a:xfrm>
            <a:off x="304920" y="6356520"/>
            <a:ext cx="304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8135-A722-46E8-BC8A-C889F03F4E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rtion Includes:</a:t>
            </a:r>
            <a:endParaRPr b="0" lang="en-US" sz="4400" spc="-1" strike="noStrike">
              <a:solidFill>
                <a:srgbClr val="000000"/>
              </a:solidFill>
              <a:latin typeface="Calibri"/>
            </a:endParaRPr>
          </a:p>
        </p:txBody>
      </p:sp>
      <p:sp>
        <p:nvSpPr>
          <p:cNvPr id="636" name=""/>
          <p:cNvSpPr txBox="1"/>
          <p:nvPr/>
        </p:nvSpPr>
        <p:spPr>
          <a:xfrm>
            <a:off x="456840" y="1752480"/>
            <a:ext cx="8001000" cy="4314960"/>
          </a:xfrm>
          <a:prstGeom prst="rect">
            <a:avLst/>
          </a:prstGeom>
          <a:noFill/>
          <a:ln w="0">
            <a:noFill/>
          </a:ln>
        </p:spPr>
        <p:txBody>
          <a:bodyPr anchor="t">
            <a:normAutofit/>
          </a:bodyPr>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ying “yes” when indicated, but “no” when you mean “no”</a:t>
            </a:r>
            <a:endParaRPr b="0" lang="en-US" sz="2800" spc="-1" strike="noStrike">
              <a:solidFill>
                <a:srgbClr val="000000"/>
              </a:solidFill>
              <a:latin typeface="Calibri"/>
            </a:endParaRPr>
          </a:p>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I” when not speaking for the team</a:t>
            </a:r>
            <a:endParaRPr b="0" lang="en-US" sz="2800" spc="-1" strike="noStrike">
              <a:solidFill>
                <a:srgbClr val="000000"/>
              </a:solidFill>
              <a:latin typeface="Calibri"/>
            </a:endParaRPr>
          </a:p>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ectively defending your position, even if it provokes conflict</a:t>
            </a:r>
            <a:endParaRPr b="0" lang="en-US" sz="2800" spc="-1" strike="noStrike">
              <a:solidFill>
                <a:srgbClr val="000000"/>
              </a:solidFill>
              <a:latin typeface="Calibri"/>
            </a:endParaRPr>
          </a:p>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language:  Secure, upright position in a relaxed manner, making eye contact, standing with open hands</a:t>
            </a:r>
            <a:endParaRPr b="0" lang="en-US" sz="2800" spc="-1" strike="noStrike">
              <a:solidFill>
                <a:srgbClr val="000000"/>
              </a:solidFill>
              <a:latin typeface="Calibri"/>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
          <p:cNvSpPr txBox="1"/>
          <p:nvPr/>
        </p:nvSpPr>
        <p:spPr>
          <a:xfrm>
            <a:off x="533520" y="6476760"/>
            <a:ext cx="3581280" cy="2458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2004 Quality and Safety Research Group</a:t>
            </a:r>
            <a:endParaRPr b="0" lang="en-US" sz="1000" spc="-1" strike="noStrike">
              <a:solidFill>
                <a:srgbClr val="000000"/>
              </a:solidFill>
              <a:latin typeface="Calibri"/>
            </a:endParaRPr>
          </a:p>
        </p:txBody>
      </p:sp>
      <p:sp>
        <p:nvSpPr>
          <p:cNvPr id="638" name="Slide Number Placeholder 2"/>
          <p:cNvSpPr/>
          <p:nvPr/>
        </p:nvSpPr>
        <p:spPr>
          <a:xfrm>
            <a:off x="152280" y="6400800"/>
            <a:ext cx="381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4509-196D-45B9-8B1F-E7CF77A034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ssertion  Is Not</a:t>
            </a:r>
            <a:endParaRPr b="0" lang="en-US" sz="3600" spc="-1" strike="noStrike">
              <a:solidFill>
                <a:srgbClr val="000000"/>
              </a:solidFill>
              <a:latin typeface="Calibri"/>
            </a:endParaRPr>
          </a:p>
        </p:txBody>
      </p:sp>
      <p:sp>
        <p:nvSpPr>
          <p:cNvPr id="640" name=""/>
          <p:cNvSpPr txBox="1"/>
          <p:nvPr/>
        </p:nvSpPr>
        <p:spPr>
          <a:xfrm>
            <a:off x="380880" y="1752480"/>
            <a:ext cx="6553440" cy="4525920"/>
          </a:xfrm>
          <a:prstGeom prst="rect">
            <a:avLst/>
          </a:prstGeom>
          <a:noFill/>
          <a:ln w="0">
            <a:noFill/>
          </a:ln>
        </p:spPr>
        <p:txBody>
          <a:bodyPr anchor="t">
            <a:normAutofit/>
          </a:bodyPr>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gressive </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stile</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rontational</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biguous</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eaning</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escending</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ish</a:t>
            </a:r>
            <a:endParaRPr b="0" lang="en-US" sz="3200" spc="-1" strike="noStrike">
              <a:solidFill>
                <a:srgbClr val="000000"/>
              </a:solidFill>
              <a:latin typeface="Calibri"/>
            </a:endParaRPr>
          </a:p>
        </p:txBody>
      </p:sp>
      <p:sp>
        <p:nvSpPr>
          <p:cNvPr id="641" name=""/>
          <p:cNvSpPr txBox="1"/>
          <p:nvPr/>
        </p:nvSpPr>
        <p:spPr>
          <a:xfrm>
            <a:off x="380880" y="6476760"/>
            <a:ext cx="2509920" cy="2761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42" name="Slide Number Placeholder 7"/>
          <p:cNvSpPr/>
          <p:nvPr/>
        </p:nvSpPr>
        <p:spPr>
          <a:xfrm>
            <a:off x="7632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3F5E-7750-4681-BD3A-0D6537E37E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mmunication to Improve Patient Safety: A Continuous Process</a:t>
            </a:r>
            <a:endParaRPr b="0" lang="en-US" sz="3600" spc="-1" strike="noStrike">
              <a:solidFill>
                <a:srgbClr val="000000"/>
              </a:solidFill>
              <a:latin typeface="Calibri"/>
            </a:endParaRPr>
          </a:p>
        </p:txBody>
      </p:sp>
      <p:grpSp>
        <p:nvGrpSpPr>
          <p:cNvPr id="644" name="Diagram 7"/>
          <p:cNvGrpSpPr/>
          <p:nvPr/>
        </p:nvGrpSpPr>
        <p:grpSpPr>
          <a:xfrm>
            <a:off x="838080" y="1828800"/>
            <a:ext cx="7695720" cy="4419000"/>
            <a:chOff x="838080" y="1828800"/>
            <a:chExt cx="7695720" cy="4419000"/>
          </a:xfrm>
        </p:grpSpPr>
        <p:sp>
          <p:nvSpPr>
            <p:cNvPr id="645" name="_s1028"/>
            <p:cNvSpPr/>
            <p:nvPr/>
          </p:nvSpPr>
          <p:spPr>
            <a:xfrm>
              <a:off x="2067840" y="1828800"/>
              <a:ext cx="5235840" cy="3006360"/>
            </a:xfrm>
            <a:custGeom>
              <a:avLst/>
              <a:gdLst>
                <a:gd name="textAreaLeft" fmla="*/ 767160 w 5235840"/>
                <a:gd name="textAreaRight" fmla="*/ 4468680 w 5235840"/>
                <a:gd name="textAreaTop" fmla="*/ 440280 h 3006360"/>
                <a:gd name="textAreaBottom" fmla="*/ 2566080 h 300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6" name="_s1029"/>
            <p:cNvSpPr/>
            <p:nvPr/>
          </p:nvSpPr>
          <p:spPr>
            <a:xfrm rot="5400000">
              <a:off x="4412880" y="1420560"/>
              <a:ext cx="3006360" cy="5235120"/>
            </a:xfrm>
            <a:custGeom>
              <a:avLst/>
              <a:gdLst>
                <a:gd name="textAreaLeft" fmla="*/ 440280 w 3006360"/>
                <a:gd name="textAreaRight" fmla="*/ 2566080 w 3006360"/>
                <a:gd name="textAreaTop" fmla="*/ 766800 h 5235120"/>
                <a:gd name="textAreaBottom" fmla="*/ 4468320 h 52351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_s1030"/>
            <p:cNvSpPr/>
            <p:nvPr/>
          </p:nvSpPr>
          <p:spPr>
            <a:xfrm rot="10800000">
              <a:off x="2067840" y="3241440"/>
              <a:ext cx="5235840" cy="3006360"/>
            </a:xfrm>
            <a:custGeom>
              <a:avLst/>
              <a:gdLst>
                <a:gd name="textAreaLeft" fmla="*/ 767160 w 5235840"/>
                <a:gd name="textAreaRight" fmla="*/ 4468680 w 5235840"/>
                <a:gd name="textAreaTop" fmla="*/ 440280 h 3006360"/>
                <a:gd name="textAreaBottom" fmla="*/ 2566080 h 300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8" name="_s1031"/>
            <p:cNvSpPr/>
            <p:nvPr/>
          </p:nvSpPr>
          <p:spPr>
            <a:xfrm rot="16200000">
              <a:off x="1952280" y="1420200"/>
              <a:ext cx="3006360" cy="5235120"/>
            </a:xfrm>
            <a:custGeom>
              <a:avLst/>
              <a:gdLst>
                <a:gd name="textAreaLeft" fmla="*/ 440280 w 3006360"/>
                <a:gd name="textAreaRight" fmla="*/ 2566080 w 3006360"/>
                <a:gd name="textAreaTop" fmla="*/ 766800 h 5235120"/>
                <a:gd name="textAreaBottom" fmla="*/ 4468320 h 52351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9" name="_s1032"/>
            <p:cNvSpPr/>
            <p:nvPr/>
          </p:nvSpPr>
          <p:spPr>
            <a:xfrm>
              <a:off x="6079680" y="2105280"/>
              <a:ext cx="197136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t Atten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Names Fir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_s1033"/>
            <p:cNvSpPr/>
            <p:nvPr/>
          </p:nvSpPr>
          <p:spPr>
            <a:xfrm>
              <a:off x="6082560" y="4838400"/>
              <a:ext cx="197208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the issu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_s1034"/>
            <p:cNvSpPr/>
            <p:nvPr/>
          </p:nvSpPr>
          <p:spPr>
            <a:xfrm>
              <a:off x="1323360" y="4840560"/>
              <a:ext cx="197208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 Action</a:t>
              </a:r>
              <a:endParaRPr b="0" lang="en-US" sz="2000" spc="-1" strike="noStrike">
                <a:solidFill>
                  <a:srgbClr val="000000"/>
                </a:solidFill>
                <a:latin typeface="Arial"/>
              </a:endParaRPr>
            </a:p>
          </p:txBody>
        </p:sp>
        <p:sp>
          <p:nvSpPr>
            <p:cNvPr id="652" name="_s1035"/>
            <p:cNvSpPr/>
            <p:nvPr/>
          </p:nvSpPr>
          <p:spPr>
            <a:xfrm>
              <a:off x="1320480" y="2107440"/>
              <a:ext cx="197136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 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 of Action</a:t>
              </a:r>
              <a:endParaRPr b="0" lang="en-US" sz="2000" spc="-1" strike="noStrike">
                <a:solidFill>
                  <a:srgbClr val="000000"/>
                </a:solidFill>
                <a:latin typeface="Arial"/>
              </a:endParaRPr>
            </a:p>
          </p:txBody>
        </p:sp>
      </p:grpSp>
      <p:sp>
        <p:nvSpPr>
          <p:cNvPr id="653" name=""/>
          <p:cNvSpPr txBox="1"/>
          <p:nvPr/>
        </p:nvSpPr>
        <p:spPr>
          <a:xfrm>
            <a:off x="756720" y="6400440"/>
            <a:ext cx="2667240" cy="276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54" name="Slide Number Placeholder 3"/>
          <p:cNvSpPr/>
          <p:nvPr/>
        </p:nvSpPr>
        <p:spPr>
          <a:xfrm>
            <a:off x="152280" y="6324480"/>
            <a:ext cx="3812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DA4A-0C64-4D42-9455-537D2CF5ED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8:52Z</dcterms:created>
  <dc:creator>thret1</dc:creator>
  <dc:description/>
  <dc:language>en-US</dc:language>
  <cp:lastModifiedBy>Karen Fleming-Michael</cp:lastModifiedBy>
  <dcterms:modified xsi:type="dcterms:W3CDTF">2012-12-21T18:24:26Z</dcterms:modified>
  <cp:revision>295</cp:revision>
  <dc:subject/>
  <dc:title>On the CUSP: Stop BS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5149243E18E894E866B845766CF3156</vt:lpwstr>
  </property>
</Properties>
</file>