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1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0" name="PlaceHolder 5"/>
          <p:cNvSpPr>
            <a:spLocks noGrp="1"/>
          </p:cNvSpPr>
          <p:nvPr>
            <p:ph type="ftr" idx="1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1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D515-EDCF-4675-B19B-E2B9C9A63A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3F30-8D22-4269-9324-02D7202AC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some of the communication styles we use everyday in this module. What is important to note is that no matter how hard we try to be a clear and assertive communicator, there will always be a chance that we fall back on less effective methods.  This can be because of the situation, the history between the person with whom we are having the discussion and ourselves. We try not to make things personal but it takes practice and vigi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0621-E39E-46A1-BCE9-AAA60761F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0B65-8E45-4388-8AB8-9A9FBC71D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925B-6910-497B-B2A7-E2609B7C5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s summarizes the twin interventions of this effor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elements of the Comprehensive Unit-based Safety Program or CUSP</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5 evidence-based techniques and strategies for eliminating CLABSI</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04A-1BFA-4CFA-ADCD-EFA25DD30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804EF-F2AA-4528-887F-7F3EB243B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FD6980-6808-45D6-A5FB-A50CA74706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584D54B-0646-44F4-B00B-5BECA6421C2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22BE460-D552-41C6-A8B7-4AB9C4A427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FBAEB3F-6A5F-40DD-88BC-94E49C4632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F37D686-4475-439A-8060-92CF7F5A1A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C1C48EC-7C9C-4E22-9968-6017C098C0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AF13FFD-41EA-4104-8472-ACB960991DA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6A9D5C5-D663-4E4F-8DC5-F52C6F25094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F4AFE0A-8DA6-4FB5-9F37-B2D32700652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2E16B7E-F5FD-4CE2-9661-3095752AD4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42EBB4C-71F0-4E46-AEA8-25A6244E45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B3110A6-7212-42C4-B5B3-82BFAEF2E7A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A211FC-A352-4008-B00F-4351C7FCC7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9D9CE5A-69DD-4416-86A3-ACFD4E076DD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58D1B12-D00F-4CE6-9DE7-87E4A87D26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00A3CCF-0C3F-4AB5-BA66-059F89434D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40D494A-8EB0-48A0-A981-6C4E658D2E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45E9835-6B83-49D7-BFB5-A277F94613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478AB4A-8625-472F-B231-FC44F91D41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A24C367-EA18-4EC5-81F3-FF75652DBC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B2EAF54-A24D-4CD9-9036-D9635E705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039483-E32E-4FB4-83CE-445A7D25991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B8FBFE1-68C6-439D-93AF-9EB54E8EA4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6FA38E86-4191-4F99-9201-A9C8CBAC06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A62BA9C-9846-4427-8517-47404640F20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531F10E-48E8-4F3D-86FC-C889CB861A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AAF783-2662-4F95-A86E-FBC19069E1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21384D-9277-44EC-B6A6-229C049933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2290CE-66D0-4BAB-BBF4-0ED8643E22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DC1F21-3770-45F7-A811-1835CDDB1B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3BFD690-CDB9-4AF7-A3CA-A7FC4C89F6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FF83C9-1E32-4D45-84A1-C458AC6119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607452A-567F-4EFB-9CFD-CA9E56729D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8EAD55-2941-4543-861E-91C88E20A2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997323-0347-483F-B645-24839EDE59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AE2E08C-F4C2-43D4-BD98-6829917B02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C6B0B6-1640-4A5E-A574-FBBE58F8CDB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4D99FDD-48A5-45BD-BD08-0FE02F1C7A2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6E83E72-01A9-4A90-965B-2DDE6965029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4551BEF-618D-411A-9500-2F6B721FA04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195A62-5547-4FF0-AEFA-3278AF16BA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3001FF2-D4A9-4FD3-8FF5-0198CFD1691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CE8C45-3CD5-4EB1-B37E-47F9E33E728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CFD551-1CFD-4C41-8AF7-95FFD27BCC5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074C55B-90AA-4E87-AC4A-CA193D3D751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40C473-9409-4452-BE20-3CFE2AC3142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026A2E-3DA7-4EA5-B5D2-A9812D5D92C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8CE29E2-653B-4852-8E51-9DB376B53F8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85AFCA3-9914-4ED7-85C5-D5B58F41BE7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776315D-7F10-48C6-B1E2-E53A945CDB0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9D621B0-D1E2-4CAE-8213-F50189A790C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256D07B-5ED9-414B-8B1C-E26E7983BB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F3BCE41-F722-4611-A521-0C9C795345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62A21F5-DD53-43C5-A854-5771DFDBC7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330D49-78DB-40F1-96A2-D049F941B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A1FF5EB-CEB5-4442-8A68-D6C90863C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404C68-7EB3-4B86-802B-B6744FC9C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253E4E-8792-46A6-B77E-B408C4AAE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043C8A-E387-4DA3-B1D5-A7700B9909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1AD5422-E3C6-4687-B879-A57B8D29B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2141B0B-3655-42D0-AE09-641A93142C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CCC3BF-388E-44EE-8AC6-5CA4463E85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B95E38-4C7A-4A7F-BA13-9106A9853C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64BDC27-7051-4949-9C9E-4E2853D413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EEAD40-4EFE-4F1B-B29B-5402734A60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43CB85B-DF7D-431E-8FD7-6E88D31231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4B35C7-6118-4051-A4F3-0026A1ABB3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7FB7E09-29FB-4289-BED7-E4A5B6488E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C8A8EE-1F71-440E-9859-84B937DA36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6997DE-9F5B-45C1-915D-131F9DF15B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E27D8F-BD79-4B7C-B33A-91A17A4F33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19ED007-D197-4DF7-9456-63E68EE6F4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06014BD-450A-4428-8525-931A32F585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3A45E20-A716-47F2-9ED4-E758294B6B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87FB9-A986-44E7-8868-A4CA234EBC1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7124A10-2314-4250-AA25-C1BF7069A0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6EA5A6-21A1-43A6-AAAB-CC8FF59A99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CC1EB6-67E7-49A7-9FE6-EB2ED12906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064995-C7D8-4736-84A8-D960B70AB7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8E28DC6-B859-4850-8864-478078A319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AF83F05-4156-42D8-A322-BF238EA6A2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F0F4AA-36B3-4F80-A384-4CCD0F24AE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59E104-51C3-474B-96AD-365F4F84262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E337DE-13D5-4B3A-BA02-7FAF6F37AC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C02F92-2498-48EE-B313-D319A320FF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2D6AFE8-CF18-4820-99C2-8207F7CEB7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6A6ED50-634B-45CA-B6D3-22739206307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E9A246-DFD1-4156-BB3F-67EFE2B5D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0B5B175-296D-4EAE-A752-28A6CD0125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54615F-3B2D-44B3-A567-CBE10F5C53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FBDC54-1665-42CE-908B-D30B0B6093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B260DA-6C5C-471B-9EA9-2F06986803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69CF011-5D27-4C7F-B24D-6670F4BB60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8831A4E-0806-4F21-9F67-02FA060406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4CEE6F-D307-4CBF-A3B5-0A5E684F52D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7B8028-040D-43F7-8788-40FC07BED8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8044C4-7E77-42AC-A399-892EC7D1DA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D24A03-4BB6-4DF0-A725-A86F7AC02A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F0FD8C-4820-4641-B5CE-4A1354023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6A361B-ED45-4C5E-AEAB-44E0561AB5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B0500BB-E1B0-4666-8828-634FE4D54F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8914787-7D54-46F8-8B9E-FBBE0D159A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01EB4A4-A881-458E-A487-D9015DA7E2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B33D9B7-2AF3-4EB4-92FA-8782176958F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077B989-CEC7-4ABF-B7EB-51CC57862F2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69D3FA2-C5C2-4BC5-B626-95F9373521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7311FAF-32A7-4222-A2CD-FC6EB50E5D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E2A4A8-35D8-4D97-BEBE-FEDF25E6CC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0D424B-377F-490D-8CB5-DF218E6DBA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A7CFD2-DB6A-4018-97FF-A8BB837E59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04163C-09E5-4006-8288-BFBC77FD08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C488C0-C814-4A18-8029-C4A2E68BD5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525177-8EA9-47A7-9C96-5964E1ACC3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D657A7C-F753-46F3-8086-6E01DC8A11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D111A9A-55F4-4496-A525-75B763F8B1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E784384-A59E-4433-8263-07CEFA6442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126993A-62C6-4CA9-9D5A-CA1C43D6F40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965A5B0-C1C9-4120-A362-4FB6AA19CD0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A51E7FD-DA1A-455F-B80B-D038FD459B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3C892F5-9F21-40DA-9767-8BBE4F8E51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F6396E6-2872-4FA1-B8F3-D94C13F39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12D9E4-D4C7-42A2-9A9A-9FCDCFDA88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1ECD7AD-4DE5-4ED0-9614-F05D6DCFDDF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79AD7D3-41CF-4E77-B713-444379F9B7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E14E95E-2FB7-4662-810E-E4641197C1F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860BF39-EFAF-4A52-B0A6-11F99C05F3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267E5432-566B-44A8-AA55-76F8868816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D7B7BD3-41F1-4D10-BD49-298CFED34A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5E421B1-5791-4DC3-A564-E62BFEFEDC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7E80AD8-8705-405D-9DA4-953C5B3E78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07B3B78-3899-446A-89D8-D1A908B051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50C40F8-DB4E-41AB-BA4D-B7489ECDA0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4FF5841-57C8-45BA-BA83-0E9271063A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78EE746-5A70-4EED-8760-FD2365BDA3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29D4BCF-1E37-48FA-BF97-4825F01077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56E8CCA-DE60-440B-902F-3419A9D55B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5FB4778-BB0B-4551-98A1-98B5A4ED73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A8C25CE-A49B-4A4A-A7A5-7F74B9A351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6FC83681-ED90-46F2-ADE8-CBEF4607D2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67E5C7C-5023-46A1-A838-EBFDF942E5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9C93A06-0906-4A84-BEC0-F814FC6020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A602BBA-A791-4949-AB29-FBAC07F8D2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51C279-425E-46F3-A142-36B16C067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8BB9-A16E-4919-98E4-8B368E9668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Picture 10" descr="alt=&quot;&quot;"/>
          <p:cNvPicPr/>
          <p:nvPr/>
        </p:nvPicPr>
        <p:blipFill>
          <a:blip r:embed="rId2"/>
          <a:stretch/>
        </p:blipFill>
        <p:spPr>
          <a:xfrm>
            <a:off x="6696000" y="5665680"/>
            <a:ext cx="2448000" cy="119232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1" name="PlaceHolder 3"/>
          <p:cNvSpPr>
            <a:spLocks noGrp="1"/>
          </p:cNvSpPr>
          <p:nvPr>
            <p:ph type="sldNum" idx="10"/>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E5DC-7FDE-4B68-9907-3E9B73D075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CC1C-A33F-4012-87B8-0DDA2D9C521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1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13"/>
          </p:nvPr>
        </p:nvSpPr>
        <p:spPr>
          <a:xfrm>
            <a:off x="30492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C782-8CF6-4569-96B1-D46FF2E5A5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3" name="Picture 10" descr="CUSP-LOGO-no-tagline.gif"/>
          <p:cNvPicPr/>
          <p:nvPr/>
        </p:nvPicPr>
        <p:blipFill>
          <a:blip r:embed="rId2"/>
          <a:stretch/>
        </p:blipFill>
        <p:spPr>
          <a:xfrm>
            <a:off x="6696000" y="5665680"/>
            <a:ext cx="2448000" cy="11923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83BF-C473-430A-9728-3952C027399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6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5"/>
          <p:cNvSpPr>
            <a:spLocks noGrp="1"/>
          </p:cNvSpPr>
          <p:nvPr>
            <p:ph type="sldNum" idx="16"/>
          </p:nvPr>
        </p:nvSpPr>
        <p:spPr>
          <a:xfrm>
            <a:off x="3805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9555-8BA1-4B39-84F4-3B8A15B319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0" descr="alt=&quot;&quot;"/>
          <p:cNvPicPr/>
          <p:nvPr/>
        </p:nvPicPr>
        <p:blipFill>
          <a:blip r:embed="rId2"/>
          <a:stretch/>
        </p:blipFill>
        <p:spPr>
          <a:xfrm>
            <a:off x="6696000" y="5665680"/>
            <a:ext cx="2448000" cy="11923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sldNum" idx="2"/>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AC3B-8886-42C4-80C2-3D770BB445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Picture 10" descr="alt=&quot;&quot;"/>
          <p:cNvPicPr/>
          <p:nvPr/>
        </p:nvPicPr>
        <p:blipFill>
          <a:blip r:embed="rId2"/>
          <a:stretch/>
        </p:blipFill>
        <p:spPr>
          <a:xfrm>
            <a:off x="6696000" y="5665680"/>
            <a:ext cx="2448000" cy="11923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sldNum" idx="3"/>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7CCA-4D02-4A7D-9940-61FE5FF859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0" descr="alt=&quot;&quot;"/>
          <p:cNvPicPr/>
          <p:nvPr/>
        </p:nvPicPr>
        <p:blipFill>
          <a:blip r:embed="rId2"/>
          <a:stretch/>
        </p:blipFill>
        <p:spPr>
          <a:xfrm>
            <a:off x="6696000" y="5665680"/>
            <a:ext cx="2448000" cy="119232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 name="PlaceHolder 3"/>
          <p:cNvSpPr>
            <a:spLocks noGrp="1"/>
          </p:cNvSpPr>
          <p:nvPr>
            <p:ph type="sldNum" idx="4"/>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FB27-6D9A-470B-8507-611F1577B6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Picture 10" descr="alt=&quot;&quot;"/>
          <p:cNvPicPr/>
          <p:nvPr/>
        </p:nvPicPr>
        <p:blipFill>
          <a:blip r:embed="rId2"/>
          <a:stretch/>
        </p:blipFill>
        <p:spPr>
          <a:xfrm>
            <a:off x="6696000" y="5665680"/>
            <a:ext cx="2448000" cy="119232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 name="PlaceHolder 3"/>
          <p:cNvSpPr>
            <a:spLocks noGrp="1"/>
          </p:cNvSpPr>
          <p:nvPr>
            <p:ph type="sldNum" idx="5"/>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8BCA-6411-4FEB-9650-58941C2111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Picture 10" descr="alt=&quot;&quot;"/>
          <p:cNvPicPr/>
          <p:nvPr/>
        </p:nvPicPr>
        <p:blipFill>
          <a:blip r:embed="rId2"/>
          <a:stretch/>
        </p:blipFill>
        <p:spPr>
          <a:xfrm>
            <a:off x="6696000" y="5665680"/>
            <a:ext cx="2448000" cy="1192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sldNum" idx="6"/>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D502-CDA6-4442-8C9A-EA68229A79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 name="Picture 10" descr="alt=&quot;&quot;"/>
          <p:cNvPicPr/>
          <p:nvPr/>
        </p:nvPicPr>
        <p:blipFill>
          <a:blip r:embed="rId2"/>
          <a:stretch/>
        </p:blipFill>
        <p:spPr>
          <a:xfrm>
            <a:off x="6696000" y="5665680"/>
            <a:ext cx="2448000" cy="119232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sldNum" idx="7"/>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9450-EF10-4D1B-A216-DE0728DDA5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Picture 10" descr="alt=&quot;&quot;"/>
          <p:cNvPicPr/>
          <p:nvPr/>
        </p:nvPicPr>
        <p:blipFill>
          <a:blip r:embed="rId2"/>
          <a:stretch/>
        </p:blipFill>
        <p:spPr>
          <a:xfrm>
            <a:off x="6696000" y="5665680"/>
            <a:ext cx="2448000" cy="119232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sldNum" idx="8"/>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4103-3F6C-4EC5-8AAA-54BCDF1A99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6"/>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7"/>
          <p:cNvSpPr/>
          <p:nvPr/>
        </p:nvSpPr>
        <p:spPr>
          <a:xfrm>
            <a:off x="0" y="144792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1523880"/>
            <a:ext cx="9144000" cy="5334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3" name="Picture 10" descr="alt=&quot;&quot;"/>
          <p:cNvPicPr/>
          <p:nvPr/>
        </p:nvPicPr>
        <p:blipFill>
          <a:blip r:embed="rId2"/>
          <a:stretch/>
        </p:blipFill>
        <p:spPr>
          <a:xfrm>
            <a:off x="6696000" y="5665680"/>
            <a:ext cx="2448000" cy="11923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sldNum" idx="9"/>
          </p:nvPr>
        </p:nvSpPr>
        <p:spPr>
          <a:xfrm>
            <a:off x="456840" y="632412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AFCF-5156-457B-9ACA-90CAEA177C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23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n the CUSP: Stop BSI</a:t>
            </a:r>
            <a:br>
              <a:rPr sz="4400"/>
            </a:br>
            <a:r>
              <a:rPr b="0" lang="en-US" sz="4400" spc="-1" strike="noStrike">
                <a:solidFill>
                  <a:srgbClr val="ffffff"/>
                </a:solidFill>
                <a:latin typeface="Calibri"/>
              </a:rPr>
              <a:t>Appropriate Assertion</a:t>
            </a:r>
            <a:endParaRPr b="0" lang="en-US" sz="4400" spc="-1" strike="noStrike">
              <a:solidFill>
                <a:srgbClr val="000000"/>
              </a:solidFill>
              <a:latin typeface="Calibri"/>
            </a:endParaRPr>
          </a:p>
        </p:txBody>
      </p:sp>
      <p:sp>
        <p:nvSpPr>
          <p:cNvPr id="613" name="PlaceHolder 2"/>
          <p:cNvSpPr>
            <a:spLocks noGrp="1"/>
          </p:cNvSpPr>
          <p:nvPr>
            <p:ph type="subTitle"/>
          </p:nvPr>
        </p:nvSpPr>
        <p:spPr>
          <a:xfrm>
            <a:off x="380880" y="2590920"/>
            <a:ext cx="830592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David Thompson, DNSc, MS, R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Jill Marsteller, PhD, MPP</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Department of Anesthesiology and Critical Care Medicin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The Johns Hopkins Quality and Safety Research Group</a:t>
            </a:r>
            <a:endParaRPr b="0" lang="en-US" sz="1800" spc="-1" strike="noStrike">
              <a:solidFill>
                <a:srgbClr val="000000"/>
              </a:solidFill>
              <a:latin typeface="Calibri"/>
            </a:endParaRPr>
          </a:p>
        </p:txBody>
      </p:sp>
      <p:pic>
        <p:nvPicPr>
          <p:cNvPr id="614" name="Picture 10" descr="CUSP-LOGO-no-tagline.gif"/>
          <p:cNvPicPr/>
          <p:nvPr/>
        </p:nvPicPr>
        <p:blipFill>
          <a:blip r:embed="rId1"/>
          <a:stretch/>
        </p:blipFill>
        <p:spPr>
          <a:xfrm>
            <a:off x="6797520" y="5715000"/>
            <a:ext cx="234648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 </a:t>
            </a:r>
            <a:r>
              <a:rPr b="0" lang="en-US" sz="3600" spc="-1" strike="noStrike">
                <a:solidFill>
                  <a:srgbClr val="ffffff"/>
                </a:solidFill>
                <a:latin typeface="Calibri"/>
              </a:rPr>
              <a:t>Helpful Hints in Applying</a:t>
            </a:r>
            <a:br>
              <a:rPr sz="3600"/>
            </a:br>
            <a:r>
              <a:rPr b="0" lang="en-US" sz="3600" spc="-1" strike="noStrike">
                <a:solidFill>
                  <a:srgbClr val="ffffff"/>
                </a:solidFill>
                <a:latin typeface="Calibri"/>
              </a:rPr>
              <a:t>The Assertion Model</a:t>
            </a:r>
            <a:endParaRPr b="0" lang="en-US" sz="3600" spc="-1" strike="noStrike">
              <a:solidFill>
                <a:srgbClr val="000000"/>
              </a:solidFill>
              <a:latin typeface="Calibri"/>
            </a:endParaRPr>
          </a:p>
        </p:txBody>
      </p:sp>
      <p:sp>
        <p:nvSpPr>
          <p:cNvPr id="656" name=""/>
          <p:cNvSpPr txBox="1"/>
          <p:nvPr/>
        </p:nvSpPr>
        <p:spPr>
          <a:xfrm>
            <a:off x="456840" y="1646280"/>
            <a:ext cx="8001000" cy="4525920"/>
          </a:xfrm>
          <a:prstGeom prst="rect">
            <a:avLst/>
          </a:prstGeom>
          <a:noFill/>
          <a:ln w="0">
            <a:noFill/>
          </a:ln>
        </p:spPr>
        <p:txBody>
          <a:bodyPr anchor="t">
            <a:normAutofit/>
          </a:bodyPr>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the common goal: Quality care, the welfare of the patient, safety; it’s hard to disagree with safe, high-quality care</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the issue of who’s right and who’s wrong</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tient-centered care”– It is not who is right or who is wrong, it is what is best for the patient</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rsonalize the conversation</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ly avoid being perceived as judgmental</a:t>
            </a:r>
            <a:endParaRPr b="0" lang="en-US" sz="2800" spc="-1" strike="noStrike">
              <a:solidFill>
                <a:srgbClr val="000000"/>
              </a:solidFill>
              <a:latin typeface="Calibri"/>
            </a:endParaRPr>
          </a:p>
          <a:p>
            <a:pPr marL="343080" indent="-343080">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rd on the problem, not the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
          <p:cNvSpPr txBox="1"/>
          <p:nvPr/>
        </p:nvSpPr>
        <p:spPr>
          <a:xfrm>
            <a:off x="838080" y="640044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8" name="Slide Number Placeholder 3"/>
          <p:cNvSpPr/>
          <p:nvPr/>
        </p:nvSpPr>
        <p:spPr>
          <a:xfrm>
            <a:off x="304920" y="6356520"/>
            <a:ext cx="3808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A301-B26F-49B6-8475-F79BD9EDF9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roving Assertion</a:t>
            </a:r>
            <a:endParaRPr b="0" lang="en-US" sz="4400" spc="-1" strike="noStrike">
              <a:solidFill>
                <a:srgbClr val="000000"/>
              </a:solidFill>
              <a:latin typeface="Calibri"/>
            </a:endParaRPr>
          </a:p>
        </p:txBody>
      </p:sp>
      <p:sp>
        <p:nvSpPr>
          <p:cNvPr id="660" name=""/>
          <p:cNvSpPr txBox="1"/>
          <p:nvPr/>
        </p:nvSpPr>
        <p:spPr>
          <a:xfrm>
            <a:off x="304920" y="1933560"/>
            <a:ext cx="4495680" cy="43020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mes First -</a:t>
            </a:r>
            <a:r>
              <a:rPr b="0" lang="en-US" sz="2400" spc="-1" strike="noStrike">
                <a:solidFill>
                  <a:srgbClr val="000000"/>
                </a:solidFill>
                <a:latin typeface="Calibri"/>
              </a:rPr>
              <a:t> get their atten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eye contact </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you concern and feeling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the issue (clear, concise)</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 action(s)</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ssert as necessary</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ee on course of action</a:t>
            </a:r>
            <a:endParaRPr b="0" lang="en-US" sz="2400" spc="-1" strike="noStrike">
              <a:solidFill>
                <a:srgbClr val="000000"/>
              </a:solidFill>
              <a:latin typeface="Calibri"/>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calate if no resolution</a:t>
            </a:r>
            <a:endParaRPr b="0" lang="en-US" sz="2400" spc="-1" strike="noStrike">
              <a:solidFill>
                <a:srgbClr val="000000"/>
              </a:solidFill>
              <a:latin typeface="Calibri"/>
            </a:endParaRPr>
          </a:p>
        </p:txBody>
      </p:sp>
      <p:grpSp>
        <p:nvGrpSpPr>
          <p:cNvPr id="661" name="Diagram 8"/>
          <p:cNvGrpSpPr/>
          <p:nvPr/>
        </p:nvGrpSpPr>
        <p:grpSpPr>
          <a:xfrm>
            <a:off x="5334120" y="2390760"/>
            <a:ext cx="3276000" cy="3018960"/>
            <a:chOff x="5334120" y="2390760"/>
            <a:chExt cx="3276000" cy="3018960"/>
          </a:xfrm>
        </p:grpSpPr>
        <p:sp>
          <p:nvSpPr>
            <p:cNvPr id="662" name="_s2052"/>
            <p:cNvSpPr/>
            <p:nvPr/>
          </p:nvSpPr>
          <p:spPr>
            <a:xfrm>
              <a:off x="6176160" y="2390760"/>
              <a:ext cx="2228760" cy="2191320"/>
            </a:xfrm>
            <a:custGeom>
              <a:avLst/>
              <a:gdLst>
                <a:gd name="textAreaLeft" fmla="*/ 326520 w 2228760"/>
                <a:gd name="textAreaRight" fmla="*/ 1902240 w 2228760"/>
                <a:gd name="textAreaTop" fmla="*/ 321120 h 2191320"/>
                <a:gd name="textAreaBottom" fmla="*/ 1870200 h 2191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3" name="_s2053"/>
            <p:cNvSpPr/>
            <p:nvPr/>
          </p:nvSpPr>
          <p:spPr>
            <a:xfrm rot="5400000">
              <a:off x="640008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_s2054"/>
            <p:cNvSpPr/>
            <p:nvPr/>
          </p:nvSpPr>
          <p:spPr>
            <a:xfrm rot="10800000">
              <a:off x="5857560" y="3218760"/>
              <a:ext cx="2229120" cy="2190960"/>
            </a:xfrm>
            <a:custGeom>
              <a:avLst/>
              <a:gdLst>
                <a:gd name="textAreaLeft" fmla="*/ 326520 w 2229120"/>
                <a:gd name="textAreaRight" fmla="*/ 1902600 w 2229120"/>
                <a:gd name="textAreaTop" fmla="*/ 320760 h 2190960"/>
                <a:gd name="textAreaBottom" fmla="*/ 1870200 h 2190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_s2055"/>
            <p:cNvSpPr/>
            <p:nvPr/>
          </p:nvSpPr>
          <p:spPr>
            <a:xfrm rot="16200000">
              <a:off x="5352840" y="2684520"/>
              <a:ext cx="2190960" cy="2228760"/>
            </a:xfrm>
            <a:custGeom>
              <a:avLst/>
              <a:gdLst>
                <a:gd name="textAreaLeft" fmla="*/ 320760 w 2190960"/>
                <a:gd name="textAreaRight" fmla="*/ 1870200 w 2190960"/>
                <a:gd name="textAreaTop" fmla="*/ 326520 h 2228760"/>
                <a:gd name="textAreaBottom" fmla="*/ 1902240 h 22287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_s2056"/>
            <p:cNvSpPr/>
            <p:nvPr/>
          </p:nvSpPr>
          <p:spPr>
            <a:xfrm>
              <a:off x="7565400" y="239076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Get Attenti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NAMES Firs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7" name="_s2057"/>
            <p:cNvSpPr/>
            <p:nvPr/>
          </p:nvSpPr>
          <p:spPr>
            <a:xfrm>
              <a:off x="7566840" y="438264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he issu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8" name="_s2058"/>
            <p:cNvSpPr/>
            <p:nvPr/>
          </p:nvSpPr>
          <p:spPr>
            <a:xfrm>
              <a:off x="5540760" y="4384080"/>
              <a:ext cx="83952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ose Action</a:t>
              </a:r>
              <a:endParaRPr b="0" lang="en-US" sz="900" spc="-1" strike="noStrike">
                <a:solidFill>
                  <a:srgbClr val="000000"/>
                </a:solidFill>
                <a:latin typeface="Arial"/>
              </a:endParaRPr>
            </a:p>
          </p:txBody>
        </p:sp>
        <p:sp>
          <p:nvSpPr>
            <p:cNvPr id="669" name="_s2059"/>
            <p:cNvSpPr/>
            <p:nvPr/>
          </p:nvSpPr>
          <p:spPr>
            <a:xfrm>
              <a:off x="5539320" y="2392200"/>
              <a:ext cx="839160" cy="825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ree 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se of Action</a:t>
              </a:r>
              <a:endParaRPr b="0" lang="en-US" sz="900" spc="-1" strike="noStrike">
                <a:solidFill>
                  <a:srgbClr val="000000"/>
                </a:solidFill>
                <a:latin typeface="Arial"/>
              </a:endParaRPr>
            </a:p>
          </p:txBody>
        </p:sp>
      </p:grpSp>
      <p:sp>
        <p:nvSpPr>
          <p:cNvPr id="670" name=""/>
          <p:cNvSpPr txBox="1"/>
          <p:nvPr/>
        </p:nvSpPr>
        <p:spPr>
          <a:xfrm>
            <a:off x="685800" y="6400440"/>
            <a:ext cx="250992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71" name="Slide Number Placeholder 3"/>
          <p:cNvSpPr/>
          <p:nvPr/>
        </p:nvSpPr>
        <p:spPr>
          <a:xfrm>
            <a:off x="28440" y="6324480"/>
            <a:ext cx="6098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8CE2-E458-473E-8F82-25079463D1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37.  “It is easy for personnel in this ICU to ask questions when there is something that they do not understand</a:t>
            </a:r>
            <a:endParaRPr b="0" lang="en-US" sz="2800" spc="-1" strike="noStrike">
              <a:solidFill>
                <a:srgbClr val="000000"/>
              </a:solidFill>
              <a:latin typeface="Calibri"/>
            </a:endParaRPr>
          </a:p>
        </p:txBody>
      </p:sp>
      <p:graphicFrame>
        <p:nvGraphicFramePr>
          <p:cNvPr id="673" name="Object 4"/>
          <p:cNvGraphicFramePr/>
          <p:nvPr/>
        </p:nvGraphicFramePr>
        <p:xfrm>
          <a:off x="990720" y="1752480"/>
          <a:ext cx="5943600" cy="4448160"/>
        </p:xfrm>
        <a:graphic>
          <a:graphicData uri="http://schemas.openxmlformats.org/presentationml/2006/ole">
            <p:oleObj r:id="rId1" spid="">
              <p:embed/>
              <p:pic>
                <p:nvPicPr>
                  <p:cNvPr id="674" name="Object 4" descr="An Image of a graph "/>
                  <p:cNvPicPr/>
                  <p:nvPr/>
                </p:nvPicPr>
                <p:blipFill>
                  <a:blip r:embed="rId2"/>
                  <a:stretch/>
                </p:blipFill>
                <p:spPr>
                  <a:xfrm>
                    <a:off x="990720" y="1752480"/>
                    <a:ext cx="5943600" cy="4448160"/>
                  </a:xfrm>
                  <a:prstGeom prst="rect">
                    <a:avLst/>
                  </a:prstGeom>
                  <a:ln w="0">
                    <a:noFill/>
                  </a:ln>
                </p:spPr>
              </p:pic>
            </p:oleObj>
          </a:graphicData>
        </a:graphic>
      </p:graphicFrame>
      <p:sp>
        <p:nvSpPr>
          <p:cNvPr id="675" name="Slide Number Placeholder 5"/>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FCAA-6EC0-404D-B79B-98F4407D9F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26.  “In This ICU, It Is Difficult To Speak Up If I Perceive A Problem With Patient Care.”</a:t>
            </a:r>
            <a:endParaRPr b="0" lang="en-US" sz="3100" spc="-1" strike="noStrike">
              <a:solidFill>
                <a:srgbClr val="000000"/>
              </a:solidFill>
              <a:latin typeface="Calibri"/>
            </a:endParaRPr>
          </a:p>
        </p:txBody>
      </p:sp>
      <p:graphicFrame>
        <p:nvGraphicFramePr>
          <p:cNvPr id="677" name="Object 4"/>
          <p:cNvGraphicFramePr/>
          <p:nvPr/>
        </p:nvGraphicFramePr>
        <p:xfrm>
          <a:off x="1687680" y="1706400"/>
          <a:ext cx="5768640" cy="4313520"/>
        </p:xfrm>
        <a:graphic>
          <a:graphicData uri="http://schemas.openxmlformats.org/presentationml/2006/ole">
            <p:oleObj r:id="rId1" spid="">
              <p:embed/>
              <p:pic>
                <p:nvPicPr>
                  <p:cNvPr id="678"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7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E54E-C0C3-45D7-97BD-15BADAB66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2.  “Disagreements In This ICU Are Resolved Appropriately (i.e. not </a:t>
            </a:r>
            <a:r>
              <a:rPr b="0" i="1" lang="en-US" sz="2800" spc="-1" strike="noStrike">
                <a:solidFill>
                  <a:srgbClr val="ffffff"/>
                </a:solidFill>
                <a:latin typeface="Calibri"/>
              </a:rPr>
              <a:t>who</a:t>
            </a:r>
            <a:r>
              <a:rPr b="0" lang="en-US" sz="2800" spc="-1" strike="noStrike">
                <a:solidFill>
                  <a:srgbClr val="ffffff"/>
                </a:solidFill>
                <a:latin typeface="Calibri"/>
              </a:rPr>
              <a:t> is right, but </a:t>
            </a:r>
            <a:r>
              <a:rPr b="0" i="1" lang="en-US" sz="2800" spc="-1" strike="noStrike">
                <a:solidFill>
                  <a:srgbClr val="ffffff"/>
                </a:solidFill>
                <a:latin typeface="Calibri"/>
              </a:rPr>
              <a:t>what</a:t>
            </a:r>
            <a:r>
              <a:rPr b="0" lang="en-US" sz="2800" spc="-1" strike="noStrike">
                <a:solidFill>
                  <a:srgbClr val="ffffff"/>
                </a:solidFill>
                <a:latin typeface="Calibri"/>
              </a:rPr>
              <a:t> is best for the patient).”</a:t>
            </a:r>
            <a:endParaRPr b="0" lang="en-US" sz="2800" spc="-1" strike="noStrike">
              <a:solidFill>
                <a:srgbClr val="000000"/>
              </a:solidFill>
              <a:latin typeface="Calibri"/>
            </a:endParaRPr>
          </a:p>
        </p:txBody>
      </p:sp>
      <p:graphicFrame>
        <p:nvGraphicFramePr>
          <p:cNvPr id="681" name="Object 4"/>
          <p:cNvGraphicFramePr/>
          <p:nvPr/>
        </p:nvGraphicFramePr>
        <p:xfrm>
          <a:off x="1687680" y="1706400"/>
          <a:ext cx="5768640" cy="4313520"/>
        </p:xfrm>
        <a:graphic>
          <a:graphicData uri="http://schemas.openxmlformats.org/presentationml/2006/ole">
            <p:oleObj r:id="rId1" spid="">
              <p:embed/>
              <p:pic>
                <p:nvPicPr>
                  <p:cNvPr id="682" name="Object 4" descr="An Image of a Graph with readings from 0 to 100"/>
                  <p:cNvPicPr/>
                  <p:nvPr/>
                </p:nvPicPr>
                <p:blipFill>
                  <a:blip r:embed="rId2"/>
                  <a:stretch/>
                </p:blipFill>
                <p:spPr>
                  <a:xfrm>
                    <a:off x="1687680" y="1706400"/>
                    <a:ext cx="5768640" cy="4313520"/>
                  </a:xfrm>
                  <a:prstGeom prst="rect">
                    <a:avLst/>
                  </a:prstGeom>
                  <a:ln w="0">
                    <a:noFill/>
                  </a:ln>
                </p:spPr>
              </p:pic>
            </p:oleObj>
          </a:graphicData>
        </a:graphic>
      </p:graphicFrame>
      <p:sp>
        <p:nvSpPr>
          <p:cNvPr id="683"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FF6F-E530-4BF5-BBF0-4F40DF9369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scussion</a:t>
            </a:r>
            <a:endParaRPr b="0" lang="en-US" sz="4400" spc="-1" strike="noStrike">
              <a:solidFill>
                <a:srgbClr val="000000"/>
              </a:solidFill>
              <a:latin typeface="Calibri"/>
            </a:endParaRPr>
          </a:p>
        </p:txBody>
      </p:sp>
      <p:sp>
        <p:nvSpPr>
          <p:cNvPr id="685"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it difficult to always be assertive?</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you do to assure that your concerns are heard?</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we do at the organizational level that will help you succeed at providing safe patient-centered c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6774-3BFE-4705-8125-23EBB2C787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next?</a:t>
            </a:r>
            <a:endParaRPr b="0" lang="en-US" sz="4400" spc="-1" strike="noStrike">
              <a:solidFill>
                <a:srgbClr val="000000"/>
              </a:solidFill>
              <a:latin typeface="Calibri"/>
            </a:endParaRPr>
          </a:p>
        </p:txBody>
      </p:sp>
      <p:sp>
        <p:nvSpPr>
          <p:cNvPr id="688" name=""/>
          <p:cNvSpPr txBox="1"/>
          <p:nvPr/>
        </p:nvSpPr>
        <p:spPr>
          <a:xfrm>
            <a:off x="380880" y="1752480"/>
            <a:ext cx="822960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build on our assertive training to effectively master conflict resolution strategie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skill sets we should work on before we begin to address personal and work-related confli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4673-0FEA-453F-A106-E09A9AD34F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munication Styles</a:t>
            </a:r>
            <a:endParaRPr b="0" lang="en-US" sz="4400" spc="-1" strike="noStrike">
              <a:solidFill>
                <a:srgbClr val="000000"/>
              </a:solidFill>
              <a:latin typeface="Calibri"/>
            </a:endParaRPr>
          </a:p>
        </p:txBody>
      </p:sp>
      <p:sp>
        <p:nvSpPr>
          <p:cNvPr id="616" name=""/>
          <p:cNvSpPr txBox="1"/>
          <p:nvPr/>
        </p:nvSpPr>
        <p:spPr>
          <a:xfrm>
            <a:off x="609480" y="2742840"/>
            <a:ext cx="152424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ertive</a:t>
            </a:r>
            <a:endParaRPr b="0" lang="en-US" sz="2400" spc="-1" strike="noStrike">
              <a:solidFill>
                <a:srgbClr val="000000"/>
              </a:solidFill>
              <a:latin typeface="Calibri"/>
            </a:endParaRPr>
          </a:p>
        </p:txBody>
      </p:sp>
      <p:pic>
        <p:nvPicPr>
          <p:cNvPr id="617" name="Picture 5" descr="A picture of the medical symbol"/>
          <p:cNvPicPr/>
          <p:nvPr/>
        </p:nvPicPr>
        <p:blipFill>
          <a:blip r:embed="rId1"/>
          <a:stretch/>
        </p:blipFill>
        <p:spPr>
          <a:xfrm>
            <a:off x="1905120" y="1871640"/>
            <a:ext cx="4724280" cy="3957840"/>
          </a:xfrm>
          <a:prstGeom prst="rect">
            <a:avLst/>
          </a:prstGeom>
          <a:ln w="0">
            <a:noFill/>
          </a:ln>
        </p:spPr>
      </p:pic>
      <p:sp>
        <p:nvSpPr>
          <p:cNvPr id="618" name=""/>
          <p:cNvSpPr txBox="1"/>
          <p:nvPr/>
        </p:nvSpPr>
        <p:spPr>
          <a:xfrm>
            <a:off x="6629400" y="3228840"/>
            <a:ext cx="1905120" cy="462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Aggressive</a:t>
            </a:r>
            <a:endParaRPr b="0" lang="en-US" sz="2400" spc="-1" strike="noStrike">
              <a:solidFill>
                <a:srgbClr val="000000"/>
              </a:solidFill>
              <a:latin typeface="Calibri"/>
            </a:endParaRPr>
          </a:p>
        </p:txBody>
      </p:sp>
      <p:sp>
        <p:nvSpPr>
          <p:cNvPr id="619" name=""/>
          <p:cNvSpPr txBox="1"/>
          <p:nvPr/>
        </p:nvSpPr>
        <p:spPr>
          <a:xfrm>
            <a:off x="1447920" y="5938560"/>
            <a:ext cx="4495680" cy="46188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assive or Passive Aggressive ?</a:t>
            </a:r>
            <a:endParaRPr b="0" lang="en-US" sz="2400" spc="-1" strike="noStrike">
              <a:solidFill>
                <a:srgbClr val="000000"/>
              </a:solidFill>
              <a:latin typeface="Calibri"/>
            </a:endParaRPr>
          </a:p>
        </p:txBody>
      </p:sp>
      <p:sp>
        <p:nvSpPr>
          <p:cNvPr id="620" name=""/>
          <p:cNvSpPr txBox="1"/>
          <p:nvPr/>
        </p:nvSpPr>
        <p:spPr>
          <a:xfrm>
            <a:off x="228600" y="6535440"/>
            <a:ext cx="32767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JHU Quality and Safety Research Group</a:t>
            </a:r>
            <a:endParaRPr b="0" lang="en-US" sz="1000" spc="-1" strike="noStrike">
              <a:solidFill>
                <a:srgbClr val="000000"/>
              </a:solidFill>
              <a:latin typeface="Calibri"/>
            </a:endParaRPr>
          </a:p>
        </p:txBody>
      </p:sp>
      <p:sp>
        <p:nvSpPr>
          <p:cNvPr id="621" name="Slide Number Placeholder 2"/>
          <p:cNvSpPr/>
          <p:nvPr/>
        </p:nvSpPr>
        <p:spPr>
          <a:xfrm>
            <a:off x="38160" y="6454800"/>
            <a:ext cx="228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D0A8-CA74-4724-BA13-E82D9F6637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ggressive - the goal is to dominate and win!</a:t>
            </a:r>
            <a:endParaRPr b="0" lang="en-US" sz="4000" spc="-1" strike="noStrike">
              <a:solidFill>
                <a:srgbClr val="000000"/>
              </a:solidFill>
              <a:latin typeface="Calibri"/>
            </a:endParaRPr>
          </a:p>
        </p:txBody>
      </p:sp>
      <p:sp>
        <p:nvSpPr>
          <p:cNvPr id="623"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what I think. What you think does not matter. You are uninformed”</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expression of feelings, thoughts in a way that is not wholly truthful</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done in an inappropriate and unprofessional manner</a:t>
            </a:r>
            <a:endParaRPr b="0" lang="en-US" sz="3200" spc="-1" strike="noStrike">
              <a:solidFill>
                <a:srgbClr val="000000"/>
              </a:solidFill>
              <a:latin typeface="Calibri"/>
            </a:endParaRPr>
          </a:p>
          <a:p>
            <a:pPr marL="343080" indent="-343080">
              <a:lnSpc>
                <a:spcPct val="9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Clenched fists, crossed arms, glaring eyes, intrusive on personal space</a:t>
            </a:r>
            <a:endParaRPr b="0" lang="en-US" sz="3200" spc="-1" strike="noStrike">
              <a:solidFill>
                <a:srgbClr val="000000"/>
              </a:solidFill>
              <a:latin typeface="Calibri"/>
            </a:endParaRPr>
          </a:p>
        </p:txBody>
      </p:sp>
      <p:sp>
        <p:nvSpPr>
          <p:cNvPr id="624" name="Slide Number Placeholder 3"/>
          <p:cNvSpPr/>
          <p:nvPr/>
        </p:nvSpPr>
        <p:spPr>
          <a:xfrm>
            <a:off x="38088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BFD0-39D8-4A24-8F91-0F643B26B2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ssivity - the goal is to appease and avoid conflict at all costs!</a:t>
            </a:r>
            <a:endParaRPr b="0" lang="en-US" sz="4000" spc="-1" strike="noStrike">
              <a:solidFill>
                <a:srgbClr val="000000"/>
              </a:solidFill>
              <a:latin typeface="Calibri"/>
            </a:endParaRPr>
          </a:p>
        </p:txBody>
      </p:sp>
      <p:sp>
        <p:nvSpPr>
          <p:cNvPr id="626" name=""/>
          <p:cNvSpPr txBox="1"/>
          <p:nvPr/>
        </p:nvSpPr>
        <p:spPr>
          <a:xfrm>
            <a:off x="609480" y="1981080"/>
            <a:ext cx="8229600" cy="365760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 to express your thoughts or opinions</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castic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in with resentment </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ain silent</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language: “The Victim Stance”</a:t>
            </a:r>
            <a:endParaRPr b="0" lang="en-US" sz="3200" spc="-1" strike="noStrike">
              <a:solidFill>
                <a:srgbClr val="000000"/>
              </a:solidFill>
              <a:latin typeface="Calibri"/>
            </a:endParaRPr>
          </a:p>
        </p:txBody>
      </p:sp>
      <p:sp>
        <p:nvSpPr>
          <p:cNvPr id="627" name="Slide Number Placeholder 3"/>
          <p:cNvSpPr/>
          <p:nvPr/>
        </p:nvSpPr>
        <p:spPr>
          <a:xfrm>
            <a:off x="380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0825-8DD6-4F41-86D3-4FDAB67C6C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veness</a:t>
            </a:r>
            <a:endParaRPr b="0" lang="en-US" sz="4400" spc="-1" strike="noStrike">
              <a:solidFill>
                <a:srgbClr val="000000"/>
              </a:solidFill>
              <a:latin typeface="Calibri"/>
            </a:endParaRPr>
          </a:p>
        </p:txBody>
      </p:sp>
      <p:sp>
        <p:nvSpPr>
          <p:cNvPr id="629" name=""/>
          <p:cNvSpPr txBox="1"/>
          <p:nvPr/>
        </p:nvSpPr>
        <p:spPr>
          <a:xfrm>
            <a:off x="380880" y="19051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rtiveness is an attitude and a way of positively relating to those around you; skills set for effective communication. </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yourself as having worth</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value others equally, respecting their right to an opinion</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 in communication respectfully, while also respecting your own opin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Slide Number Placeholder 3"/>
          <p:cNvSpPr/>
          <p:nvPr/>
        </p:nvSpPr>
        <p:spPr>
          <a:xfrm>
            <a:off x="380880" y="6400800"/>
            <a:ext cx="609840" cy="32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8983-5A8C-42ED-B139-5120BF937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S</a:t>
            </a:r>
            <a:endParaRPr b="0" lang="en-US" sz="4400" spc="-1" strike="noStrike">
              <a:solidFill>
                <a:srgbClr val="000000"/>
              </a:solidFill>
              <a:latin typeface="Calibri"/>
            </a:endParaRPr>
          </a:p>
        </p:txBody>
      </p:sp>
      <p:sp>
        <p:nvSpPr>
          <p:cNvPr id="632" name=""/>
          <p:cNvSpPr txBox="1"/>
          <p:nvPr/>
        </p:nvSpPr>
        <p:spPr>
          <a:xfrm>
            <a:off x="152280" y="1905120"/>
            <a:ext cx="8839440" cy="3657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ing appropriately assertive means:</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in thought and communication </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ak clearly and audibly</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avowing perfection while looking for clarification and common understanding</a:t>
            </a:r>
            <a:endParaRPr b="0" lang="en-US" sz="2800" spc="-1" strike="noStrike">
              <a:solidFill>
                <a:srgbClr val="000000"/>
              </a:solidFill>
              <a:latin typeface="Calibri"/>
            </a:endParaRPr>
          </a:p>
          <a:p>
            <a:pPr lvl="1" marL="743040" indent="-285840">
              <a:lnSpc>
                <a:spcPct val="90000"/>
              </a:lnSpc>
              <a:spcBef>
                <a:spcPts val="700"/>
              </a:spcBef>
              <a:buClr>
                <a:srgbClr val="0066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d by the entire team (not just a “subordinate” skill-set, and it must be valued by the receiver t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
          <p:cNvSpPr txBox="1"/>
          <p:nvPr/>
        </p:nvSpPr>
        <p:spPr>
          <a:xfrm>
            <a:off x="609120" y="6476760"/>
            <a:ext cx="259092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4" name="Slide Number Placeholder 3"/>
          <p:cNvSpPr/>
          <p:nvPr/>
        </p:nvSpPr>
        <p:spPr>
          <a:xfrm>
            <a:off x="304920" y="6356520"/>
            <a:ext cx="304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CA93-BF72-4BA3-9F06-D90BC36CD3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rtion Includes:</a:t>
            </a:r>
            <a:endParaRPr b="0" lang="en-US" sz="4400" spc="-1" strike="noStrike">
              <a:solidFill>
                <a:srgbClr val="000000"/>
              </a:solidFill>
              <a:latin typeface="Calibri"/>
            </a:endParaRPr>
          </a:p>
        </p:txBody>
      </p:sp>
      <p:sp>
        <p:nvSpPr>
          <p:cNvPr id="636" name=""/>
          <p:cNvSpPr txBox="1"/>
          <p:nvPr/>
        </p:nvSpPr>
        <p:spPr>
          <a:xfrm>
            <a:off x="456840" y="1752480"/>
            <a:ext cx="8001000" cy="4314960"/>
          </a:xfrm>
          <a:prstGeom prst="rect">
            <a:avLst/>
          </a:prstGeom>
          <a:noFill/>
          <a:ln w="0">
            <a:noFill/>
          </a:ln>
        </p:spPr>
        <p:txBody>
          <a:bodyPr anchor="t">
            <a:normAutofit/>
          </a:bodyPr>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ying “yes” when indicated, but “no” when you mean “no”</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I” when not speaking for the team</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ively defending your position, even if it provokes conflict</a:t>
            </a:r>
            <a:endParaRPr b="0" lang="en-US" sz="2800" spc="-1" strike="noStrike">
              <a:solidFill>
                <a:srgbClr val="000000"/>
              </a:solidFill>
              <a:latin typeface="Calibri"/>
            </a:endParaRPr>
          </a:p>
          <a:p>
            <a:pPr marL="228600" indent="-22860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language:  Secure, upright position in a relaxed manner, making eye contact, standing with open hands</a:t>
            </a:r>
            <a:endParaRPr b="0" lang="en-US" sz="2800" spc="-1" strike="noStrike">
              <a:solidFill>
                <a:srgbClr val="000000"/>
              </a:solidFill>
              <a:latin typeface="Calibri"/>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
          <p:cNvSpPr txBox="1"/>
          <p:nvPr/>
        </p:nvSpPr>
        <p:spPr>
          <a:xfrm>
            <a:off x="533520" y="6476760"/>
            <a:ext cx="3581280" cy="2458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2004 Quality and Safety Research Group</a:t>
            </a:r>
            <a:endParaRPr b="0" lang="en-US" sz="1000" spc="-1" strike="noStrike">
              <a:solidFill>
                <a:srgbClr val="000000"/>
              </a:solidFill>
              <a:latin typeface="Calibri"/>
            </a:endParaRPr>
          </a:p>
        </p:txBody>
      </p:sp>
      <p:sp>
        <p:nvSpPr>
          <p:cNvPr id="638" name="Slide Number Placeholder 2"/>
          <p:cNvSpPr/>
          <p:nvPr/>
        </p:nvSpPr>
        <p:spPr>
          <a:xfrm>
            <a:off x="152280" y="6400800"/>
            <a:ext cx="381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BAD7-B82D-48B2-B677-364C546BEA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ssertion  Is Not</a:t>
            </a:r>
            <a:endParaRPr b="0" lang="en-US" sz="3600" spc="-1" strike="noStrike">
              <a:solidFill>
                <a:srgbClr val="000000"/>
              </a:solidFill>
              <a:latin typeface="Calibri"/>
            </a:endParaRPr>
          </a:p>
        </p:txBody>
      </p:sp>
      <p:sp>
        <p:nvSpPr>
          <p:cNvPr id="640" name=""/>
          <p:cNvSpPr txBox="1"/>
          <p:nvPr/>
        </p:nvSpPr>
        <p:spPr>
          <a:xfrm>
            <a:off x="380880" y="1752480"/>
            <a:ext cx="6553440" cy="4525920"/>
          </a:xfrm>
          <a:prstGeom prst="rect">
            <a:avLst/>
          </a:prstGeom>
          <a:noFill/>
          <a:ln w="0">
            <a:noFill/>
          </a:ln>
        </p:spPr>
        <p:txBody>
          <a:bodyPr anchor="t">
            <a:normAutofit/>
          </a:bodyPr>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ssive </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stile</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rontational</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biguous</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ean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escending</a:t>
            </a:r>
            <a:endParaRPr b="0" lang="en-US" sz="3200" spc="-1" strike="noStrike">
              <a:solidFill>
                <a:srgbClr val="000000"/>
              </a:solidFill>
              <a:latin typeface="Calibri"/>
            </a:endParaRPr>
          </a:p>
          <a:p>
            <a:pPr lvl="1" marL="743040" indent="-28584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ish</a:t>
            </a:r>
            <a:endParaRPr b="0" lang="en-US" sz="3200" spc="-1" strike="noStrike">
              <a:solidFill>
                <a:srgbClr val="000000"/>
              </a:solidFill>
              <a:latin typeface="Calibri"/>
            </a:endParaRPr>
          </a:p>
        </p:txBody>
      </p:sp>
      <p:sp>
        <p:nvSpPr>
          <p:cNvPr id="641" name=""/>
          <p:cNvSpPr txBox="1"/>
          <p:nvPr/>
        </p:nvSpPr>
        <p:spPr>
          <a:xfrm>
            <a:off x="380880" y="6476760"/>
            <a:ext cx="2509920" cy="2761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42" name="Slide Number Placeholder 7"/>
          <p:cNvSpPr/>
          <p:nvPr/>
        </p:nvSpPr>
        <p:spPr>
          <a:xfrm>
            <a:off x="76320" y="6324480"/>
            <a:ext cx="38088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6A5A-363A-4AE1-AFA5-FE628F8303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mmunication to Improve Patient Safety: A Continuous Process</a:t>
            </a:r>
            <a:endParaRPr b="0" lang="en-US" sz="3600" spc="-1" strike="noStrike">
              <a:solidFill>
                <a:srgbClr val="000000"/>
              </a:solidFill>
              <a:latin typeface="Calibri"/>
            </a:endParaRPr>
          </a:p>
        </p:txBody>
      </p:sp>
      <p:grpSp>
        <p:nvGrpSpPr>
          <p:cNvPr id="644" name="Diagram 7"/>
          <p:cNvGrpSpPr/>
          <p:nvPr/>
        </p:nvGrpSpPr>
        <p:grpSpPr>
          <a:xfrm>
            <a:off x="838080" y="1828800"/>
            <a:ext cx="7695720" cy="4419000"/>
            <a:chOff x="838080" y="1828800"/>
            <a:chExt cx="7695720" cy="4419000"/>
          </a:xfrm>
        </p:grpSpPr>
        <p:sp>
          <p:nvSpPr>
            <p:cNvPr id="645" name="_s1028"/>
            <p:cNvSpPr/>
            <p:nvPr/>
          </p:nvSpPr>
          <p:spPr>
            <a:xfrm>
              <a:off x="2067840" y="182880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_s1029"/>
            <p:cNvSpPr/>
            <p:nvPr/>
          </p:nvSpPr>
          <p:spPr>
            <a:xfrm rot="5400000">
              <a:off x="4412880" y="142056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_s1030"/>
            <p:cNvSpPr/>
            <p:nvPr/>
          </p:nvSpPr>
          <p:spPr>
            <a:xfrm rot="10800000">
              <a:off x="2067840" y="3241440"/>
              <a:ext cx="5235840" cy="3006360"/>
            </a:xfrm>
            <a:custGeom>
              <a:avLst/>
              <a:gdLst>
                <a:gd name="textAreaLeft" fmla="*/ 767160 w 5235840"/>
                <a:gd name="textAreaRight" fmla="*/ 4468680 w 5235840"/>
                <a:gd name="textAreaTop" fmla="*/ 440280 h 3006360"/>
                <a:gd name="textAreaBottom" fmla="*/ 2566080 h 300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_s1031"/>
            <p:cNvSpPr/>
            <p:nvPr/>
          </p:nvSpPr>
          <p:spPr>
            <a:xfrm rot="16200000">
              <a:off x="1952280" y="1420200"/>
              <a:ext cx="3006360" cy="5235120"/>
            </a:xfrm>
            <a:custGeom>
              <a:avLst/>
              <a:gdLst>
                <a:gd name="textAreaLeft" fmla="*/ 440280 w 3006360"/>
                <a:gd name="textAreaRight" fmla="*/ 2566080 w 3006360"/>
                <a:gd name="textAreaTop" fmla="*/ 766800 h 5235120"/>
                <a:gd name="textAreaBottom" fmla="*/ 4468320 h 52351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3366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9" name="_s1032"/>
            <p:cNvSpPr/>
            <p:nvPr/>
          </p:nvSpPr>
          <p:spPr>
            <a:xfrm>
              <a:off x="6079680" y="210528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t Atten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Names Fir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_s1033"/>
            <p:cNvSpPr/>
            <p:nvPr/>
          </p:nvSpPr>
          <p:spPr>
            <a:xfrm>
              <a:off x="6082560" y="483840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the issu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_s1034"/>
            <p:cNvSpPr/>
            <p:nvPr/>
          </p:nvSpPr>
          <p:spPr>
            <a:xfrm>
              <a:off x="1323360" y="4840560"/>
              <a:ext cx="197208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 Action</a:t>
              </a:r>
              <a:endParaRPr b="0" lang="en-US" sz="2000" spc="-1" strike="noStrike">
                <a:solidFill>
                  <a:srgbClr val="000000"/>
                </a:solidFill>
                <a:latin typeface="Arial"/>
              </a:endParaRPr>
            </a:p>
          </p:txBody>
        </p:sp>
        <p:sp>
          <p:nvSpPr>
            <p:cNvPr id="652" name="_s1035"/>
            <p:cNvSpPr/>
            <p:nvPr/>
          </p:nvSpPr>
          <p:spPr>
            <a:xfrm>
              <a:off x="1320480" y="2107440"/>
              <a:ext cx="1971360" cy="1132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of Action</a:t>
              </a:r>
              <a:endParaRPr b="0" lang="en-US" sz="2000" spc="-1" strike="noStrike">
                <a:solidFill>
                  <a:srgbClr val="000000"/>
                </a:solidFill>
                <a:latin typeface="Arial"/>
              </a:endParaRPr>
            </a:p>
          </p:txBody>
        </p:sp>
      </p:grpSp>
      <p:sp>
        <p:nvSpPr>
          <p:cNvPr id="653" name=""/>
          <p:cNvSpPr txBox="1"/>
          <p:nvPr/>
        </p:nvSpPr>
        <p:spPr>
          <a:xfrm>
            <a:off x="756720" y="6400440"/>
            <a:ext cx="2667240" cy="276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Quality and Safety Research Group</a:t>
            </a:r>
            <a:endParaRPr b="0" lang="en-US" sz="1200" spc="-1" strike="noStrike">
              <a:solidFill>
                <a:srgbClr val="000000"/>
              </a:solidFill>
              <a:latin typeface="Calibri"/>
            </a:endParaRPr>
          </a:p>
        </p:txBody>
      </p:sp>
      <p:sp>
        <p:nvSpPr>
          <p:cNvPr id="654" name="Slide Number Placeholder 3"/>
          <p:cNvSpPr/>
          <p:nvPr/>
        </p:nvSpPr>
        <p:spPr>
          <a:xfrm>
            <a:off x="152280" y="6324480"/>
            <a:ext cx="3812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CF35-37B0-4CDD-9C16-37CB8E15A5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8:52Z</dcterms:created>
  <dc:creator>thret1</dc:creator>
  <dc:description/>
  <dc:language>en-US</dc:language>
  <cp:lastModifiedBy>Karen Fleming-Michael</cp:lastModifiedBy>
  <dcterms:modified xsi:type="dcterms:W3CDTF">2012-12-21T18:24:26Z</dcterms:modified>
  <cp:revision>295</cp:revision>
  <dc:subject/>
  <dc:title>On the CUSP: Stop B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5149243E18E894E866B845766CF3156</vt:lpwstr>
  </property>
</Properties>
</file>