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CEB1-B9A9-412E-9E03-01097EA71DEB}" type="datetime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ftr" idx="3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 type="sldNum" idx="3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D9DF-1B34-4E83-89CF-B0A244EA6FF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EE29-78CD-4497-BE69-D563DA5753F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E835-A9B1-4D5A-9FAD-924463405B1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E9FB-3592-47E6-ADEE-D385E38BC21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2F31-4C64-4778-ACAD-5B5C3C5D585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49BF-4ECA-4F4D-A141-1D2DAD1ECDB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5E4B-16EF-4E05-AFE7-B296CCE36FC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53541-C069-4085-A030-F20A124D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600B0-3E6D-4B24-B720-0ADCB854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24ABA-3E52-4A49-AB76-CD305181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3167B-260C-447A-85D4-0F77B9B4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453AA-69B7-40B8-8443-EEC9A635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5327E-C71B-4CA2-B8E4-835CEFD7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D5E89-C645-41F5-8B88-38C37A8B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1AA6A-7484-46AB-87EC-9D915C84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96BE5-C157-4AD1-BC0E-4B5BCEF6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A9EFB-795A-4F8B-9C82-C7148A4C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C753D-A7A0-4221-B413-FF0A97E3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9701E-9BD1-4448-AE5B-CD077966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58DE5-468A-4D8C-8907-13183DB6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EB961-D937-4C4F-87E1-3996D213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B53AF-1B93-45F5-A01B-553F8F42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4FD8E-56DE-4C73-B8C7-0112066A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94844-D142-4170-A30E-A4CC1DBA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A9888-B33A-422D-A520-1012B321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B49B7-5FB3-4D8F-8C9E-5DA7313D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F8AF8-CE16-4FD4-A676-C8BEB007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715D1-F26E-4B05-8F4B-5B261D68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9A74F-9C90-412C-81AF-546BF12D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90598-6B55-4043-B6D4-19256585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7DE8B-E7F2-4E02-B444-C5A70FD3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8B4C7-C005-4E9E-8867-E64FD10F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A37B5-9E6D-4AE3-9434-A723E05A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624F5-BFB9-4081-93B2-4050E7BA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BC404-32AD-4459-82EC-24E06D3C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77985-CB72-4332-B55D-68A2510C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2B2C5-3A59-421C-AA81-C879A7BD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FB2B1-BA76-4C3A-84D3-9F62C18C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DD63A-3B55-4D56-9968-4CFC98A0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5AB3F-AD18-4040-A598-B9AF3EFA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A75D7-71ED-455F-931B-E396E757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D74B7-4068-4712-86F9-87BF058A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117C2-3219-407F-904D-8912A61C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40CCC-E7F9-4ABD-9C82-494139B7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687FC-47B7-4A8E-A313-253B555E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E9F72-156A-496D-919A-AE907FBB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9DC29-085D-401A-AD49-B3F38CB0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DFA2B-E96F-46AD-8D0C-48731ACD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3F0AD-5490-4A3E-B158-166955DA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2CB42-F3B9-40E1-AE7E-DE825533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232B3-1B80-4FD2-AA0F-84931DB2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2F9CA-6CAA-45EB-965A-6B7C2CCD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F7644-84BA-4808-9B54-C422D4D9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588A8-B951-43E3-987E-3A09FBAF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FEED3-67FE-4983-A521-F336A86D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94D24-0E75-4611-9A24-B60E2591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294A3-9683-4921-BE71-3CF3D92F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3F630-139C-40B8-878F-E86CD06A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ED741-67C2-4ED5-B30F-C74ACD87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B7680-A397-4EE7-A3AD-BC9C4352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F0FDB-BF22-4B7B-B496-C0A65436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308EC-3ED7-477B-95DF-99217A2F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406A6-4D51-49C6-92A3-169B231E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720C9-B3CC-4A5B-9294-9955834A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141D-C6D8-40C5-BA10-C5D85076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FEC3-DEDB-41D2-884E-B2DF4FAB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7D28-5D96-4C1C-BDB5-0E537A34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57BE-1930-4592-A039-831245A1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139E-8C84-42AC-BDEA-604CFD3F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0E1D-1908-4372-A99A-88526289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2C67-3E82-4160-80EA-D5F29E85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4D65-7A26-49CC-80B1-E9D4CDC8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A8A9-D073-4489-94C8-12463716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E829-2A75-413C-A8D4-FFFF28C4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8A75-2AC6-4CED-BFDA-B59E2886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D01B-89D3-4DC0-B30B-3D66469D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2136B-F4EF-46D7-9068-ECCFFE4A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527DB-588B-4372-8E6E-F4515D18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3353D-3181-46EB-877F-08328A38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67156-8291-4060-8918-0BC7ACE3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D353D-BD48-413F-AB4D-F13EF118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5DBFE-87D2-48DD-9BD1-FACCA85A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E0A7A-9697-41CF-B41B-6BD79C57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D0F1A-A9C6-4127-A86C-EE317E4B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AA680-C548-493E-A2B9-AB6036F0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BAD60-C92C-4393-8EDF-00999D53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D1EFD-161B-4E70-A596-53B79276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7134E-9C70-455F-B448-C27F2C67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17A9B-7043-4994-82BE-F696B3F0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C7636-61E1-4054-931F-E5872ED5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D0BE6-6A68-4177-9766-4305D9D1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F4C25-0F57-4101-B52B-7FE2B8B2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2B9DF-9BB8-40A8-BA27-D737A129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B644C-39BE-4655-9B43-9F4835B1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A3B58-0870-4FC6-8207-C804D8AD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2EF5F-5F6E-4B73-9F29-87C40874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EA291-D733-4EC6-BF45-DE2C24D9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6E43D-4C67-495C-964A-1BC4AEF0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276D8-FADB-47B9-8826-3CF3494B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84EA9-B708-4C0A-BF74-971C529A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2E0FB-D9C7-4E9A-ACBD-B069B8D8C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C2F10-A98E-4540-B956-09F8C37C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E607C-FFD3-4840-916C-57CF20D4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D83BA-1063-4EDD-9D6B-62674DCA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6ACC1-5C5E-4FF3-99D1-46EDC5D5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EB384-EC41-4605-876D-13FD5361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29526-4B4B-4607-B39D-A948A66E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5F770-F796-40D6-8ED7-DD67E1C3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32793-CAF6-479B-BCDE-4F1B8997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E8EEA-DF0C-412C-AF73-8D56FF4F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C2F26-72E7-4B2A-9328-DED9C1D0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9D500-477C-4A77-80AD-DA8B67FA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0E5C3-FB5F-46DC-BAD1-7F06F068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C47A1-1CE5-46C6-A5D5-745109A8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1EDA8-CF8F-4F3C-A519-D723B7C5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47EE7-AABD-4569-BA1F-04DEB6CC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04ACF-7938-4EA5-9A71-C6D0F93E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ED975-699B-44FE-9F02-014AC5B0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0FDE2-6BD8-417B-902A-F5353505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9323E-8C60-4A35-80F9-1B26F4E7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F14A6-2837-4418-9281-FAEE0390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72580-0F01-4E71-B42C-C5C5A98D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0E275-6F93-4F17-A244-E139A973B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3C0ED-1010-4829-9A55-4A86B9E2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6DCAE-DC5C-40DC-98D8-3529E357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D856B-6B70-4424-A385-1EB7BE63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83587-BB32-4709-9EEB-42BDD028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0B18-CA0D-4C56-9886-73F4A36BB227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F6F8-5D0B-417B-BC26-54ED39646CB8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6478-640B-459D-9B8F-23DE57F86D47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6785-1440-42D7-9A88-9970E7D56E80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32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5E7A-C203-442D-BFCA-30C8E19894AA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CUSP-LOGO-no-tagline.gif"/>
          <p:cNvPicPr/>
          <p:nvPr/>
        </p:nvPicPr>
        <p:blipFill>
          <a:blip r:embed="rId2"/>
          <a:stretch/>
        </p:blipFill>
        <p:spPr>
          <a:xfrm>
            <a:off x="7423200" y="6019920"/>
            <a:ext cx="1720800" cy="838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7F57-685F-47C4-87BE-0EE6D0652806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3886200" y="6488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lide </a:t>
            </a:r>
            <a:fld id="{4186996A-F807-40A9-A702-8F86619EBE5B}" type="slidenum"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CUSP-LOGO-no-tagline.gif"/>
          <p:cNvPicPr/>
          <p:nvPr/>
        </p:nvPicPr>
        <p:blipFill>
          <a:blip r:embed="rId2"/>
          <a:stretch/>
        </p:blipFill>
        <p:spPr>
          <a:xfrm>
            <a:off x="7423200" y="6019920"/>
            <a:ext cx="1720800" cy="838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CUSP-LOGO-no-tagline.gif"/>
          <p:cNvPicPr/>
          <p:nvPr/>
        </p:nvPicPr>
        <p:blipFill>
          <a:blip r:embed="rId2"/>
          <a:stretch/>
        </p:blipFill>
        <p:spPr>
          <a:xfrm>
            <a:off x="7423200" y="6019920"/>
            <a:ext cx="1720800" cy="838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50D2-D334-4A6A-9A3B-CC5D8597735B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5F01-71A5-4BFB-9229-DBA1E871F165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CUSP-LOGO-no-tagline.gif"/>
          <p:cNvPicPr/>
          <p:nvPr/>
        </p:nvPicPr>
        <p:blipFill>
          <a:blip r:embed="rId2"/>
          <a:stretch/>
        </p:blipFill>
        <p:spPr>
          <a:xfrm>
            <a:off x="7423200" y="6019920"/>
            <a:ext cx="1720800" cy="838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7BCE-700D-4F24-A6DE-4B4330B8E2D8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53BD-1876-451E-864E-72C89D50A1AC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8" descr="CUSP-LOGO-no-tagline.gif"/>
          <p:cNvPicPr/>
          <p:nvPr/>
        </p:nvPicPr>
        <p:blipFill>
          <a:blip r:embed="rId2"/>
          <a:stretch/>
        </p:blipFill>
        <p:spPr>
          <a:xfrm>
            <a:off x="7423200" y="6019920"/>
            <a:ext cx="1720800" cy="8380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90A0-4FE9-49DE-B7DF-64E09ECBA0FD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1634-B849-4D19-8F96-A366470ACA9A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0" descr="CUSP-LOGO-no-tagline.gif"/>
          <p:cNvPicPr/>
          <p:nvPr/>
        </p:nvPicPr>
        <p:blipFill>
          <a:blip r:embed="rId2"/>
          <a:stretch/>
        </p:blipFill>
        <p:spPr>
          <a:xfrm>
            <a:off x="7423200" y="6019920"/>
            <a:ext cx="1720800" cy="8380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3D36-881D-4F56-9803-ED25478E74A2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371C-25C8-4531-8407-1860FE0EFC60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B7F7-BE77-44E5-B127-608C40EA1FB4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24C2-17AC-4C4E-BA57-A5771EDE72FD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120F-69DB-4DD7-9ACF-7BE3C03A344A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D79B-083C-41A2-BEF7-19D30C3226E0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ABSI Supplemental Call 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304560" y="1904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Best Practices: How Successful Units Engaged Their Senior Executive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October 18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Arial"/>
              </a:rPr>
              <a:t>Present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Jonathan Kling, BSN, BHA, RN, CC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Scott Raynes, MA, 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Joan Chatham, MSN, 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Melissa Allen, MS, 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  <a:ea typeface="Tahoma"/>
              </a:rPr>
              <a:t>Lessons to Bring Home to your Hospital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Zero infections is achievable if everyone complies with the bu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We have had no CLABSI in our CCU since Jul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If you make the process simple and convenient, you are more like to achieve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Leadership support is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We teach this process to new graduate nurses during their orientation so they start out knowing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We are happy to share our checklist with anyone who is inter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ABSI Supplemental Call Ser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762120" y="2514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alibri"/>
                <a:ea typeface="Calibri"/>
              </a:rPr>
              <a:t>Craig Beck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alibri"/>
                <a:ea typeface="Calibri"/>
              </a:rPr>
              <a:t>President and CEO 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Calibri"/>
                <a:ea typeface="Calibri"/>
              </a:rPr>
              <a:t>Tennessee Hospital Assoc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alibri"/>
                <a:ea typeface="Calibri"/>
              </a:rPr>
              <a:t>Nashville, T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Tahoma"/>
              </a:rPr>
              <a:t>Tennessee Hospital Association Board A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-360" y="15238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Vision:   Healthier, Safer Tennesse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Aim:       Zero Preventable Har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Targets: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- Zero infections within 3 yea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          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- Top quartile performance on public measur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25560" y="386028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or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on achieving THA Board Aim of Zero Preventable Ha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ition Tennessee as a leader on patient safety efforts and healthcare-acquired infection reduction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elerate Tennessee’s efforts by focusing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ignment among partner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dersh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ltur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6" descr="Tennessee Hospital Association Logo"/>
          <p:cNvPicPr/>
          <p:nvPr/>
        </p:nvPicPr>
        <p:blipFill>
          <a:blip r:embed="rId1"/>
          <a:srcRect l="61494" t="0" r="-617" b="0"/>
          <a:stretch/>
        </p:blipFill>
        <p:spPr>
          <a:xfrm>
            <a:off x="7010280" y="1752480"/>
            <a:ext cx="2133720" cy="73836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5" descr="Tennessee Center for Patient safety  Logo "/>
          <p:cNvPicPr/>
          <p:nvPr/>
        </p:nvPicPr>
        <p:blipFill>
          <a:blip r:embed="rId2"/>
          <a:srcRect l="0" t="0" r="69815" b="0"/>
          <a:stretch/>
        </p:blipFill>
        <p:spPr>
          <a:xfrm>
            <a:off x="7086600" y="2743200"/>
            <a:ext cx="1828800" cy="8208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7" descr="Image of a key lying on top of a piece of paper that says success  "/>
          <p:cNvPicPr/>
          <p:nvPr/>
        </p:nvPicPr>
        <p:blipFill>
          <a:blip r:embed="rId3"/>
          <a:stretch/>
        </p:blipFill>
        <p:spPr>
          <a:xfrm>
            <a:off x="5715000" y="5083200"/>
            <a:ext cx="1828800" cy="162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3520" y="320004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Tahoma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90680"/>
            <a:ext cx="8229600" cy="10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ABSI Supplemental Call Ser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04920" y="23623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alibri"/>
              </a:rPr>
              <a:t>Jonathan Kling, BSN, BHA, RN, CCRN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Calibri"/>
              </a:rPr>
              <a:t>Director, Critical Care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Calibri"/>
              </a:rPr>
              <a:t>NCH Healthcare System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Calibri"/>
              </a:rPr>
              <a:t>Naples, Flor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ahoma"/>
              </a:rPr>
              <a:t>Initial Challenges &amp;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ea typeface="Tahoma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Buy-in from staff, physicians, and senior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Inconsistent data collection and reviewing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Outdated, non-evidence-based polici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ea typeface="Tahoma"/>
              </a:rPr>
              <a:t>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Consistent audit process with weekly meetings with senior leadership, physicians, and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With consistent data and timely communication, the cost benefits of quality care were clearly ob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Revision of policies in line with evidence-based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Best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Consistent application of insertion bundl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Tahoma"/>
              </a:rPr>
              <a:t>al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Identification of appropriat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Sterile technique, head-to-toe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Everyone in room sterile or clean at 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Sterile dressing and documentation of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Continuous assessment of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Consistent line care and maintenance at all times -- 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scrub the hu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ahoma"/>
              </a:rPr>
              <a:t>Lessons to Bring Back to Your Hospi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Collaborative, multidisciplinary team approach is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Mandatory staf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Quality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Policies must be in line with evidence-based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Clear direction set with senior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Strong physician champion is vital to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Invest in products with proven suc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Consistently use evidence-based practice “bundles”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 inse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Consistently re-educate and audit on daily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Tahoma"/>
              </a:rPr>
              <a:t>Keys to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Clear vision and direction of strong senior leadersh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Buy-in of physicians and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Cannot be done quickly or without the support of a large multidisciplinary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Never say good is good enough; the challenge to be the best requires daily follow through and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ABSI Supplemental Call Ser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2514600" y="1695240"/>
            <a:ext cx="449568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Scott Raynes, MA, MB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Chief Executive Officer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NorthCrest Medical Center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Springfield, Tennes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228240" y="3809880"/>
            <a:ext cx="426708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  <a:ea typeface="Times New Roman"/>
              </a:rPr>
              <a:t>Melissa Allen, MS, RN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Director, Infection Control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NorthCrest Medical Center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Calibri"/>
                <a:ea typeface="Times New Roman"/>
              </a:rPr>
              <a:t>Springfield, Tennes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647960" y="3809880"/>
            <a:ext cx="419076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Joan Chatham, MSN, RN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Director, Quality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NorthCrest Medical Center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Springfield, Tennes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  <a:ea typeface="Tahoma"/>
              </a:rPr>
              <a:t>Initial Challenges &amp; How they were Overcom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Initial CLABSI project started with IHI Save 100,000 Lives Projec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A CLABSI bundle was established and has been in use since th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Initial challenges were physician buy-in and complia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Results were reported quarterly to the Quality Review Committee, which includes senior administrators, physicians, and board memb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This group provided the support necessary to get physicians involved; nurses were empowered to speak up and stop the process if the physician was not complia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Best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Leadership bes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Keep senior leadership informed of progress and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Make success an organizational goal to keep everyone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Look constantly at your processes for opportunities for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Monitor every insertion and share compliance results with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Clinical bes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Have a central line kit that contains all necessary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Have a checklist attached to the bundle to make it immediately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Have a procedure cart with extra supplies immediately available in case an item in the kit is conta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Include consents and time outs on your check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3:21:50Z</dcterms:created>
  <dc:creator>Heon-Jae Jeong, MD, MPH, MBA</dc:creator>
  <dc:description/>
  <dc:language>en-US</dc:language>
  <cp:lastModifiedBy>Karen Fleming-Michael</cp:lastModifiedBy>
  <dcterms:modified xsi:type="dcterms:W3CDTF">2013-01-04T12:37:50Z</dcterms:modified>
  <cp:revision>1408</cp:revision>
  <dc:subject/>
  <dc:title>Project Report - Lean Sigma</dc:title>
</cp:coreProperties>
</file>