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FC96-2D08-4F59-8AAE-101BECE4A493}" type="datetime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ftr" idx="3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 type="sldNum" idx="3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AA6A-C08E-467E-BFB8-3977943AE4B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3350-9475-4963-AE91-7C17D4EA315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1137-00A0-4090-ADD9-F0EC07BF1A0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0412-B824-498F-B028-27960E18372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CBE1-E49A-4A44-9BAF-4CE6560C392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02F6-7FBC-4533-9FFB-F99113E7935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3380-270C-4C89-91C1-FC4C62DF60E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F629C-38DC-4EA9-ABE3-35D81D62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A3F08-3325-4362-9A4D-08DCED2C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99CB0-6847-4011-AE45-89632916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82A88-FE81-4B93-ABAE-B360FEB5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B9454-10F5-45D9-9BB3-11AC17A1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86A66-AA78-4088-B6C7-9F47CF5F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75951-6736-4709-A750-7167CFEE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2F2EE-0D77-4EF4-9697-06EA5F5F1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F7A6B-FF03-41DD-9F9C-C9A1F18D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96B09-0769-420B-8936-B6D82B50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317A3-3709-46C9-8DED-F1E428A8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1F04B-8DD1-43CE-AF64-56E35ED9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5307E-FE1C-49FB-AF04-90D48081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2D97B-55B6-45F0-AF67-BC318DBB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78FD3-2A82-4215-9CFB-A3AB3B05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21B4E-F5E2-4CA1-BC03-C1246625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56254-CBC2-45B7-AC90-8FF31487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E6E97-C059-4C38-BA5F-3E9B3A31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31D06-3B85-48B3-82F8-E9973A0D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BCB14-47AC-44B2-BCB2-E6A975FE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4AB37-8B34-4D42-8862-B476BB5B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4E964-87DA-4DD2-B391-E49B0299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87DD6-457C-4B9C-B5FB-C9DADAAF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60AD0-D521-42EC-8949-BB7F59F6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6F027-682A-4D4D-A418-68922145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99317-30BF-4CC3-B9B8-6A7A02C2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53568-78D0-4DB4-86E9-1455F319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AF2CD-24E3-4A07-A26A-12582CC8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BACB7-5418-41B6-BA6C-67148275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C328B-66FF-49A5-9AEA-CE6431C9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A2741-EC3B-44E6-8645-8FC7EC6F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7294D-3F42-44F9-845B-27630C6B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C0D39-9E79-4774-A930-2EED791A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D16A0-39AA-44BC-9B07-5FC57EA7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922C2-0AB4-4A83-9576-E3B332F2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C355A-EBDB-4DA6-BE2C-F24F47E8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6ECF2-B4DD-45F4-952F-1A1E5EFC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E52D3-E6D3-41D5-BCD1-F66A26A0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4E697-D2F3-4BB3-A99A-E8F2ED57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C982A-D2C8-4983-909A-BCA464E7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73BD6-883B-4BAF-8C97-6C386CD0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61B7F-15BE-4146-8484-E1C0770E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5EDAC-99FD-4C8E-A187-BCFCF6F3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40CBD-0AC9-4C2D-975E-20BC186F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8222C-07FD-4BC4-AADA-90BA1F73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E186D-637F-45E6-A6E3-74D64EF9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5330F-C4A1-4193-B9F6-15E3BEFE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39750-A508-44F1-8690-D7A07E6B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CAA4D-1D9A-4B29-B979-6332B5DE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F695A-3F90-4783-AD6F-20785E7D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214F1-897D-4414-92BB-BDFB5127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234C7-F4B3-4F8B-B07B-27FA506F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C45BC-F26D-4FA9-80BD-22D10ECC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8847A-5089-41FC-BCF5-A0DDA2B1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9C356-10E5-4ADB-A999-BE004628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8FDDD-7399-493F-B462-54F1A7A3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87B6B-B38C-4A1B-BE01-850FA1A7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F420-271B-40C8-BC20-3A592126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EC81-4F94-4EBF-83FA-5DDF30B0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5E6B-6E02-4440-A6A4-B38A14B6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26CE-0CAC-456E-A558-D3EF4210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3322-6C88-4110-9754-7F107860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F26C-74EE-49BB-96D1-D6A8B675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4A7C-CEA5-4112-8CA8-93744289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E527-28EB-4ED0-A0A8-DC781271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A002-51A2-45D3-99FC-CDF7051D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926A-367F-4976-A1CC-A5D308C7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175B-8CF5-46E5-BF47-634D95E5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67A6-8577-4126-BBA9-A6BA327E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69F2A-69F8-40B5-9C2F-7C1BE3C7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9F0B3-24CC-4DA8-8499-96E6465A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6F808-6376-41D6-A824-B6F009A2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ADC1B-1EDF-4776-BF8E-99542344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6459A-9758-4DF1-874C-C908C4E7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43AD6-0B6C-46D5-B5EA-E6671CE8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C720E-7730-4A79-A335-369DC294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9B204-49AC-4BBC-BAE2-CFF62DC7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778A5-EADF-4E07-8177-F5FCD5A9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F8554-8C21-4F1C-BE2A-8FA2717A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57D12-0C2F-4907-A095-6CB507A0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8B17B-7FBB-47E5-877D-45A728A1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10956-B60D-4324-A2A6-133E0678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D8CF4-C242-4D8F-B260-DBD9B6BA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80E5E-B8FF-43CD-BFD9-2D2D883C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FB300-0719-46E2-B274-94575477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B75FC-F93C-49CA-834A-19F3DA02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095BA-4B11-4F1E-AADB-ADCD4BFF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0FCA4-893C-42B8-9C1D-5E25F3E3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62EEF-166C-4B98-9D68-4DC66EC2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8BC7D-7318-4BEB-95BA-64FBA094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198AE-94BB-41A5-A350-E101CEE6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800C6-6F45-47AC-9F2B-C9386595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5E8C9-EF0F-4018-AC89-CB0EAE1E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E7F09-B32A-45BC-B609-EA62C758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D75D0-AD9E-4ABD-BDEB-124B0FA2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29798-1CF3-49CE-AD1B-BC97320F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E800B-0720-45FE-BA16-EDA5B046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749D9-89A1-44DD-9F19-2B04D13D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168D0-2F68-4779-99DE-05A90260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87C71-1D9A-43C0-8C15-0576BE1E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35FCC-41EC-425A-88B3-96CF3C45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37F97-A696-4A87-B3A0-4F77856A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132C6-45C2-4689-816A-34EBB871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339B8-026C-42A4-AC12-35C1DE0F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30CB7-35F2-48D9-A9E4-29C82EA9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BDFBD-8115-4159-BF22-EB7698A5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35024-03F9-4F3D-8E58-080E4D20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FF8E6-72C5-4985-B37C-2EB1718A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B9BEA-7137-4E6B-AE7A-117DF9BE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CD077-BC2D-4DC0-8245-2790F239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272C5-8DF6-4F96-8C7B-92E4DCCC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2D297-B4F1-405A-81B9-4C722175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2DBC8-EF3E-4F8A-A262-733995F0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9E560-2343-4B73-869A-43124227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FB975-B831-4B25-801B-AF494D06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2B83E-6F1D-4C27-BDBB-BDBE0442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6400A-A5DE-4977-BF85-06255E20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09810-AA2B-47A0-9EFF-18BF9F11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8A3BB-44CB-44A6-A84A-F4DD3E6D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1F186-26A3-4A2B-8E73-003F692F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2564-41DF-4DB4-9249-813021607FC8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1B11-E96E-45F8-8EEB-149782C2B55B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E247-98CE-4062-A43A-B090F9354517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E1E1-9B74-4A6C-974E-B026FB45B302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32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8E57-43D2-4D24-A7E0-5D9C55E60152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CUSP-LOGO-no-tagline.gif"/>
          <p:cNvPicPr/>
          <p:nvPr/>
        </p:nvPicPr>
        <p:blipFill>
          <a:blip r:embed="rId2"/>
          <a:stretch/>
        </p:blipFill>
        <p:spPr>
          <a:xfrm>
            <a:off x="7423200" y="6019920"/>
            <a:ext cx="1720800" cy="838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9710-31F6-40A0-8AB2-E24C6A363C92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3886200" y="6488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lide </a:t>
            </a:r>
            <a:fld id="{8FF677FA-6222-4471-88DF-34D3BC51D74C}" type="slidenum"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CUSP-LOGO-no-tagline.gif"/>
          <p:cNvPicPr/>
          <p:nvPr/>
        </p:nvPicPr>
        <p:blipFill>
          <a:blip r:embed="rId2"/>
          <a:stretch/>
        </p:blipFill>
        <p:spPr>
          <a:xfrm>
            <a:off x="7423200" y="6019920"/>
            <a:ext cx="1720800" cy="838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CUSP-LOGO-no-tagline.gif"/>
          <p:cNvPicPr/>
          <p:nvPr/>
        </p:nvPicPr>
        <p:blipFill>
          <a:blip r:embed="rId2"/>
          <a:stretch/>
        </p:blipFill>
        <p:spPr>
          <a:xfrm>
            <a:off x="7423200" y="6019920"/>
            <a:ext cx="1720800" cy="838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810B-23B9-42F4-84DB-12456A5E15D1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7480-039E-447D-956A-FC4B3DC06909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CUSP-LOGO-no-tagline.gif"/>
          <p:cNvPicPr/>
          <p:nvPr/>
        </p:nvPicPr>
        <p:blipFill>
          <a:blip r:embed="rId2"/>
          <a:stretch/>
        </p:blipFill>
        <p:spPr>
          <a:xfrm>
            <a:off x="7423200" y="6019920"/>
            <a:ext cx="1720800" cy="838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052B-1C37-46A9-8A25-F26B8D1CC5DD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59C1-3F74-46D6-B659-B5D2F6EFF92E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8" descr="CUSP-LOGO-no-tagline.gif"/>
          <p:cNvPicPr/>
          <p:nvPr/>
        </p:nvPicPr>
        <p:blipFill>
          <a:blip r:embed="rId2"/>
          <a:stretch/>
        </p:blipFill>
        <p:spPr>
          <a:xfrm>
            <a:off x="7423200" y="6019920"/>
            <a:ext cx="1720800" cy="8380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03DE-81AF-41B1-ADBC-394AA746E61C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0D22-0542-48E2-998E-58FB9481DD94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0" descr="CUSP-LOGO-no-tagline.gif"/>
          <p:cNvPicPr/>
          <p:nvPr/>
        </p:nvPicPr>
        <p:blipFill>
          <a:blip r:embed="rId2"/>
          <a:stretch/>
        </p:blipFill>
        <p:spPr>
          <a:xfrm>
            <a:off x="7423200" y="6019920"/>
            <a:ext cx="1720800" cy="8380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19BE-FA05-45C3-8A64-B601CC130C63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72F7-9D42-4B78-93F2-56175CA43CF5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DE80-1FCB-4897-AF1B-4B489A7F252B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9D8C-72F6-41E9-B2F9-F524A38C7BA6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CFEC-5739-47BE-BF5E-761AEDC9710A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12C7-B187-42C0-A1D3-49E08650E279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ABSI Supplemental Call 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304560" y="1904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Best Practices: How Successful Units Engaged Their Senior Executive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October 18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Arial"/>
              </a:rPr>
              <a:t>Present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Jonathan Kling, BSN, BHA, RN, CC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Scott Raynes, MA, 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Joan Chatham, MSN, 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Melissa Allen, MS, 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  <a:ea typeface="Tahoma"/>
              </a:rPr>
              <a:t>Lessons to Bring Home to your Hospital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Zero infections is achievable if everyone complies with the bu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We have had no CLABSI in our CCU since Jul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If you make the process simple and convenient, you are more like to achieve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Leadership support is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We teach this process to new graduate nurses during their orientation so they start out knowing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We are happy to share our checklist with anyone who is inter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ABSI Supplemental Call Ser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762120" y="2514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alibri"/>
                <a:ea typeface="Calibri"/>
              </a:rPr>
              <a:t>Craig Beck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alibri"/>
                <a:ea typeface="Calibri"/>
              </a:rPr>
              <a:t>President and CEO 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Calibri"/>
                <a:ea typeface="Calibri"/>
              </a:rPr>
              <a:t>Tennessee Hospital Assoc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alibri"/>
                <a:ea typeface="Calibri"/>
              </a:rPr>
              <a:t>Nashville, T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Tahoma"/>
              </a:rPr>
              <a:t>Tennessee Hospital Association Board A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-360" y="15238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Vision:   Healthier, Safer Tennesse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Aim:       Zero Preventable Har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Targets: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- Zero infections within 3 yea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          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- Top quartile performance on public measur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25560" y="386028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or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on achieving THA Board Aim of Zero Preventable Ha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ition Tennessee as a leader on patient safety efforts and healthcare-acquired infection reduction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elerate Tennessee’s efforts by focusing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ignment among partner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dersh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ltur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6" descr="Tennessee Hospital Association Logo"/>
          <p:cNvPicPr/>
          <p:nvPr/>
        </p:nvPicPr>
        <p:blipFill>
          <a:blip r:embed="rId1"/>
          <a:srcRect l="61494" t="0" r="-617" b="0"/>
          <a:stretch/>
        </p:blipFill>
        <p:spPr>
          <a:xfrm>
            <a:off x="7010280" y="1752480"/>
            <a:ext cx="2133720" cy="73836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5" descr="Tennessee Center for Patient safety  Logo "/>
          <p:cNvPicPr/>
          <p:nvPr/>
        </p:nvPicPr>
        <p:blipFill>
          <a:blip r:embed="rId2"/>
          <a:srcRect l="0" t="0" r="69815" b="0"/>
          <a:stretch/>
        </p:blipFill>
        <p:spPr>
          <a:xfrm>
            <a:off x="7086600" y="2743200"/>
            <a:ext cx="1828800" cy="8208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7" descr="Image of a key lying on top of a piece of paper that says success  "/>
          <p:cNvPicPr/>
          <p:nvPr/>
        </p:nvPicPr>
        <p:blipFill>
          <a:blip r:embed="rId3"/>
          <a:stretch/>
        </p:blipFill>
        <p:spPr>
          <a:xfrm>
            <a:off x="5715000" y="5083200"/>
            <a:ext cx="1828800" cy="162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3520" y="320004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Tahoma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90680"/>
            <a:ext cx="8229600" cy="10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ABSI Supplemental Call Ser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04920" y="23623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alibri"/>
              </a:rPr>
              <a:t>Jonathan Kling, BSN, BHA, RN, CCRN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Calibri"/>
              </a:rPr>
              <a:t>Director, Critical Care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Calibri"/>
              </a:rPr>
              <a:t>NCH Healthcare System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Calibri"/>
              </a:rPr>
              <a:t>Naples, Flor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ahoma"/>
              </a:rPr>
              <a:t>Initial Challenges &amp;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ea typeface="Tahoma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Buy-in from staff, physicians, and senior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Inconsistent data collection and reviewing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Outdated, non-evidence-based polici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ea typeface="Tahoma"/>
              </a:rPr>
              <a:t>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Consistent audit process with weekly meetings with senior leadership, physicians, and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With consistent data and timely communication, the cost benefits of quality care were clearly ob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Revision of policies in line with evidence-based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Best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Consistent application of insertion bundl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Tahoma"/>
              </a:rPr>
              <a:t>al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Identification of appropriat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Sterile technique, head-to-toe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Everyone in room sterile or clean at 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Sterile dressing and documentation of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Continuous assessment of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Consistent line care and maintenance at all times -- 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scrub the hu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ahoma"/>
              </a:rPr>
              <a:t>Lessons to Bring Back to Your Hospi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Collaborative, multidisciplinary team approach is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Mandatory staf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Quality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Policies must be in line with evidence-based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Clear direction set with senior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Strong physician champion is vital to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Invest in products with proven suc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Consistently use evidence-based practice “bundles”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 inse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Consistently re-educate and audit on daily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Tahoma"/>
              </a:rPr>
              <a:t>Keys to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Clear vision and direction of strong senior leadersh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Buy-in of physicians and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Cannot be done quickly or without the support of a large multidisciplinary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Never say good is good enough; the challenge to be the best requires daily follow through and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ABSI Supplemental Call Ser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2514600" y="1695240"/>
            <a:ext cx="449568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Scott Raynes, MA, MB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Chief Executive Officer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NorthCrest Medical Center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Springfield, Tennes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228240" y="3809880"/>
            <a:ext cx="426708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  <a:ea typeface="Times New Roman"/>
              </a:rPr>
              <a:t>Melissa Allen, MS, RN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Director, Infection Control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NorthCrest Medical Center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Calibri"/>
                <a:ea typeface="Times New Roman"/>
              </a:rPr>
              <a:t>Springfield, Tennes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647960" y="3809880"/>
            <a:ext cx="419076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Joan Chatham, MSN, RN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Director, Quality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NorthCrest Medical Center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Springfield, Tennes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  <a:ea typeface="Tahoma"/>
              </a:rPr>
              <a:t>Initial Challenges &amp; How they were Overcom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Initial CLABSI project started with IHI Save 100,000 Lives Projec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A CLABSI bundle was established and has been in use since th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Initial challenges were physician buy-in and complia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Results were reported quarterly to the Quality Review Committee, which includes senior administrators, physicians, and board memb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This group provided the support necessary to get physicians involved; nurses were empowered to speak up and stop the process if the physician was not complia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Best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Leadership bes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Keep senior leadership informed of progress and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Make success an organizational goal to keep everyone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Look constantly at your processes for opportunities for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Monitor every insertion and share compliance results with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Clinical bes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Have a central line kit that contains all necessary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Have a checklist attached to the bundle to make it immediately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Have a procedure cart with extra supplies immediately available in case an item in the kit is conta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Include consents and time outs on your check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3:21:50Z</dcterms:created>
  <dc:creator>Heon-Jae Jeong, MD, MPH, MBA</dc:creator>
  <dc:description/>
  <dc:language>en-US</dc:language>
  <cp:lastModifiedBy>Karen Fleming-Michael</cp:lastModifiedBy>
  <dcterms:modified xsi:type="dcterms:W3CDTF">2013-01-04T12:37:50Z</dcterms:modified>
  <cp:revision>1408</cp:revision>
  <dc:subject/>
  <dc:title>Project Report - Lean Sigma</dc:title>
</cp:coreProperties>
</file>