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F323-047F-43C9-B49E-CC06FB14868C}" type="datetime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ftr" idx="3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 type="sldNum" idx="3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D512-BFF3-4F36-B933-ABE6FD841E2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FC3F-C86F-46D1-BB15-D1982896ED7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0F4C-017C-4456-BC95-C1D9A4E4EDC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8478-1982-4B7C-BAE2-941787E0007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7ADE-098B-4B0C-85B2-31543E52A6A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C1EC-2E39-4858-B35B-E433DC35E65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D6A7-3884-4096-8F94-E8FB6CCD285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D7EBA-21C1-4C3A-9CF6-B067C6E6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6FA31-0D75-444E-970D-FC0F686F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55BF0-F7F3-4F6F-A636-258AE2A8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2AD09-575C-45C2-A768-7BD3B179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88BA5-E5D1-4729-9E4E-913B423B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E9475-E283-4439-AFD7-DAA9F07F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38C43-EB4C-4396-BDF6-CCFF2BD3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2C2D8-E9E6-47C0-A49A-D0BA6741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35245-97FE-4BDA-8716-77E1117BA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4B6D4-1312-4244-8A19-980029805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A2670-2739-4511-8EBE-EF4A527F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BE1C0-1A12-45EB-914B-EC8E78FD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524A6-C12A-4FB9-AE49-A354651D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17212-0BC0-4050-B372-A24A2D2E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D6AE6-39FF-4B52-BFC0-EFFCC3B8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2E50F-06DF-4B14-BDC0-062C86F0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0522E-6912-4EB0-8145-F4323946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249C2-E18B-4290-A7DC-7D4D757D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BFA8B-7A85-49FF-8CB0-DCBF0F01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FD42B-5682-4C5D-B54F-0B252299E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AF42B-AAC1-4B25-A019-27C1FA2A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220C8-974C-42A3-8E6D-CCC18E8D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3ED34-6641-4952-BBB6-128F0168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F3EE7-15CE-4100-A91E-065E292E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85A5A-0D87-4958-9948-97310975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E4B2D-DA7B-49ED-B299-5753B959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A2B20-1F47-4277-A166-FDD97695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1CCA3-191B-4F48-8E1D-105C1E9D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0CFD9-9357-4B04-944D-B934E4D5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8316A-DA38-4BF0-B307-3F9565AC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14786-BDFA-4F73-81FF-65BB05F0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35F42-51B5-4A23-A4AA-08C7CB3C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AD8D9-D0B0-4A7D-BC24-B669E710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D601C-DA28-4C29-AF92-1B37B2D9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D739C-A2D0-41AD-BC8C-E44F242B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340782-73C4-4AFE-8111-1A5BFE36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87202-1BC0-42D2-BB56-0718308D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D14566-8700-43F3-BF15-A2D43A3F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6E339-1A8F-4322-A931-AA4D8C17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E6851-CA2D-4B93-9A0E-097E0450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D80D9-807A-41DA-BE22-509EDBB3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FFF6E-F3EC-4DE6-90E3-B88E3045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D249C8-F84F-4CE3-B438-D7B86CD0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DDD3A-084D-4A63-BA32-C9850D494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40EC2-A0E0-40BF-8BEA-AB0AD45FA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FF013-6879-449E-AE55-A3BCC8E8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88C4E-DA52-40C8-9B4A-6EFFF9A4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BA94A-8C17-4AA8-B270-6367BB24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62424-5C61-42C3-82FB-DF71905A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867FA-8359-42E9-BBA4-A9671346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0C2CA-DFE1-4126-A641-5F28C110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3C9A6-A63B-4AB1-8C0E-CA6A12F3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230A1-9010-41FE-A50D-EE7FA9FD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AC71F-66C3-40AC-9467-0DB1DFB0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4BE51-B9EE-44EA-BA1C-1733FE8E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E867C-F538-4DA3-AD54-98F972F36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F2F12-B4D7-4CE4-947B-150BFC6DA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4319-752B-47FC-A724-A8BE2051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57CE-8403-40F0-98C0-09901762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7000-6145-48E9-A5C2-7A6DA157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77B4-C18B-405E-9CA2-215C4525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5764-35C9-4BBB-89C8-4B0E67B4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C78F-61BE-43A2-A593-D889C58F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AF59-231C-49DF-B09E-C1591CAF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7183-D904-4716-AE30-63EA2D6A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9FA8-8257-4032-B166-483CCC19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EEE7-8A78-4C29-A465-4E403AFA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7291-967D-4981-8999-FD6BF168A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5E94-97B1-4FBA-B42D-73A7BF7E8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C2FD0-4E5B-4409-B2BC-18A239034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7AB75-07C4-4A64-8E5C-1C583E7A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7FAD6-FFDD-4474-9878-D0021E8C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D5FA7-118F-4951-9BF5-6064599B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5B9A9-17D2-4A67-90D9-88AA7D6B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268DF-E253-4FC8-8D32-AD36F75F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2DD7B-2DF5-4637-B86C-3C6830C1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7AF0E-AF67-4D23-BC20-5E772495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2732F-F736-4A38-A314-75EF0A3F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CCF0A-91C4-4CB7-81EC-1BB932F6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5CDD6-9716-4B45-830E-209A46518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FB481-A1DA-4F98-A111-65C435418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C18E4-B1F5-4C41-A628-95CC30B19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FF706-C24C-4BCD-91F5-9040017C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D34E1-B014-45FA-A731-9F3BEA1C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21142-DD01-4A1C-849B-B57B4356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A54B5-88C8-411E-ABB2-3B044C6A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65205-3BEB-4E5C-A625-EF101F37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D8658-2E3A-4D00-8E6B-82742C14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AD8B4-7644-40C5-9091-FF95EDE6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42934-DE8C-4920-97F0-FC3595B2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DDB3A-8339-44F0-8B01-9D10375B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F4526-07A7-41D3-8C0F-E91C56456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D1643-A71E-41FD-A3B8-7C649CCF9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69747-0ED8-4D65-ADB0-D17763AFD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E5FA6-3D45-436F-9721-1FA44F6F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DBB3A-E437-4C6F-9B40-7259B0F0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84F1C-A6FB-4CB2-89C2-42B6CB32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2D617-903A-44C5-A6E6-AF41E61C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27283-207E-459D-9047-731C56CB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A1D2D-E1C5-4E6B-B5BC-5CF803D5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7D79E-6F77-47D3-A9E2-8461953B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1C415-8404-4888-AAAA-EF348676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B2A15-EC33-45E1-86B8-B459467F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19042-DAFB-4CBE-90BB-465B2506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9C80F-0614-4984-9EB1-8CEC36CDD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56D99-31BD-446B-B606-2A0E3843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21B21-2995-405A-9382-1BD28CFC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A336B-74EC-489F-B25A-52F7FDAA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D2963-52F7-4566-98BC-061D70AC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9E91F-5D07-4637-88C6-438FA72E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48C11-C938-4C68-A4FB-D60F701E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80414-0495-46CC-9FA8-64F4F0F9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83BAC-A7CA-41D6-A648-C7B85777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6BC5E-00A2-40D5-B5FF-450F07D9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9FD6F-FF6D-405B-9680-BEBBD053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99018-9B46-4D89-A162-233FEDD3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10650-0BE2-4C07-8064-C0D37977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87432-ACC2-48AE-B388-9E2D7BE80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3803A-5BA3-43AA-8EFB-3D42EEF9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EFF73-0D59-43A8-BEFD-40956662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2481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4572-3045-457C-A016-1F4A1FD57261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29A2-D4D2-4ED9-AD3E-751AD51928E6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0FA8-54EB-430C-B595-CC76FA93C4F4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4A7A-EEBB-48BE-A304-0298DF154081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32"/>
          </p:nvPr>
        </p:nvSpPr>
        <p:spPr>
          <a:xfrm>
            <a:off x="62481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1BDD-1141-42B4-802A-4C4F43E11FFD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CUSP-LOGO-no-tagline.gif"/>
          <p:cNvPicPr/>
          <p:nvPr/>
        </p:nvPicPr>
        <p:blipFill>
          <a:blip r:embed="rId2"/>
          <a:stretch/>
        </p:blipFill>
        <p:spPr>
          <a:xfrm>
            <a:off x="7423200" y="6019920"/>
            <a:ext cx="1720800" cy="838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34F1-3265-4D59-B28E-F0469B6E6BAB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3886200" y="6488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lide </a:t>
            </a:r>
            <a:fld id="{C81BDC44-05CB-41A2-BD83-0D67B79E4823}" type="slidenum"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CUSP-LOGO-no-tagline.gif"/>
          <p:cNvPicPr/>
          <p:nvPr/>
        </p:nvPicPr>
        <p:blipFill>
          <a:blip r:embed="rId2"/>
          <a:stretch/>
        </p:blipFill>
        <p:spPr>
          <a:xfrm>
            <a:off x="7423200" y="6019920"/>
            <a:ext cx="1720800" cy="838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CUSP-LOGO-no-tagline.gif"/>
          <p:cNvPicPr/>
          <p:nvPr/>
        </p:nvPicPr>
        <p:blipFill>
          <a:blip r:embed="rId2"/>
          <a:stretch/>
        </p:blipFill>
        <p:spPr>
          <a:xfrm>
            <a:off x="7423200" y="6019920"/>
            <a:ext cx="1720800" cy="838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F06F-6C2F-47ED-8FED-D9A90C60CFDE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FC3A-78B3-4F80-B24A-DBE866D1B00F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0" descr="CUSP-LOGO-no-tagline.gif"/>
          <p:cNvPicPr/>
          <p:nvPr/>
        </p:nvPicPr>
        <p:blipFill>
          <a:blip r:embed="rId2"/>
          <a:stretch/>
        </p:blipFill>
        <p:spPr>
          <a:xfrm>
            <a:off x="7423200" y="6019920"/>
            <a:ext cx="1720800" cy="838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4C17-0A0A-4CA2-8585-C89129D6F33A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3F29-4A1F-4DD4-BD31-8222AB94DF87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8" descr="CUSP-LOGO-no-tagline.gif"/>
          <p:cNvPicPr/>
          <p:nvPr/>
        </p:nvPicPr>
        <p:blipFill>
          <a:blip r:embed="rId2"/>
          <a:stretch/>
        </p:blipFill>
        <p:spPr>
          <a:xfrm>
            <a:off x="7423200" y="6019920"/>
            <a:ext cx="1720800" cy="8380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31D3-C2E0-4E60-960E-3BFBFAB83E29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9689-AF71-413F-A11B-59CF6DF5E2E6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0" descr="CUSP-LOGO-no-tagline.gif"/>
          <p:cNvPicPr/>
          <p:nvPr/>
        </p:nvPicPr>
        <p:blipFill>
          <a:blip r:embed="rId2"/>
          <a:stretch/>
        </p:blipFill>
        <p:spPr>
          <a:xfrm>
            <a:off x="7423200" y="6019920"/>
            <a:ext cx="1720800" cy="8380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1825-1103-4F7E-9A56-4887E111CCF7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B8C1-ED66-406A-93F1-A885395A66F7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7509-AE06-4CAF-A12C-649132FD2D6F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5C22-D690-489A-B9F0-E9569CB54F5C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2584-AC36-4233-BA7B-62F15E1E5F8D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E510-E04C-4BBD-8C24-963A6DACAE56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ABSI Supplemental Call 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304560" y="1904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Best Practices: How Successful Units Engaged Their Senior Executive 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October 18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8989"/>
                </a:solidFill>
                <a:latin typeface="Arial"/>
              </a:rPr>
              <a:t>Present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Jonathan Kling, BSN, BHA, RN, CC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Scott Raynes, MA, M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Joan Chatham, MSN, 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Melissa Allen, MS, 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  <a:ea typeface="Tahoma"/>
              </a:rPr>
              <a:t>Lessons to Bring Home to your Hospital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Zero infections is achievable if everyone complies with the bu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We have had no CLABSI in our CCU since Jul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If you make the process simple and convenient, you are more like to achieve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Leadership support is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We teach this process to new graduate nurses during their orientation so they start out knowing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We are happy to share our checklist with anyone who is inter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397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ABSI Supplemental Call Ser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762120" y="2514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alibri"/>
                <a:ea typeface="Calibri"/>
              </a:rPr>
              <a:t>Craig Beck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alibri"/>
                <a:ea typeface="Calibri"/>
              </a:rPr>
              <a:t>President and CEO 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Calibri"/>
                <a:ea typeface="Calibri"/>
              </a:rPr>
              <a:t>Tennessee Hospital Assoc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alibri"/>
                <a:ea typeface="Calibri"/>
              </a:rPr>
              <a:t>Nashville, T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Tahoma"/>
              </a:rPr>
              <a:t>Tennessee Hospital Association Board A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-360" y="15238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Vision:   Healthier, Safer Tennesse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Aim:       Zero Preventable Har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Targets: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- Zero infections within 3 yea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           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- Top quartile performance on public measur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25560" y="3860280"/>
            <a:ext cx="7238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or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 on achieving THA Board Aim of Zero Preventable Ha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ition Tennessee as a leader on patient safety efforts and healthcare-acquired infection reduction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celerate Tennessee’s efforts by focusing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ignment among partner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dersh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ltur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6" descr="Tennessee Hospital Association Logo"/>
          <p:cNvPicPr/>
          <p:nvPr/>
        </p:nvPicPr>
        <p:blipFill>
          <a:blip r:embed="rId1"/>
          <a:srcRect l="61494" t="0" r="-617" b="0"/>
          <a:stretch/>
        </p:blipFill>
        <p:spPr>
          <a:xfrm>
            <a:off x="7010280" y="1752480"/>
            <a:ext cx="2133720" cy="73836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5" descr="Tennessee Center for Patient safety  Logo "/>
          <p:cNvPicPr/>
          <p:nvPr/>
        </p:nvPicPr>
        <p:blipFill>
          <a:blip r:embed="rId2"/>
          <a:srcRect l="0" t="0" r="69815" b="0"/>
          <a:stretch/>
        </p:blipFill>
        <p:spPr>
          <a:xfrm>
            <a:off x="7086600" y="2743200"/>
            <a:ext cx="1828800" cy="8208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7" descr="Image of a key lying on top of a piece of paper that says success  "/>
          <p:cNvPicPr/>
          <p:nvPr/>
        </p:nvPicPr>
        <p:blipFill>
          <a:blip r:embed="rId3"/>
          <a:stretch/>
        </p:blipFill>
        <p:spPr>
          <a:xfrm>
            <a:off x="5715000" y="5083200"/>
            <a:ext cx="1828800" cy="1622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3520" y="320004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  <a:ea typeface="Tahoma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490680"/>
            <a:ext cx="8229600" cy="10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ABSI Supplemental Call Ser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04920" y="23623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Calibri"/>
              </a:rPr>
              <a:t>Jonathan Kling, BSN, BHA, RN, CCRN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Calibri"/>
              </a:rPr>
              <a:t>Director, Critical Care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Calibri"/>
              </a:rPr>
              <a:t>NCH Healthcare System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Calibri"/>
              </a:rPr>
              <a:t>Naples, Flor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ahoma"/>
              </a:rPr>
              <a:t>Initial Challenges &amp;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  <a:ea typeface="Tahoma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Buy-in from staff, physicians, and senior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Inconsistent data collection and reviewing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Outdated, non-evidence-based polici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  <a:ea typeface="Tahoma"/>
              </a:rPr>
              <a:t>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Consistent audit process with weekly meetings with senior leadership, physicians, and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With consistent data and timely communication, the cost benefits of quality care were clearly ob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Revision of policies in line with evidence-based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Best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Consistent application of insertion bundl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Tahoma"/>
              </a:rPr>
              <a:t>al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Identification of appropriate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Sterile technique, head-to-toe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Everyone in room sterile or clean at a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Sterile dressing and documentation of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Continuous assessment of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Consistent line care and maintenance at all times -- 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scrub the hu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Tahoma"/>
              </a:rPr>
              <a:t>Lessons to Bring Back to Your Hospi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Collaborative, multidisciplinary team approach is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Mandatory staf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Quality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Policies must be in line with evidence-based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Clear direction set with senior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Strong physician champion is vital to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Invest in products with proven suc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Consistently use evidence-based practice “bundles”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  <a:ea typeface="Tahoma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 inser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Consistently re-educate and audit on daily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397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  <a:ea typeface="Tahoma"/>
              </a:rPr>
              <a:t>Keys to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Clear vision and direction of strong senior leadersh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Buy-in of physicians and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Cannot be done quickly or without the support of a large multidisciplinary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Never say good is good enough; the challenge to be the best requires daily follow through and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397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ABSI Supplemental Call Ser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2514600" y="1695240"/>
            <a:ext cx="449568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Scott Raynes, MA, MB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Chief Executive Officer</a:t>
            </a:r>
            <a:br>
              <a:rPr sz="2800"/>
            </a:b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NorthCrest Medical Center</a:t>
            </a:r>
            <a:br>
              <a:rPr sz="2800"/>
            </a:b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Springfield, Tennes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228240" y="3809880"/>
            <a:ext cx="426708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alibri"/>
                <a:ea typeface="Times New Roman"/>
              </a:rPr>
              <a:t>Melissa Allen, MS, RN</a:t>
            </a:r>
            <a:br>
              <a:rPr sz="2800"/>
            </a:b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Director, Infection Control</a:t>
            </a:r>
            <a:br>
              <a:rPr sz="2800"/>
            </a:b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NorthCrest Medical Center</a:t>
            </a:r>
            <a:br>
              <a:rPr sz="2800"/>
            </a:br>
            <a:r>
              <a:rPr b="1" lang="en-US" sz="2800" spc="-1" strike="noStrike">
                <a:solidFill>
                  <a:srgbClr val="336699"/>
                </a:solidFill>
                <a:latin typeface="Calibri"/>
                <a:ea typeface="Times New Roman"/>
              </a:rPr>
              <a:t>Springfield, Tennes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647960" y="3809880"/>
            <a:ext cx="419076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Joan Chatham, MSN, RN</a:t>
            </a:r>
            <a:br>
              <a:rPr sz="2800"/>
            </a:b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Director, Quality</a:t>
            </a:r>
            <a:br>
              <a:rPr sz="2800"/>
            </a:b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NorthCrest Medical Center</a:t>
            </a:r>
            <a:br>
              <a:rPr sz="2800"/>
            </a:b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Springfield, Tennes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bri"/>
                <a:ea typeface="Tahoma"/>
              </a:rPr>
              <a:t>Initial Challenges &amp; How they were Overcom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Initial CLABSI project started with IHI Save 100,000 Lives Projec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A CLABSI bundle was established and has been in use since the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Initial challenges were physician buy-in and complia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Results were reported quarterly to the Quality Review Committee, which includes senior administrators, physicians, and board memb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This group provided the support necessary to get physicians involved; nurses were empowered to speak up and stop the process if the physician was not complia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Best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Leadership best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Keep senior leadership informed of progress and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Make success an organizational goal to keep everyone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Look constantly at your processes for opportunities for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Monitor every insertion and share compliance results with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Clinical best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Have a central line kit that contains all necessary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Have a checklist attached to the bundle to make it immediately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Have a procedure cart with extra supplies immediately available in case an item in the kit is contam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Include consents and time outs on your check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13:21:50Z</dcterms:created>
  <dc:creator>Heon-Jae Jeong, MD, MPH, MBA</dc:creator>
  <dc:description/>
  <dc:language>en-US</dc:language>
  <cp:lastModifiedBy>Karen Fleming-Michael</cp:lastModifiedBy>
  <dcterms:modified xsi:type="dcterms:W3CDTF">2013-01-04T12:37:50Z</dcterms:modified>
  <cp:revision>1408</cp:revision>
  <dc:subject/>
  <dc:title>Project Report - Lean Sigma</dc:title>
</cp:coreProperties>
</file>