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485ED-5ACE-4207-B817-4E7EA0DA65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8A072-31FB-4082-92FF-D75B882F915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F2E58-425B-4207-B04A-B1870784DA9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0B411-C2CE-41D6-B5F3-CF97183CC9B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FED76-D7A2-42A4-8B71-EC792F8DD3E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D201D-6184-492E-8C40-3CF27E48E11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C2DB0-5984-43B8-8121-053361687DC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6D55D-6627-4C0A-8AC3-3A4179FA6FF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1DB3D-A410-494C-8996-3C2BF9AF9E4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52395-800C-4DD0-8049-A7544C0F196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4AC84-4EBD-4113-B764-B67D3856D06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49BBFC-100D-4F34-A862-D454CBC2A3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61E30-486E-408C-825F-F8F68CBE73D0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65B622-660D-4C12-9BAD-ED97B569F06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8508C1-49BE-4294-93B9-608359EE175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1F3518-0961-487D-87DD-D86A3A04F9BC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E53859-3815-4773-9D19-38935ED2DE60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3DDD90-7F52-46FA-8BB0-AE1FE206F00B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EDD5B4-E27F-4204-8629-552BFFD623CA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6D9CCB-1464-4F42-8201-E19738E04BAF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422C9B-6C97-44C9-AF28-E132CF1F4D8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6971EB-E858-4ECE-B033-031EC172E1E1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752635-EF28-4449-B5FC-6B465732E2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1B759-0E1F-4457-BE89-AB66F2A66F57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58899D-9CAA-45FD-BE10-7048CD3B5826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50DDB-64FE-4884-894E-FFB39D147BE1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344044-8F41-4536-B2A0-7017EF1FEF67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9F8ED4-22DB-4702-8E53-AE04A8AD00E7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D497CD-2939-4A85-BD11-820AE7093CFD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996B28-9BF7-427B-893C-AA7025E79288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63782E-F2DD-47AF-9A43-B3FC79BA5830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D38A38-6FCC-4174-8420-4F85DD67F747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053A3D-1BDC-4AF3-98DF-BB04202858B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74F1F-2359-4231-A23B-669D0D42DA8C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49FB66-C68B-4FF3-864C-10BB2F703FE0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91E25D-CC73-4D8A-852C-484B77693DB6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5C4CC3-B350-4FC5-ADBE-9DBE28C126CA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516C08-BB72-4122-8598-651CC309C839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257455-5CAE-4585-8E9A-80D2259BBCA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D8B17-B4B7-4A8F-BF02-637418579E6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5DC11-6603-42F2-B3E7-46AEAAD2310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92624-C798-4C53-9A22-71594F7F7C6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41F63-BE45-4CC1-B68B-2A18D487DDE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C08B4-77F7-468C-8D39-F2D86B280A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392C1-6D45-4712-9EC4-5D99D24F44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AA3DC-D486-4F5B-AC26-1FF822BF812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92E6A-C165-48C9-BF20-321FCCC8132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1B0F9-B5A8-4F98-B4F2-D45F0B775AD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BE04F-80A0-4E05-A3FE-D83093CE50F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EC10B-6ADE-4133-83E4-865AD39CDE1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B331-2363-4EE1-86E8-FAB5EDF23F6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0DB4-A25E-463C-ACB8-32BC7F0518C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D9A7-6210-4AFD-A245-36916BF6488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3628-2AA6-4CB1-A428-DBC635105B2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C197-0934-472B-981A-4EFB42DDDA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D73C6-5D50-49C2-9360-4F6E22A966F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FB7B-4624-4823-BA3F-2C510CD3630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3764-5F81-470C-9EFA-5D4D79009A9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E441-DFFE-414C-8459-8C47690EF10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244E-D698-43D8-A708-60475322D63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DB6C-F847-47D3-8ADA-8CAFB847F7E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348B-B706-4BA3-9819-73A77B54E2B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5E82-52F0-4B7D-B829-BF33DC3218C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31CE2A-5E08-4445-804B-796B58C5C0B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DD3140-6822-436E-9235-55D67C16507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5BADC9-D8F8-4B71-BE5E-B2E8F7843D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5ABAB-856E-4B50-9D91-3B08C8EF5CD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EBEAB5-8E16-4E9E-A25E-55B74F3AB57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56EA3B-230E-4DBD-BFA1-C0C3954A205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619FF6-17A1-4A2E-8D8C-1FA86A0D89E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F28C65-22F9-40E6-A48D-AB265E5B942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5E248A-3D0E-4A3F-9FF7-F9A97AB99A5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4AD810-874E-4BF7-B70D-8CF62CFEBC1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CBCCBE-66C8-4921-9C05-2F36633D8E7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4D906A-A9B1-4577-A2E2-D6131BF794E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41A647-CDCA-4193-B422-FD2E55E1A99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195219-CB49-4DA8-934E-1BECAB26CE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35716-AA01-4D3D-9564-0DE0D7F40A5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AFBDCA-8FF4-4CBB-B551-4CE861E1591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BB1B0E-48C1-4230-B39A-D1D7F88E240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51B698-28E2-4939-92E1-4DF03124D1D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D6DB5D-2823-484D-9486-32BF377A7C2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9CE4BB-6CC1-4A53-B688-06C7369FEF3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FB6386-319C-4BD7-9C95-264D4215741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FDD3BD-442B-4509-859A-B405BFD05AD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E20ADB-004A-4F2F-AE77-D1C1E43865F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953136-0BFB-4BA7-A884-C3B9F2C9E4A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44C205-9A26-4C2A-BF97-00729DCD12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C22D5-ACDC-4FEE-ADDC-7821FAC340E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41D5A9-3330-4C83-A617-EC3592AA75C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AE850-E340-4C46-9902-87E4C1B0134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1ADC4-BC26-474D-B5FF-76048D78D4E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DADC0-0719-4FA6-B166-F8493CC54AC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47F2D-CDFB-40A9-9E3C-634ECE238A8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20697-584B-4676-8882-3B75BDF7561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45E24-3EC9-472C-8FEB-05B22AB1B37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A67ED-615C-4371-836A-C7420EE5DB4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67AF8-E283-4734-83B0-C7BE05C17DC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6F931-7E82-4A8A-82ED-D1EF6BE131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A099A-B7E2-4049-8B44-E199E12ECA8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92222-07D0-4F9D-AEB8-665102E18E4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3BFE3-0A28-4C95-B9EC-057A9625505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EDDF3-7533-42DD-B4BF-EFC07DFCBEB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B23941-1E81-45F3-BBC7-E851974C23D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913A6C-638F-45CE-8B2E-D907F615B0F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98AF06-4E2E-46B3-A0C9-6856D3761DD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691EC7-74DE-4BC5-91AE-643A0519555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C38774-BF17-4D14-A1CB-59082AED075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1A2919-9F8B-4716-88F3-DC78A8FF8BD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54AE2E-D867-4688-A47B-BC906153B4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7E418-707D-44E1-8896-0CA53BBA0DC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D45E46-ED64-49F2-B57A-ED7EE0A8B3B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71D904-151A-45AF-BBE4-9DD1952A384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CF3AC4-058B-4691-92B3-347073B8779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A3EE83-87CE-41DC-800C-6F9A3C2C0BA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ABC4F0-E3C7-4359-900F-23ADA9BA1B8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A01F71-CDCB-4D6D-8DAF-CEE64982F10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A8FCFF-2571-424F-AA7D-8298B8E8CA52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AF6C7D-201A-49CF-B6F0-FCEF1D26CEE2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D34994-8CD9-47C6-9658-200422AAAE8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3AE1E6-B412-4FE4-AF6D-5BD3AAE68B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32923-4210-4E5A-9290-6B268C73D3D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3C24DA-F83D-4358-B8EE-D73D77D20D4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CB7823-1FF5-44D5-9C88-A0549B1A2E5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23F3B7-FB21-4D10-91C1-DBEFCE2E965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DEA73D-BB58-4792-A5E6-46FB6D581BD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063FAA-44C1-4FE2-B5C1-971E135E863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960F04-C718-4F4B-BC9F-85A472594F84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F423D4-5B16-4A06-98D4-516C828ED0B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B2C64-1D9B-4F50-B76B-09365EA6469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50705-D61C-4E82-8A34-FACFD097E5F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7753E-2A4D-41A5-8EE7-40E48E0D17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78091-ED71-425B-848E-507F5C35EF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0" name="Picture 10" descr="alt=&quot;&quot;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sldNum" idx="10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85D6D-0D4C-43E4-804D-5A099732D6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1" name="Picture 10" descr="alt=&quot;&quot;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sldNum" idx="11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2C9D3-A20C-4DE3-9CD2-C3D9536748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itle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0" descr="alt=&quot;&quot;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85087-CD71-470E-BBA7-F07FD4F85F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10" descr="alt=&quot;&quot;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3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75EE4-7E7A-4A8F-832B-C20522BE32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10" descr="alt=&quot;&quot;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Num" idx="4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B54CE-F19A-41E5-BD00-F5A5339BBE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10" descr="alt=&quot;&quot;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sldNum" idx="5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B8972-2A99-4765-AED8-27A8D647A2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Picture 10" descr="alt=&quot;&quot;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sldNum" idx="6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0BB71-F03F-450F-A42D-0555A3DB4F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1" name="Picture 10" descr="alt=&quot;&quot;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sldNum" idx="7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DABB9-1A56-4F4C-A0C2-2507BC0C7F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10" descr="alt=&quot;&quot;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sldNum" idx="8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06B13-56B4-45C4-B5DD-CC4CB2A975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traight Connector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7" name="Picture 10" descr="alt=&quot;&quot;"/>
          <p:cNvPicPr/>
          <p:nvPr/>
        </p:nvPicPr>
        <p:blipFill>
          <a:blip r:embed="rId2"/>
          <a:stretch/>
        </p:blipFill>
        <p:spPr>
          <a:xfrm>
            <a:off x="6696000" y="5665680"/>
            <a:ext cx="2448000" cy="119232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Num" idx="9"/>
          </p:nvPr>
        </p:nvSpPr>
        <p:spPr>
          <a:xfrm>
            <a:off x="4568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F6AD4-426A-4EC0-A775-98C1A1CD5D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380520" y="2595240"/>
            <a:ext cx="8077320" cy="27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n the CUSP: STOP BSI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mproving Situational Awareness by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nducting a Morning Brief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s You Continue Planning Rou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457200" y="22096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You should ask 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ow many admissions are planned toda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hat time is the first admissi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ow many open beds do we hav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re there any patients having problems on an inpatient uni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Do You Anticipate Any Potential Defects in the Day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457200" y="18288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atient schedu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quipment availability or proble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utside patient testing or road tri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hysician or nurse staff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r skill m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When You Identify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Defects or Proble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457200" y="18288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ssign a person to the issue and have them follow 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dentify actions taken to meet any patient or unit nee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port back to the staff what those actions were or will b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ntinue to report it during morning briefing until it is resolved or use Status of Safety Iss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tatus of Safety Issues - CUS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533160" y="1676520"/>
            <a:ext cx="80010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7" name=""/>
          <p:cNvGraphicFramePr/>
          <p:nvPr/>
        </p:nvGraphicFramePr>
        <p:xfrm>
          <a:off x="380880" y="2286000"/>
          <a:ext cx="8229600" cy="2011320"/>
        </p:xfrm>
        <a:graphic>
          <a:graphicData uri="http://schemas.openxmlformats.org/drawingml/2006/table">
            <a:tbl>
              <a:tblPr/>
              <a:tblGrid>
                <a:gridCol w="717840"/>
                <a:gridCol w="2025360"/>
                <a:gridCol w="1774800"/>
                <a:gridCol w="1774800"/>
                <a:gridCol w="1936800"/>
              </a:tblGrid>
              <a:tr h="182880">
                <a:tc gridSpan="5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ew and Ongo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afety Iss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nta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tat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o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8" name=""/>
          <p:cNvGraphicFramePr/>
          <p:nvPr/>
        </p:nvGraphicFramePr>
        <p:xfrm>
          <a:off x="380880" y="4495680"/>
          <a:ext cx="8229600" cy="2057400"/>
        </p:xfrm>
        <a:graphic>
          <a:graphicData uri="http://schemas.openxmlformats.org/drawingml/2006/table">
            <a:tbl>
              <a:tblPr/>
              <a:tblGrid>
                <a:gridCol w="717840"/>
                <a:gridCol w="2025360"/>
                <a:gridCol w="1774800"/>
                <a:gridCol w="1774800"/>
                <a:gridCol w="1936800"/>
              </a:tblGrid>
              <a:tr h="187560">
                <a:tc gridSpan="5"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le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7200"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afety Iss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nta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tat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o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</a:tr>
              <a:tr h="185760"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200"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560"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200"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200"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560"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760"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200"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200"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9" name="Straight Connector 6"/>
          <p:cNvSpPr/>
          <p:nvPr/>
        </p:nvSpPr>
        <p:spPr>
          <a:xfrm>
            <a:off x="1219320" y="1981080"/>
            <a:ext cx="5943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6840" y="274284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 the CUSP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adowing Another Provid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y Do We Need to Shadow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4572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o gain perspective of the other provi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actic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sponsibil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ork environ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o identify issues that affect teamwork and communication that may affect patient care, patient care delivery, and patient outco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o Should Have This Experienc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457200" y="16765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atient care areas as part of CUS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aff involved in the delivery of patient care in units where culture score indicate a poor score in teamwork and safe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hen there is a difference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  <a:ea typeface="ＭＳ Ｐゴシック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 percent in culture scores between provider typ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s part of orientation to a new un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nits with little collaboration between discipl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57200" y="19051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view the shadowing tool prior to your shadowing experi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ollow your health care provider through his or her daily activiti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view your list of communication and teamwork problem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iscuss with the provid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ke a plan for resolu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457200" y="16765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-33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 up with questions and prompts for the personnel using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ke changes that are specific to your un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eview the To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ection 1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0520" y="1980720"/>
            <a:ext cx="815364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re any health care providers difficult to approach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ow did that impact the health care provider you followed? (obtained an order, ignored, etc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hat was the final outcome for the patient?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delay in care, etc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-152640" y="457200"/>
            <a:ext cx="9296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ituation Awareness -- An Overview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152280" y="1676160"/>
            <a:ext cx="8686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mbers of the team have an understanding of what’s going on and what is likely to happen n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ams are alert to developing situations, sensitive to cues, and aware of their implic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ection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457200" y="190476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id one provider get approached more often for patient issu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as it because another health care provider was difficult to work with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ections 3-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457200" y="2209680"/>
            <a:ext cx="81532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id you observe an error in transcription of orders by the provider you followed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id you observe an error in the interpretation or delivery of an order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re patient problems identified quickl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f You Were Following a Nur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457200" y="2133720"/>
            <a:ext cx="81532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id you observe that in a crisis or when there was an important issue, a nurse’s page or phone call was not returned quickl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hat was the outcome for this patient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f You Were Following a Physici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57200" y="1828800"/>
            <a:ext cx="81532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hat were the obstacles that a physician faced in returning calls or pages?  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hat other factors impacted his or her ability to see patient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Would You Ass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1142640" y="220968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ndoff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mmunication during a cri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r skil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aff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Recommendations and Ac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2" name=""/>
          <p:cNvGraphicFramePr/>
          <p:nvPr/>
        </p:nvGraphicFramePr>
        <p:xfrm>
          <a:off x="1143000" y="3727440"/>
          <a:ext cx="6708600" cy="2292480"/>
        </p:xfrm>
        <a:graphic>
          <a:graphicData uri="http://schemas.openxmlformats.org/drawingml/2006/table">
            <a:tbl>
              <a:tblPr/>
              <a:tblGrid>
                <a:gridCol w="3600360"/>
                <a:gridCol w="3108240"/>
              </a:tblGrid>
              <a:tr h="573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ecific Recommenda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ons Tak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73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73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73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563" name="TextBox 4"/>
          <p:cNvSpPr/>
          <p:nvPr/>
        </p:nvSpPr>
        <p:spPr>
          <a:xfrm>
            <a:off x="609480" y="1752480"/>
            <a:ext cx="8077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4640" indent="-287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will you do differently in your clinical practice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04640" indent="-287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would you recommend to improve teamwork and commun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Our Findin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4572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ndoffs for 4-hour shifts not thorough, increased opportunity to forget key details as this increased the total number of peopl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hysician consults usually obtained but not always read by the requesting team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urse often most informed but does not always speak 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Our Findin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457200" y="18288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urse is the provider most often left with patient information to pass on to another provider; few conversations from MD to M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harmacists did not realize how critical supplying Pyxis and stock drugs w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me providers avoid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MR was not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Our Findin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4572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urses did not realize how complicated sterile processing was; efforts made to keep trays toge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OE removed an important step; communicating to RN of stat or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hysicians unaware of unit policies, depend on RNs to complete tas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Our Findin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457200" y="20574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me nursing practices, such as labeling, should be used hospital wi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solation policies not adhered to -- Primarily physician personnel, consults; required RNs to speak 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ssertiveness training indi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Briefing Defined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304920" y="17521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 discussion between two or more people, often a team, using succinct information pertinent to an event.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533520" y="274284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A briefing immediately -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Maps out the plan of c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Identifies roles and responsibilities for each team memb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Heightens awareness of the situ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Allows the team to plan for the unexpec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5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Allows team members’ needs and expectations to be m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iscuss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5720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Question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ffective Briefin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380520" y="167652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Set the tone for the day -- Chaotic versus organized and effici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Encourage participation and ownership by all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Organizes thoughts regarding the proced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Establishes compet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Who has what skil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Who performs wh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Who knows wh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Predicts what will happen la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Plans for the unexpected, including equipment, medications, consul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en to Conduct Briefin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609120" y="2209320"/>
            <a:ext cx="81536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Beginning of the day – Morning brief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Prior to any procedure in any sett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Situational – Change in patient status results in deviation from plan of c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Reporting off brea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Shift ch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o Particip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228600" y="1904760"/>
            <a:ext cx="8610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92000" indent="-2822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hysician doing rounds who is responsibl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or the ICU patients that d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92000" indent="-2822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ight charge nur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92000" indent="-2822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ay charge nur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orning Briefing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57200" y="1828800"/>
            <a:ext cx="81532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ree simple ques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hat happened overnight that I need to know about?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here should I begin rounds?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o you anticipate any potential defects in the day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What Happened Overnight That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I Need to Know About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4572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You should ask -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as there adequate coverag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re there any equipment issu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re new cases posted to the IC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re there unexpected changes in patient acuit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re there any adverse event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ere Should Rounds Begi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457200" y="20574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You should ask -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s there a patient who requires my immediate attention secondary to acuity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hich patients do you believe will be transferring out of the unit today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ho has discharge orders written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6T21:09:36Z</dcterms:created>
  <dc:creator>Katy O'Shea</dc:creator>
  <dc:description/>
  <dc:language>en-US</dc:language>
  <cp:lastModifiedBy>Karen Fleming-Michael</cp:lastModifiedBy>
  <dcterms:modified xsi:type="dcterms:W3CDTF">2013-01-23T11:21:10Z</dcterms:modified>
  <cp:revision>46</cp:revision>
  <dc:subject/>
  <dc:title>Slide 1</dc:title>
</cp:coreProperties>
</file>