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72F1-15D5-4A55-AE1C-6B0625481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9C2B-CF67-4E38-AB85-FC1A295BAD5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8C1B-0302-438D-BA7D-8FD93A63E2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00C3-27BE-4FB4-B682-CA6CC4147E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CF3A-E210-43EB-A71F-CE0C79060EE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D8B9-C54E-473D-9524-A67D035171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71CA-611A-4860-85E5-A23C5D95866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F8A7-15BE-41FD-BE6A-CC8D73FBBFF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103C-7528-43B7-BB46-0EFFB62E56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7DB6-F947-453B-BFC3-58DC03EA66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B15D-3150-41BD-BB6C-8251EC13C22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D181B-1BC1-4E40-8DC1-8CDF9D396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ADDB-26F0-4967-9CF1-1046F574DDF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E5193-E6D5-4AFD-BE12-A49A37F19A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54177-B116-418B-9ABC-EFE700206EB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8E51CF-F679-404E-AE59-877C1259FF1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C4CBB-FAEB-47CF-9337-EC47EF237F0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4C3EF-ABD5-4CC4-B32E-4679A22F0AE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3A3E2-7316-4B5D-8BC7-6045E74069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31FFB-D287-49B2-842C-6B60654E31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E75B4-7238-4B7E-8919-C601AB82CD7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E2957-B004-4D4E-B7E3-806C00CE65E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1EAF6-5C72-4564-AF8F-E93A972A6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4D92-8CCB-43C8-84B0-B02DB123D4B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BB9C43-C784-4B74-BDCD-7BCD399732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DC6B-AC68-4C3F-94F8-270D0964BA7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D55AB-D961-4B48-BBE7-FAAFA2CC163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6CA56-8DE0-42FF-8CF4-9E7DF04CB2D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A1FFA-CBBC-4088-BDEA-4742782C0C3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97DB5-94CE-4DE3-962D-E16B61FE85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2602A-1341-4B36-8615-6F4FF7CA222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D4B0C-2660-4271-9497-767EF238C7C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38C82-7B1B-42B7-B74D-46D2F7AB8F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398A-9A32-4C42-8992-F5F7A6BAEB7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E31E2-98FC-4445-BBF7-58CBB6C4B50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0C3D8-EC06-4C4A-A131-5953866F75A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10C6C-66B0-4DF9-AA20-326D7FA4D70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259C2-10DE-48B8-9853-F193C4470CA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832DC-E9D0-4E21-B77B-DF6EEC0AB0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802B-68DF-494F-AAA9-123D9BBB72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8077-8EEC-4E17-8086-D3B959D732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F414-24D5-4F47-89E7-99583C63FD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ABEA-67EB-44B9-A202-73BA084A8D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6C01-C810-4D05-A5BF-AA16015A8A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540C-96E1-430E-A790-73F8F3AFC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44E5-F105-4043-B0E9-6044D08A51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E6E9-9D26-4218-81A1-4C55FF12A6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F5B5-799C-42AC-AE0B-D8D5A19057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FF7B-8776-41C1-A704-CAAAB7BF2F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0120-3857-4674-94D5-6E82E39446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1F2-00A9-4FFF-84F9-9AEC02E830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D63-9FF9-4BDD-9C7E-90879DE6F3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17F-FDE5-40D6-9CA7-A0B986E1B7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5D1-206A-413D-A28F-0F7924A1AF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834-F503-4EB0-897D-C8A19D17B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F31F-4AFC-426E-9CAE-54070408E5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2FB-5D2C-4FB8-95ED-D07F094258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539-F50E-4F06-BE57-2EEC6CD4A4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7B1-4E0D-4509-966B-FEC886DA72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ED8-D98F-4559-8143-6FC2B4055E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A77-00E2-414D-8F95-0DCA17718C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3B5-3518-47E0-905F-B07B5CA98D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BC6-BDBF-4E61-BD98-10F7213AB7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67673-8C0C-4289-BFA5-50232325AA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0CE46-261D-4279-BFDC-8107520C65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6A7B6-FA4E-49E9-AC68-10B0E1D46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3A09-4FFD-4337-8774-078C1DCB1E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4DEFE-22DD-406E-9312-9C693A514B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50F10-8A84-4AD0-A63F-2562466B23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32C31-2F6C-4F11-B599-16F48563C2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BDB27-40B3-4261-BCAF-D527BD559D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DED84-75F9-4F95-BF62-5170EA2021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30E6B-570D-4A26-B8EC-9B749D1575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D23B6-06A3-42E2-B6CA-C69C225397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38F4E-6F8B-4F22-B0A4-532D9E4F3C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62BA9-7668-4F5B-8991-0C53DBB002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D4313-21E5-40D0-9FE5-C0497EEB8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797D-95EA-4B05-AEEB-C227DE2FAF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AC702-5075-443D-AC8A-52F8C43CF3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A4C1E-70A7-4BE1-B1F9-050903396F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9B300-90AA-4A76-949A-E503FFC4B0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813A3-608E-4C13-8E9E-7DDA6F8560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D1676-2B36-4841-B4C0-2E5C5FE24C1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33EC2-DB2A-454C-9ADE-A7DFA967B8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A3991-9D6C-4F45-96C2-2D69D70062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8AB24-6BD6-4911-9559-8E2F46458F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72800-A7D3-491A-805E-1B12536640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34C8B-09E4-419B-82ED-8F8DCBC15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518E-BD14-4D8B-B0FA-47AD0188A8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04049-466C-4504-B52E-1AD9591E79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5448-5F6B-4682-992C-E177DF6F3B4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0E67-4956-4E97-ACAA-4295DCEFDC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1F46-76F4-4799-A581-636A01B8348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DB8F-159D-40CD-86E4-8BED2B3175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CFED-0BE6-45FF-A152-5FE76149EF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A6DD-B91C-4D53-8C28-E9FD74C67A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D1A3-4FE1-413B-B01C-F156B7A537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6ED9-BCC9-43B7-B25D-7AD64C0AE68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61E2-ED9B-4BF7-BFFA-21E2ED8C9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0BD1-BE04-44CD-9181-F1F6715AC1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416F-1598-4C27-8FC2-14F03A5156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5E28-C84E-4A18-A483-643972429F2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061B-0AE5-47F2-BE4C-B271078BED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C828A-3142-4261-95A1-6BC66187BE2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D3073-2F69-4870-B19C-1F4498B501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1E0457-9535-4502-839F-5CD8B5FFABE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9932D4-2B3F-4DF7-A5D7-B92B415FD3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D906D-68E9-444C-AF74-9B54661D83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6999A-7641-484B-8C36-137BE6E12B8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86D25-7FBA-4AF7-9547-33478F125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24B6-F527-4875-8E32-1F01C047E34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89BE3-3D8D-4065-ADB3-1E9B8EF4F24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BB98A2-3DB0-4DE6-8C47-1355BAD61A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6DC94-846B-470E-A4F1-C86F0210C79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DB025-2017-48FC-BD2C-00BC9E972E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4C5F6F-42E6-492C-8746-DF9E7887C11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78DD9-6888-41E4-A28D-9CD554B8AD7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849BC-DC7C-4E2E-9380-7026E40A9A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896EA-6C1E-462E-A59F-B912595ECB6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6C4A1-133A-411F-A299-8AA6022EFF5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18003-8057-4562-8898-97243781C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35C8-2692-4741-B92D-E32D2ADF860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2BEA2-74C1-4417-8BD5-7BAF2BBA43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24C61-0C13-47C9-ABC3-BB6EF1EAEE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A5F62-F9A5-4431-97CD-45E08C7501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2D3A8-B32C-430F-A184-C3DCBAE8F13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69A47-9375-45E1-90CB-E4DCF2A8AA1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16964-E954-4694-ACC6-E4289EB214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D1089-4274-4A79-9C53-A085A6571C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F6EB-561F-48E3-AE2A-9C8E8E33E9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ACD2-18D3-4833-9C78-C9C04A45248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D6E6-E462-4702-8E58-7EA8617F0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146B-6708-4E2B-A1E3-3C4257E5F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1F5F-DB48-45E1-81A4-E9FDAFCA2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E922-B688-4747-BFC5-449045D74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C7DB-949F-40EE-94DB-D5E683CF1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269B-0945-42E8-8BF0-501C47587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D456-A102-4A3C-956B-09C30581B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4F3E-7E16-42E3-BC51-E58297658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77CE-DA85-475F-B05E-14B5CD71EF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9B59-8CAA-4470-AF30-29C21B995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6D48-E93B-4124-A7BE-6644469A2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BEE6-84A9-4C84-85B1-84A52FE9F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80520" y="2595240"/>
            <a:ext cx="807732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the CUSP: STOP BS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roving Situational Awareness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ducting a Morning Brief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 You Continue Planning R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should ask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many admissions are planned to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ime is the first admis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many open beds do we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there any patients having problems on an inpatient un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You Anticipate Any Potential Defects in the 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quipment availability or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side patient testing or road tr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 or nurse staf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r skill m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en You Identif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fects or 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ign a person to the issue and have them follow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actions taken to meet any patient or uni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back to the staff what those actions were or will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inue to report it during morning briefing until it is resolved or use Status of Safet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atus of Safety Issues - CUS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33160" y="16765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80880" y="2286000"/>
          <a:ext cx="8229600" cy="2011320"/>
        </p:xfrm>
        <a:graphic>
          <a:graphicData uri="http://schemas.openxmlformats.org/drawingml/2006/table">
            <a:tbl>
              <a:tblPr/>
              <a:tblGrid>
                <a:gridCol w="717840"/>
                <a:gridCol w="2025360"/>
                <a:gridCol w="1774800"/>
                <a:gridCol w="1774800"/>
                <a:gridCol w="1936800"/>
              </a:tblGrid>
              <a:tr h="1828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ew and Ongo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fety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380880" y="4495680"/>
          <a:ext cx="8229600" cy="2057400"/>
        </p:xfrm>
        <a:graphic>
          <a:graphicData uri="http://schemas.openxmlformats.org/drawingml/2006/table">
            <a:tbl>
              <a:tblPr/>
              <a:tblGrid>
                <a:gridCol w="717840"/>
                <a:gridCol w="2025360"/>
                <a:gridCol w="1774800"/>
                <a:gridCol w="1774800"/>
                <a:gridCol w="1936800"/>
              </a:tblGrid>
              <a:tr h="187560">
                <a:tc gridSpan="5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fety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1857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Straight Connector 6"/>
          <p:cNvSpPr/>
          <p:nvPr/>
        </p:nvSpPr>
        <p:spPr>
          <a:xfrm>
            <a:off x="1219320" y="19810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6840" y="2742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CUSP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dowing Another Provi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Do We Need to Shad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gain perspective of the other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ct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identify issues that affect teamwork and communication that may affect patient care, patient care delivery, and patient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Should Have This Experi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 care areas as part of CU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ff involved in the delivery of patient care in units where culture score indicate a poor score in teamwork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n there is a differ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 percent in culture scores between provider 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orientation to a new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s with little collaboration between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the shadowing tool prior to your shadowing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 your health care provider through his or her daily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your list of communication and teamwork probl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 with the provi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a plan for re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up with questions and prompts for the personnel us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changes that are specific to your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view the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0520" y="19807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any health care providers difficult to appro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did that impact the health care provider you followed? (obtained an order, ignored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as the final outcome for the patient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delay in ca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152640" y="457200"/>
            <a:ext cx="9296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 Awareness -- An Overvie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52280" y="16761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team have an understanding of what’s going on and what is likely to happen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s are alert to developing situations, sensitive to cues, and aware of their im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904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one provider get approached more often for patient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s it because another health care provider was difficult to work wi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s 3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2096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you observe an error in transcription of orders by the provider you follow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you observe an error in the interpretation or delivery of an ord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patient problems identified quick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 Were Following a N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213372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you observe that in a crisis or when there was an important issue, a nurse’s page or phone call was not returned quick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as the outcome for this pati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 Were Following a Physic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828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ere the obstacles that a physician faced in returning calls or pages?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other factors impacted his or her ability to see pati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Would You Ass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14264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of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tion during a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r sk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commendations and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143000" y="3727440"/>
          <a:ext cx="6708600" cy="2292480"/>
        </p:xfrm>
        <a:graphic>
          <a:graphicData uri="http://schemas.openxmlformats.org/drawingml/2006/table">
            <a:tbl>
              <a:tblPr/>
              <a:tblGrid>
                <a:gridCol w="3600360"/>
                <a:gridCol w="3108240"/>
              </a:tblGrid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Recommend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 Ta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3" name="TextBox 4"/>
          <p:cNvSpPr/>
          <p:nvPr/>
        </p:nvSpPr>
        <p:spPr>
          <a:xfrm>
            <a:off x="609480" y="17524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ill you do differently in your clinical practi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464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recommend to improve teamwork and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offs for 4-hour shifts not thorough, increased opportunity to forget key details as this increased the total number of 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 consults usually obtained but not always read by the requesting tea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rse often most informed but does not always speak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rse is the provider most often left with patient information to pass on to another provider; few conversations from MD to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ists did not realize how critical supplying Pyxis and stock drugs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providers avo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R was not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rses did not realize how complicated sterile processing was; efforts made to keep trays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E removed an important step; communicating to RN of stat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s unaware of unit policies, depend on RNs to complete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nursing practices, such as labeling, should be used hospital 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olation policies not adhered to -- Primarily physician personnel, consults; required RNs to speak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rtiveness training ind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riefing Defin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1752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discussion between two or more people, often a team, using succinct information pertinent to an event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33520" y="27428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 briefing immediately -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ps out the plan of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dentifies roles and responsibilities for each team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ightens awareness of the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lows the team to plan for the unexp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lows team members’ needs and expectations to be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ffective Brief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05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t the tone for the day -- Chaotic versus organized and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courage participation and ownership by all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rganizes thoughts regarding the proced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stablishes compe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o has what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o performs 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o knows 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dicts what will happen l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lans for the unexpected, including equipment, medications, con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n to Conduct Brief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09120" y="2209320"/>
            <a:ext cx="8153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eginning of the day – Morning brie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ior to any procedure in any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ituational – Change in patient status results in deviation from plan of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porting off 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hift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Particip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600" y="1904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2000" indent="-282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 doing rounds who is respon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the ICU patients that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282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ght charge n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282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y charge n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ning Brief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828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ee simple ques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happened overnight that I need to know about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re should I begin round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 you anticipate any potential defects in the d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Happened Overnight Tha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Need to Know Abou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should ask 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s there adequate covera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there any equipment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new cases posted to the IC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there unexpected changes in patient acu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there any adverse ev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re Should Rounds Beg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should ask 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 there a patient who requires my immediate attention secondary to acuit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patients do you believe will be transferring out of the unit toda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 has discharge orders writt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21:09:36Z</dcterms:created>
  <dc:creator>Katy O'Shea</dc:creator>
  <dc:description/>
  <dc:language>en-US</dc:language>
  <cp:lastModifiedBy>Karen Fleming-Michael</cp:lastModifiedBy>
  <dcterms:modified xsi:type="dcterms:W3CDTF">2013-01-23T11:21:10Z</dcterms:modified>
  <cp:revision>46</cp:revision>
  <dc:subject/>
  <dc:title>Slide 1</dc:title>
</cp:coreProperties>
</file>