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6C34-89B5-40C1-B1F9-BB253BC45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94C6-5646-4B2A-9F1E-BFFBE296D92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01C4-784C-44D9-93C1-6B341D4F653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C6B5-BAAB-499E-98BB-8834D64EB42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9B6F3-4337-40B2-BC39-6DB5B284ABE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B86C-7967-4ECE-B99B-DF847DDAE5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7E19-C7E1-4456-B612-5D55E864FE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821E-24BE-4913-85BF-086A690230B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4361-3A37-464F-AA41-D6B341E5C0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192D-E333-4F0D-95D2-FE01543FC13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5F06-4840-43B5-AE38-AE10142DF58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E2A1E-31F7-486F-AA5E-DD79B1E4C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A6E0-ED5D-4554-9F37-5FF458E8C6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EBA2E-5145-4194-AA93-EC7A3EA6083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E73AB5-54C3-4158-A4A9-F3D225CDF4F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3262B-2A61-46B6-8C25-9A2371EFEAE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E41C0-BB6A-49B8-B26D-53D4BC8405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3A021-94C8-4A97-847C-F50C413AC58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DC1F2-33F3-4893-B9EB-ADD7F4CF245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807DD-BF4E-499A-AF0A-8555E0EAE1B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FA5551-D41B-4B87-8DCA-E43DF20F2F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CCC64-C3F1-4106-A6C9-B89D2F965C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164B8-7E28-4317-861C-09A14B99F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4312-713B-4071-8B02-FA9188B5970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DDEE6-62FA-488B-AF44-BEF01CD1C4A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451D-B19E-42F5-B8E4-4594F824225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A4045-1BC6-470F-B145-3EAEAD22C68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7B852-85D8-41EE-A87B-7B5BD354D13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9472C-7E3C-44B2-8815-E11BA16E8A9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A1842-C318-49C4-8488-636312DFF5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6B043-8687-4A25-94D4-E28A1DB810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8A014-616B-4E96-806C-8253042DA8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91F82-6A7A-4DF6-B0E5-D92CDBC12F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E0EE-ADFE-4C9B-9C70-BDF49A57A6E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9FEAC-0FCF-4F65-82BB-83CEFEE1FA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E46D2-6666-4FAC-A340-2AEA048CFF8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135D3-D548-4961-BA9A-94548D1B62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A0F56-0150-4D18-BE4E-66399AD1A3B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C666B-B012-41D2-AF9B-3B6A3B303E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36D9-CE71-4280-9332-86DA1B51CC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5FA1-28B2-4988-987E-61C41760E4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9BE9-E73D-41A2-B86D-B862304AD7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DCCB-E66C-4771-AB78-D4B58950F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C124-CB5E-41B4-B3FA-5AE405A75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F5BD-3089-42FF-8F3C-91E3D9DF1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4133-0D43-4355-97DB-965E413894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7639-225C-4E67-9E28-26346891B6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BADE-07DA-4BE7-A34D-C81B424489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0CF6-73CA-44AA-8F3B-B2A656C9A7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72B8-90AF-4EEE-B70C-9D11D3A44A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D7A-6831-47B3-AF9B-C35AD06BE8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584-6700-46A8-AC6B-4EE6DBC4AE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2C1-E91D-4C95-8AFD-3ED764EA3E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296-D468-408A-92F7-EC2E0B9990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B3E-3EF1-4646-B3A2-DB95F6EF65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1ABF-A763-408D-BC9F-1E07BBDDF4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FFF-8A9B-4A56-812A-07FD0BDD70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CCB-8C77-4F4D-9B9C-7AB160213D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919-54D6-43BE-894C-37A6EA8A37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E78-FBD1-47C8-B321-48B7D2C203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F1C-F72F-4D9A-8137-9E50764492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559-952D-4640-8670-BE0C875CF2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23D-CF97-423D-9CE5-C5EAFBE1E1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F5F92-A36B-49E8-AD78-4F5FDA965C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FC0D7-448E-483F-8B10-36DDE771DE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7345D-0611-4C3D-BC66-83CD83AFC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50B6-216D-4214-B05F-59E705ECB8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42626-A2A6-4119-B6E3-A4F889472F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AF401-8FF3-4007-8D0B-D9D18BD956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F713F-F2BF-4128-8245-90A14E8556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3E1A7-ECD3-4416-9BF5-012C6F5851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40898-67BA-4A6E-8840-7A90FD4B63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A5B35-4455-486A-9752-8A1AD5D29E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1D329-B30D-4DF6-B019-2C83E164B5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322F4-B0CB-49A8-90C4-F39C58CB95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45897-3C5D-487A-BC68-28A226E3E7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D70F7-D260-4B6C-A1B5-1B7BDAB33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E19F-7645-473F-9EE5-1BD11A20EE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782CE-1B17-42D5-855A-E66C8E9D830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80AAD-3197-451A-90CD-EDC52A6BFE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CD677-A904-4E1B-A420-F687ABBAD53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2F170-0A00-44AA-8E19-29818570AA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2B99B-266B-4D36-8F8D-D5DF3AA2B9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DB189-3F76-4EAD-83FE-DF891C5EEC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1D2F1-DA76-4F6B-8C8C-BC98280F00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83A1B-2594-4059-AA4D-7002B6A216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8A6A-1866-48B6-B858-81685BC197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678A2-2B48-4D0D-80B0-4F71D0E97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17BD-A87D-44E7-A3C0-3A028F95E6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5E097-6A7B-4855-928D-32A77A68681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58AF-0C6D-4C8E-8E71-7A78992E3B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1820-CB4A-4F15-A43E-5BE3A10555C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12F6-8244-453A-81B0-89B65D9546D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B7B8-9237-4E6B-9C7B-8C49250F8E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A8A8-2F0C-4FEC-9CCE-A0B73F68BD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E195-A739-4CA2-A477-9E5D19F7EEB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FA0D-D4FC-46DF-A012-DA5EA79AEC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37D4-5FE6-4AD4-966E-FB4CDF6AFC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3C5A-4125-4B0D-941F-BFBF49410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5056-50E2-4FB2-B6AA-2410AC9AB1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786E-DACD-445B-83FA-DD9F6BD49B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2257-74EA-4C63-99CE-5134F7AEBF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FBCA-7F8F-45AA-AEAE-A74DA8F4A76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6604E-9591-46FC-8D88-E75DE91EB2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61648E-0DB7-44C6-AA02-F1AAEC9359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54182-DEC4-44EA-94E9-9DEFBCD631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10A7C-5256-4835-B1FE-AEF774767E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5F7B2-5EBD-43F6-BAD7-88754646C2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C312B-9731-4E80-B1EB-ED8CC1D125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E1ABA-1F87-4C45-8C65-D6668038C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0B8B-B2C8-4616-86BF-593EEDE870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DA60C-FDEB-407B-A5BB-F1B8C609EE1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5B400-4E58-4947-AFCC-72143267EB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AD7EBB-FD11-4858-B674-4E269E1362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BC12C-4ACA-4886-938B-EB7E44C93F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8B890-4AC6-452E-9BB3-3986BE6303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4ADD6-C447-4110-8043-3930A9A0C4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7D22B-2269-438E-8AE2-22EB4EF519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F428D-9C15-4FA8-940F-E10CFE3FB07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C37AF-DDFF-4675-8017-51024EF317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F26F4-2DB3-48BA-97C6-9F2D4ECC8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6348-1409-4B9A-992F-8C9067BDC8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64F09-0A9C-46C7-8A1B-C51A7A42E3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A8CBB-26F5-417F-9431-4B21743554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EFCDB-4857-404E-BFA2-FB94C69F8E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BB257-5584-4FF3-A3CE-4508818B4C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A5D19-BC7C-432C-895C-54CDF6BAB8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B3D84-8567-4C8D-8DCE-F13166666C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7F70C-9402-4F3B-96D4-3E68423887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164E-9E10-4AFF-A63D-43191D5972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8BA3-3D1E-4BA2-9A03-411BAF8331D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EC9B-0CEB-4CA6-9935-339D70DC9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7FD6-2C7F-4D4E-9688-D5BA1CC90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5760-BC11-46D8-96DC-76B5B0DBE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1B3D-3F27-462B-9EFE-C87C51882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4868-7B6A-4326-AAB2-9163638E9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4AC-B84B-4354-964A-AB7D2300D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3A19-A61E-4F50-81C0-5E9117DAE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958-CC42-4592-B086-754FAD1DB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EFF-7F5B-4392-AB95-2713BE837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8F62-8E02-4339-8976-6E71BDE6FE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9747-190C-4074-BA8D-D1C0E23EF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A652-01B1-480E-8EB1-13CBA3E7BA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80520" y="2595240"/>
            <a:ext cx="807732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the CUSP: STOP BS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roving Situational Awareness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ducting a Morning Brief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 You Continue Planning R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should ask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many admissions are planned to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ime is the first admis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many open beds do we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there any patients having problems on an inpatient un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You Anticipate Any Potential Defects in the 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quipment availability or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side patient testing or road tr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 or nurse staf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r skill m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en You Identif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fects or 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ign a person to the issue and have them follow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actions taken to meet any patient or uni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back to the staff what those actions were or will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inue to report it during morning briefing until it is resolved or use Status of Safet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atus of Safety Issues - CUS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33160" y="16765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80880" y="2286000"/>
          <a:ext cx="8229600" cy="2011320"/>
        </p:xfrm>
        <a:graphic>
          <a:graphicData uri="http://schemas.openxmlformats.org/drawingml/2006/table">
            <a:tbl>
              <a:tblPr/>
              <a:tblGrid>
                <a:gridCol w="717840"/>
                <a:gridCol w="2025360"/>
                <a:gridCol w="1774800"/>
                <a:gridCol w="1774800"/>
                <a:gridCol w="1936800"/>
              </a:tblGrid>
              <a:tr h="1828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ew and Ongo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fety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380880" y="4495680"/>
          <a:ext cx="8229600" cy="2057400"/>
        </p:xfrm>
        <a:graphic>
          <a:graphicData uri="http://schemas.openxmlformats.org/drawingml/2006/table">
            <a:tbl>
              <a:tblPr/>
              <a:tblGrid>
                <a:gridCol w="717840"/>
                <a:gridCol w="2025360"/>
                <a:gridCol w="1774800"/>
                <a:gridCol w="1774800"/>
                <a:gridCol w="1936800"/>
              </a:tblGrid>
              <a:tr h="187560">
                <a:tc gridSpan="5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fety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1857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Straight Connector 6"/>
          <p:cNvSpPr/>
          <p:nvPr/>
        </p:nvSpPr>
        <p:spPr>
          <a:xfrm>
            <a:off x="1219320" y="19810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6840" y="2742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CUSP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dowing Another Provi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Do We Need to Shad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gain perspective of the other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ct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identify issues that affect teamwork and communication that may affect patient care, patient care delivery, and patient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Should Have This Experi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 care areas as part of CU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ff involved in the delivery of patient care in units where culture score indicate a poor score in teamwork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n there is a differ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 percent in culture scores between provider 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orientation to a new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s with little collaboration between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the shadowing tool prior to your shadowing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 your health care provider through his or her daily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your list of communication and teamwork probl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 with the provi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a plan for re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up with questions and prompts for the personnel us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changes that are specific to your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view the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0520" y="19807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any health care providers difficult to appro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did that impact the health care provider you followed? (obtained an order, ignored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as the final outcome for the patient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delay in ca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152640" y="457200"/>
            <a:ext cx="9296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 Awareness -- An Overvie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52280" y="16761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team have an understanding of what’s going on and what is likely to happen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s are alert to developing situations, sensitive to cues, and aware of their im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904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one provider get approached more often for patient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s it because another health care provider was difficult to work wi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s 3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2096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you observe an error in transcription of orders by the provider you follow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you observe an error in the interpretation or delivery of an ord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patient problems identified quick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 Were Following a N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213372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you observe that in a crisis or when there was an important issue, a nurse’s page or phone call was not returned quick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as the outcome for this pati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 Were Following a Physic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828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ere the obstacles that a physician faced in returning calls or pages?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other factors impacted his or her ability to see pati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Would You Ass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14264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of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tion during a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r sk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commendations and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143000" y="3727440"/>
          <a:ext cx="6708600" cy="2292480"/>
        </p:xfrm>
        <a:graphic>
          <a:graphicData uri="http://schemas.openxmlformats.org/drawingml/2006/table">
            <a:tbl>
              <a:tblPr/>
              <a:tblGrid>
                <a:gridCol w="3600360"/>
                <a:gridCol w="3108240"/>
              </a:tblGrid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Recommend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 Ta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3" name="TextBox 4"/>
          <p:cNvSpPr/>
          <p:nvPr/>
        </p:nvSpPr>
        <p:spPr>
          <a:xfrm>
            <a:off x="609480" y="17524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ill you do differently in your clinical practi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464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recommend to improve teamwork and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offs for 4-hour shifts not thorough, increased opportunity to forget key details as this increased the total number of 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 consults usually obtained but not always read by the requesting tea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rse often most informed but does not always speak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rse is the provider most often left with patient information to pass on to another provider; few conversations from MD to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ists did not realize how critical supplying Pyxis and stock drugs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providers avo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R was not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rses did not realize how complicated sterile processing was; efforts made to keep trays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E removed an important step; communicating to RN of stat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s unaware of unit policies, depend on RNs to complete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nursing practices, such as labeling, should be used hospital 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olation policies not adhered to -- Primarily physician personnel, consults; required RNs to speak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rtiveness training ind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riefing Defin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1752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discussion between two or more people, often a team, using succinct information pertinent to an event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33520" y="27428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 briefing immediately -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ps out the plan of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dentifies roles and responsibilities for each team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ightens awareness of the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lows the team to plan for the unexp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lows team members’ needs and expectations to be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ffective Brief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05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t the tone for the day -- Chaotic versus organized and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courage participation and ownership by all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rganizes thoughts regarding the proced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stablishes compe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o has what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o performs 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o knows 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dicts what will happen l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lans for the unexpected, including equipment, medications, con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n to Conduct Brief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09120" y="2209320"/>
            <a:ext cx="8153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eginning of the day – Morning brie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ior to any procedure in any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ituational – Change in patient status results in deviation from plan of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porting off 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hift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Particip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600" y="1904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2000" indent="-282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 doing rounds who is respon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the ICU patients that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282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ght charge n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282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y charge n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ning Brief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828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ee simple ques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happened overnight that I need to know about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re should I begin round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 you anticipate any potential defects in the d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Happened Overnight Tha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Need to Know Abou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should ask 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s there adequate covera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there any equipment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new cases posted to the IC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there unexpected changes in patient acu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there any adverse ev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re Should Rounds Beg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should ask 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 there a patient who requires my immediate attention secondary to acuit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patients do you believe will be transferring out of the unit toda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 has discharge orders writt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21:09:36Z</dcterms:created>
  <dc:creator>Katy O'Shea</dc:creator>
  <dc:description/>
  <dc:language>en-US</dc:language>
  <cp:lastModifiedBy>Karen Fleming-Michael</cp:lastModifiedBy>
  <dcterms:modified xsi:type="dcterms:W3CDTF">2013-01-23T11:21:10Z</dcterms:modified>
  <cp:revision>46</cp:revision>
  <dc:subject/>
  <dc:title>Slide 1</dc:title>
</cp:coreProperties>
</file>