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3"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4"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F468-3C39-48DA-BC5B-D76B47B95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 like to take the opportunity to thank you for having me speak to you today.  When we began focusing on central line blood stream infections at JHH, in particular, when we began to focus on the evidence around insertion, I wanted to know how we, as nurses, could help defend against these infections.  I soon realized that not only did I need to ensure that every patient received the evidence during the insertion of the central line, but we needed to ensure that every patient needed to receive the evidence for central line maintenance.  As I go through the evidence in my presentation, I hope that you go back to your hospital and ensure your policies are embedded with the evidence.  More importantly, I hope you ensure that every patient is receiving the evidence and you have a way or develop a way to monitor that this evidence is prov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FA62-F437-4D7D-89F9-228287C9C2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mmendations include: insertion, dressing change, IV administration set changes, hang time for parenteral infusions, catheter hub cleansing, removal of unnecessary lines, and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D3A6-18D2-40D7-9308-CA294A2DB6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my hospital, we have eight intensive care units. Some of our units have not had a BSI for 75 weeks. In one unit, they had a BSI about 35 weeks ago.  When we identified this BSI, we treated as a defect because we believe we need to treat every BSI as preventable instead of unavoidable.  What I mean by walking the process is to look at the entire central line process from insertion to removal and what we do is look to ensure that every patient receives the evidence eve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F945-178F-4D8F-976A-4B0243AE1C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e just reviewed the guidelines involving the maintenance of central lines.  The challenge is ensure that every patient receives the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process I’m about to describe is one that you should go through with each blood stream infection, this is also a good to do as on ongoing process to ensure that every patient is receiving the evidence every time. The ultimate goal, of course, is to completely lick blood stream infections with your patient, in your unit, and in your hospital.  </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06D2-B19C-4824-A651-16008FB21F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echnology costs money.  In our experience when we see spikes in infection or infection rates above zero, we find that the adherence to the recommendations that I just reviewed is not 100 percent. It takes a little time and effort to look at central line maintenance practice but in the end, from our experience, the spikes we see don’t occur when we are actively ensuring that we are 100 percent compliant with the recommend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2A6F-4A11-473E-AC73-9FC0E879E1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sons learned that I am about to described are all true.  These have occurred in one ICU or another across many of the ICUs in our hospital and in hospitals we have worked with along this jour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A560-5A14-4FED-A38C-AC0C1BB52B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76A496-67C5-4850-B249-E168AE3B83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5A06584-8DE9-4FD1-B57E-055793D634C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D05CD05-8229-40DA-A2C1-3014F9DC79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BED4899C-262E-4BEA-BD97-41F81BF7F2B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72D02B8-77BF-4D41-B971-3799943DE1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F4B3666-BC02-499D-A68F-F597492C759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ADDE76C-C103-40F7-8358-8FF8CB9FB7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E1F5963-93B8-4DEC-93B8-E999DA429FB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8AB1DFE-E3B4-42BB-9800-259EBBFADC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595937F5-D97D-4971-A426-96471A56C7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7F39968-2122-42F5-970C-4905D25A272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E2850D9-26DA-4E10-A4BD-545B44CE5E6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080C09D-4819-40D5-85B4-480403490DE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707E61D-C63C-46E3-BBE4-F5C443604A9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608208A-8AAD-4C51-83E5-F42F92676F6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FA74478-C672-4B46-A078-1D657559CED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DCF0427-D05F-4B99-B822-68DE5DE49D4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D3C2F702-0AEA-4836-8885-AC9BC5FC048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9267904-3DCC-4C23-B5FF-A2CF0400DBF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5DF0B7C-D3FA-4D3E-9B45-CCA9E2070CA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EB86CD4-59E8-4D48-8D2C-D137589B365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FC782DE-B212-499D-8B5B-D6DA769E0D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64CB4F-1EB4-4C20-B76B-3299D565487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30036E6-87A4-4C33-BFF3-BB52BD5959B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49B52B73-5362-4807-9F19-06877FE3CDD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A360B911-FBCC-491D-87F5-B4CF4CA2D9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0BCCC32-E899-4700-9DF9-3C0F031BCF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12468B8-4E1E-469F-A52B-7FCB0E25C5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B04CC4E-FB12-4D47-A2AB-3C6E05F16F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9D2D6D4-3515-41B2-8DDD-8765909FBF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85F251D-E546-437C-9F6A-7B5D1AC906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AA4675-8993-4447-99A9-47ED7A65CE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C689996-A282-49E1-A1F1-ACB691003C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193F91F-0433-4774-9A8C-19B0FFEEC2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070FC9-8BE0-4449-8A67-DED69A9D92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6AD34F5-EEF1-4FF4-9D56-36409C1A31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F70DA88-E2AE-4E00-B14D-5C864A67CE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E9A0301-6F16-428D-AB35-EBC4042F71B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5B8B55-1173-41DE-BCC3-12316F50BC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A296600-45C6-42B7-A57D-FDBA33705B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895173C-6489-495D-A066-4D74F3D64A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4506347-917D-460C-B1C5-DA2868FFE65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9040F7BE-9FC3-46EA-A119-2734217A70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C77B99D-5FB2-4617-9041-2F570AAE0A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B9A1AA0-7F9C-4811-9330-12499210B2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BA9C976-2B73-4CAD-BFF1-BD294DEC01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3389D52-43E9-46FC-994E-2ED3B4A06B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8B86D98-CC5C-4435-804D-CB1E930FDD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75E08C0-A90B-40D9-B9F8-D02EF7404A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E66D71D-2DB8-400E-8582-05D46DF2CF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6A7536C-3A2B-4C5F-AA6C-FF48BBBF830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1A9A96-CA7D-4A52-B9C0-F91FD6FA5C0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96DC028-ECF3-4C86-A5CA-9892246226E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A0C9198-D702-494D-8DE4-25A2977FC8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4381115-5951-4264-A05B-FED43C426E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D037ADB-7C05-44B3-B951-BB34AA7D0C9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782A82B-083A-4E64-B7F1-1ED5ADE1B0B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498D1C3-8AAA-406B-822B-7CAE034CA18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95FA24-A382-4CCE-99DB-60B5B23D54D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E91168-A2EF-4143-831F-E5FBAD4BF4D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A82EA6-082D-47B4-B983-F7A8289BDAC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61AFA96-5A11-4866-B25B-F0E1AA68F0F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FE4996B-61A3-4BBB-8B51-E2A2C111FED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F6CC834-58F0-423A-8DF0-BF2C76D3BB7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A74BF1D-72A1-4A68-A72B-77530C002A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B2128BF-A563-4898-AE78-023EA2AA2F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51BDA0-05E8-44AA-84FE-413ADF6495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1070E2B-84D2-4DB2-B063-53B2FB2B512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CE4A622-92ED-4E6E-BBCD-01D6EDFC57E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2AB63E9-43D1-4C77-BFF7-7A52B42B7E7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E79BE42-EA9D-44C3-B3BF-1B014E66D94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C9F8D04-8AE3-4756-AB13-5A51C1A1716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13B50F-974D-4153-93A7-96B5B6447A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A1EDF78-C104-4629-8C6D-CB5A6C45C54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20AE0B1-8707-4A21-85C8-59CD5288304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E843C2C-A6A3-45DB-9703-279B8BCA18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7F373FD-2E2B-4F05-AFEE-321AB1688F5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F1FFAF2-0F8D-4BF5-82D6-0420DF9FC5F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D391990-581E-431B-9866-BBB8886C184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07C1CE8-DD2D-4BD7-A4B3-4731A003262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CF176E2-F772-4D4D-9E23-14CFBE6D4C4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F4945CD-F08F-48F9-A032-341321AAE4B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B30CDF9E-9A49-4C4B-98A0-9FF81FBFE4E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2980DCA-573A-4F36-826D-1DA4146CB1F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6F530D8-B7E2-4238-813A-EBD1F648FE9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46D9A39-12D0-4ECE-816A-ABB4DA175F4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8FA2F81-98EF-4594-AE77-EF4413EB62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7C5C1A-24F4-4BB1-A8FB-E5BA2B03026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7C989D6-06D8-4DCB-8696-D7E45E29673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FDC5E3D-C595-4C8F-B6F2-106427DD3DF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C5F6351-EBFE-4B66-AFCB-CD2A05553E3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40420C4-3CA0-4027-B4EC-B73E7FC11BF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D711FEA-69F5-47E0-A147-F1FE7365921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E9C1E24-D3BA-43A0-BB27-621B94C763E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7714C53-A920-4AE0-B15D-F8DC1CBF9C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74A349D0-A1C8-49AB-B7C6-16D24CA8099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3F21DD3-6092-4F75-9678-2733FFBD4AC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51FA716-6C81-43EE-835A-6E9766AF4E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F16FF5C-7863-401B-8C6A-FD1DCE58998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FFDAF1B-AA96-4845-8039-F5D136B49E6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FC7667B-6D98-4A42-8652-90701E939FE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2AEF729-B50F-4263-815C-745EAC301DF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8BD51F8D-6C09-42A8-9C5A-7FF529A1729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EA915CA3-3F4E-42CC-83FC-8C3B8113556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0978537-8B29-465C-8975-6B128DF5025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786C7C6-A0B7-4224-802D-7EA913FFAEE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1D9B716-796A-489F-961C-B31D624E60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A7885EC-3D8C-46EA-B188-FB70587677D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456D1AD-95C8-4142-85F0-23F37972F6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8D8CF6-76DA-4A6D-96E0-1D274583B76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F96B662F-6EDC-4CDD-9DFB-1AC164063C7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EC62251-2A49-4165-89DD-079519105AC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AA1D1E4-184E-445E-A872-49555D639F9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3C6EE06-6EA0-47DA-A3B0-7E6DBE81F6F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727DB4C-222A-4A1A-8418-B940EBECE1B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0BFD994B-E6D0-4969-B129-AA4E0455364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176BC0F2-1CFA-475C-98E2-004D8EBDF17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99DF533-469E-49C1-982A-288E4549BB2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8E86CAF-0325-4850-8F5F-B45825287E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D82085F-FEE8-4BA5-917C-97A9528686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590F-D0DF-44D8-8098-E3E6990892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8" name="Picture 10" descr="alt=&quot;&quot;"/>
          <p:cNvPicPr/>
          <p:nvPr/>
        </p:nvPicPr>
        <p:blipFill>
          <a:blip r:embed="rId2"/>
          <a:stretch/>
        </p:blipFill>
        <p:spPr>
          <a:xfrm>
            <a:off x="6696000" y="5665680"/>
            <a:ext cx="2448000" cy="1192320"/>
          </a:xfrm>
          <a:prstGeom prst="rect">
            <a:avLst/>
          </a:prstGeom>
          <a:ln w="0">
            <a:noFill/>
          </a:ln>
        </p:spPr>
      </p:pic>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1" name="PlaceHolder 3"/>
          <p:cNvSpPr>
            <a:spLocks noGrp="1"/>
          </p:cNvSpPr>
          <p:nvPr>
            <p:ph type="sldNum" idx="10"/>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5D53-78F1-448A-A15E-E0F85CBE17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 name="Picture 10" descr="alt=&quot;&quot;"/>
          <p:cNvPicPr/>
          <p:nvPr/>
        </p:nvPicPr>
        <p:blipFill>
          <a:blip r:embed="rId2"/>
          <a:stretch/>
        </p:blipFill>
        <p:spPr>
          <a:xfrm>
            <a:off x="6696000" y="5665680"/>
            <a:ext cx="2448000" cy="11923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44CF-A2F2-4B5E-A306-531E2452C2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10" descr="alt=&quot;&quot;"/>
          <p:cNvPicPr/>
          <p:nvPr/>
        </p:nvPicPr>
        <p:blipFill>
          <a:blip r:embed="rId2"/>
          <a:stretch/>
        </p:blipFill>
        <p:spPr>
          <a:xfrm>
            <a:off x="6696000" y="5665680"/>
            <a:ext cx="2448000" cy="11923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sldNum" idx="3"/>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B5C2-762B-4376-8286-2D6EA074B3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2" name="Picture 10" descr="alt=&quot;&quot;"/>
          <p:cNvPicPr/>
          <p:nvPr/>
        </p:nvPicPr>
        <p:blipFill>
          <a:blip r:embed="rId2"/>
          <a:stretch/>
        </p:blipFill>
        <p:spPr>
          <a:xfrm>
            <a:off x="6696000" y="5665680"/>
            <a:ext cx="2448000" cy="119232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 name="PlaceHolder 3"/>
          <p:cNvSpPr>
            <a:spLocks noGrp="1"/>
          </p:cNvSpPr>
          <p:nvPr>
            <p:ph type="sldNum" idx="4"/>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F03A-A016-449C-BF48-16E9A87F0F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5" name="Picture 10" descr="alt=&quot;&quot;"/>
          <p:cNvPicPr/>
          <p:nvPr/>
        </p:nvPicPr>
        <p:blipFill>
          <a:blip r:embed="rId2"/>
          <a:stretch/>
        </p:blipFill>
        <p:spPr>
          <a:xfrm>
            <a:off x="6696000" y="5665680"/>
            <a:ext cx="2448000" cy="119232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 name="PlaceHolder 3"/>
          <p:cNvSpPr>
            <a:spLocks noGrp="1"/>
          </p:cNvSpPr>
          <p:nvPr>
            <p:ph type="sldNum" idx="5"/>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7370-5805-4EEF-B7A7-1047CBBCC0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8" name="Picture 10" descr="alt=&quot;&quot;"/>
          <p:cNvPicPr/>
          <p:nvPr/>
        </p:nvPicPr>
        <p:blipFill>
          <a:blip r:embed="rId2"/>
          <a:stretch/>
        </p:blipFill>
        <p:spPr>
          <a:xfrm>
            <a:off x="6696000" y="5665680"/>
            <a:ext cx="2448000" cy="1192320"/>
          </a:xfrm>
          <a:prstGeom prst="rect">
            <a:avLst/>
          </a:prstGeom>
          <a:ln w="0">
            <a:noFill/>
          </a:ln>
        </p:spPr>
      </p:pic>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sldNum" idx="6"/>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322B-4BE3-4758-AACC-96F265F52A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1" name="Picture 10" descr="alt=&quot;&quot;"/>
          <p:cNvPicPr/>
          <p:nvPr/>
        </p:nvPicPr>
        <p:blipFill>
          <a:blip r:embed="rId2"/>
          <a:stretch/>
        </p:blipFill>
        <p:spPr>
          <a:xfrm>
            <a:off x="6696000" y="5665680"/>
            <a:ext cx="2448000" cy="1192320"/>
          </a:xfrm>
          <a:prstGeom prst="rect">
            <a:avLst/>
          </a:prstGeom>
          <a:ln w="0">
            <a:noFill/>
          </a:ln>
        </p:spPr>
      </p:pic>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4" name="PlaceHolder 3"/>
          <p:cNvSpPr>
            <a:spLocks noGrp="1"/>
          </p:cNvSpPr>
          <p:nvPr>
            <p:ph type="sldNum"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E7F4-FFD0-4347-8D7B-5F447261CC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4" name="Picture 10" descr="alt=&quot;&quot;"/>
          <p:cNvPicPr/>
          <p:nvPr/>
        </p:nvPicPr>
        <p:blipFill>
          <a:blip r:embed="rId2"/>
          <a:stretch/>
        </p:blipFill>
        <p:spPr>
          <a:xfrm>
            <a:off x="6696000" y="5665680"/>
            <a:ext cx="2448000" cy="1192320"/>
          </a:xfrm>
          <a:prstGeom prst="rect">
            <a:avLst/>
          </a:prstGeom>
          <a:ln w="0">
            <a:noFill/>
          </a:ln>
        </p:spPr>
      </p:pic>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7" name="PlaceHolder 3"/>
          <p:cNvSpPr>
            <a:spLocks noGrp="1"/>
          </p:cNvSpPr>
          <p:nvPr>
            <p:ph type="sldNum" idx="8"/>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7187-E53A-43D3-9EDF-BB31499633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7" name="Picture 10" descr="alt=&quot;&quot;"/>
          <p:cNvPicPr/>
          <p:nvPr/>
        </p:nvPicPr>
        <p:blipFill>
          <a:blip r:embed="rId2"/>
          <a:stretch/>
        </p:blipFill>
        <p:spPr>
          <a:xfrm>
            <a:off x="6696000" y="5665680"/>
            <a:ext cx="2448000" cy="1192320"/>
          </a:xfrm>
          <a:prstGeom prst="rect">
            <a:avLst/>
          </a:prstGeom>
          <a:ln w="0">
            <a:noFill/>
          </a:ln>
        </p:spPr>
      </p:pic>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0" name="PlaceHolder 3"/>
          <p:cNvSpPr>
            <a:spLocks noGrp="1"/>
          </p:cNvSpPr>
          <p:nvPr>
            <p:ph type="sldNum" idx="9"/>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882F-9DED-4889-8387-407DBF05B9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LABSI Investigation</a:t>
            </a:r>
            <a:endParaRPr b="0" lang="en-US" sz="4000" spc="-1" strike="noStrike">
              <a:solidFill>
                <a:srgbClr val="000000"/>
              </a:solidFill>
              <a:latin typeface="Calibri"/>
            </a:endParaRPr>
          </a:p>
        </p:txBody>
      </p:sp>
      <p:sp>
        <p:nvSpPr>
          <p:cNvPr id="476" name="PlaceHolder 2"/>
          <p:cNvSpPr>
            <a:spLocks noGrp="1"/>
          </p:cNvSpPr>
          <p:nvPr>
            <p:ph/>
          </p:nvPr>
        </p:nvSpPr>
        <p:spPr>
          <a:xfrm>
            <a:off x="533520" y="2666880"/>
            <a:ext cx="8076960" cy="19814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Calibri"/>
              </a:rPr>
              <a:t>Melinda Sawyer, RN, MSN, PCCN</a:t>
            </a:r>
            <a:endParaRPr b="0" lang="en-US" sz="4400" spc="-1" strike="noStrike">
              <a:solidFill>
                <a:srgbClr val="000000"/>
              </a:solidFill>
              <a:latin typeface="Calibri"/>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Calibri"/>
              </a:rPr>
              <a:t>David A. Thompson DNSc, MS, RN</a:t>
            </a:r>
            <a:endParaRPr b="0" lang="en-US" sz="44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cess Auditing</a:t>
            </a:r>
            <a:endParaRPr b="0" lang="en-US" sz="4400" spc="-1" strike="noStrike">
              <a:solidFill>
                <a:srgbClr val="000000"/>
              </a:solidFill>
              <a:latin typeface="Calibri"/>
            </a:endParaRPr>
          </a:p>
        </p:txBody>
      </p:sp>
      <p:sp>
        <p:nvSpPr>
          <p:cNvPr id="497" name=""/>
          <p:cNvSpPr txBox="1"/>
          <p:nvPr/>
        </p:nvSpPr>
        <p:spPr>
          <a:xfrm>
            <a:off x="380520" y="1676520"/>
            <a:ext cx="8153640" cy="48765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it Leve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time the IV administration set was replaced per polic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femoral lines versus IJ and S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time the checklist is us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time the protocol is follow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lines that could have been remov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nurses that are comfortable stopping procedure?  Did they stop it when necessar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lines that are changed after emergent placement?</a:t>
            </a:r>
            <a:endParaRPr b="0" lang="en-US" sz="30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736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499" name=""/>
          <p:cNvSpPr txBox="1"/>
          <p:nvPr/>
        </p:nvSpPr>
        <p:spPr>
          <a:xfrm>
            <a:off x="75960" y="1458720"/>
            <a:ext cx="4647960" cy="3697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V Administration Set Replacement</a:t>
            </a:r>
            <a:endParaRPr b="0" lang="en-US" sz="1800" spc="-1" strike="noStrike">
              <a:solidFill>
                <a:srgbClr val="000000"/>
              </a:solidFill>
              <a:latin typeface="Calibri"/>
            </a:endParaRPr>
          </a:p>
        </p:txBody>
      </p:sp>
      <p:pic>
        <p:nvPicPr>
          <p:cNvPr id="500" name="Picture 1" descr="A graph of IV Adminstration Set Replacement showing Non compliance from 8/20/04 through 10/12/05."/>
          <p:cNvPicPr/>
          <p:nvPr/>
        </p:nvPicPr>
        <p:blipFill>
          <a:blip r:embed="rId1"/>
          <a:stretch/>
        </p:blipFill>
        <p:spPr>
          <a:xfrm>
            <a:off x="154080" y="1743120"/>
            <a:ext cx="8686800" cy="4200480"/>
          </a:xfrm>
          <a:prstGeom prst="rect">
            <a:avLst/>
          </a:prstGeom>
          <a:ln w="0">
            <a:noFill/>
          </a:ln>
        </p:spPr>
      </p:pic>
      <p:sp>
        <p:nvSpPr>
          <p:cNvPr id="501" name=""/>
          <p:cNvSpPr txBox="1"/>
          <p:nvPr/>
        </p:nvSpPr>
        <p:spPr>
          <a:xfrm>
            <a:off x="2133360" y="5867280"/>
            <a:ext cx="4647960" cy="324000"/>
          </a:xfrm>
          <a:prstGeom prst="rect">
            <a:avLst/>
          </a:prstGeom>
          <a:noFill/>
          <a:ln w="0">
            <a:noFill/>
          </a:ln>
        </p:spPr>
        <p:txBody>
          <a:bodyPr anchor="t">
            <a:norm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onovost, et al. Jt Comm J Qual Patient Saf. 2006</a:t>
            </a:r>
            <a:endParaRPr b="0" lang="en-US" sz="15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503" name=""/>
          <p:cNvSpPr txBox="1"/>
          <p:nvPr/>
        </p:nvSpPr>
        <p:spPr>
          <a:xfrm>
            <a:off x="304560" y="1676160"/>
            <a:ext cx="830556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ICU’s central line infections associated with one particular provi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d providers given additional train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providers more comfortable with femoral site over IJ or S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d providers given additional training on IJ and SC inser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505" name=""/>
          <p:cNvSpPr txBox="1"/>
          <p:nvPr/>
        </p:nvSpPr>
        <p:spPr>
          <a:xfrm>
            <a:off x="304920" y="1676160"/>
            <a:ext cx="861048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rge RN found a dozen full-barrier drapes in a storage draw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dentified ICU central line cart with ¾-length drap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ted routine training on cart equipment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beled cart with required equipme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CUs and step downs each had central line cart, but providers on floors used a bundle that was not complet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ed new bundl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95360" y="3123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Calibri"/>
              </a:rPr>
              <a:t>Infrequent Infections?</a:t>
            </a:r>
            <a:br>
              <a:rPr sz="4000"/>
            </a:br>
            <a:endParaRPr b="0" lang="en-US" sz="44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requent Infections</a:t>
            </a:r>
            <a:endParaRPr b="0" lang="en-US" sz="4400" spc="-1" strike="noStrike">
              <a:solidFill>
                <a:srgbClr val="000000"/>
              </a:solidFill>
              <a:latin typeface="Calibri"/>
            </a:endParaRPr>
          </a:p>
        </p:txBody>
      </p:sp>
      <p:sp>
        <p:nvSpPr>
          <p:cNvPr id="508" name=""/>
          <p:cNvSpPr txBox="1"/>
          <p:nvPr/>
        </p:nvSpPr>
        <p:spPr>
          <a:xfrm>
            <a:off x="380880" y="167652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each infection a defect worthy of a full analysi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 comprehensive tool to help identify the system defec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from Defects Tool</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a plan to prevent the system defect in the fu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clusion</a:t>
            </a:r>
            <a:endParaRPr b="0" lang="en-US" sz="4400" spc="-1" strike="noStrike">
              <a:solidFill>
                <a:srgbClr val="000000"/>
              </a:solidFill>
              <a:latin typeface="Calibri"/>
            </a:endParaRPr>
          </a:p>
        </p:txBody>
      </p:sp>
      <p:sp>
        <p:nvSpPr>
          <p:cNvPr id="510" name=""/>
          <p:cNvSpPr txBox="1"/>
          <p:nvPr/>
        </p:nvSpPr>
        <p:spPr>
          <a:xfrm>
            <a:off x="380880" y="152352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your unit is implementing recommendations for central line mainten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your areas that need improv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 plan with your interdisciplinary team that includes Infection Control staf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plan and watch for resul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dding new technology if little or no improvement but only after you are 100% compliant</a:t>
            </a:r>
            <a:endParaRPr b="0" lang="en-US" sz="28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erences</a:t>
            </a:r>
            <a:endParaRPr b="0" lang="en-US" sz="4400" spc="-1" strike="noStrike">
              <a:solidFill>
                <a:srgbClr val="000000"/>
              </a:solidFill>
              <a:latin typeface="Calibri"/>
            </a:endParaRPr>
          </a:p>
        </p:txBody>
      </p:sp>
      <p:sp>
        <p:nvSpPr>
          <p:cNvPr id="512" name=""/>
          <p:cNvSpPr txBox="1"/>
          <p:nvPr/>
        </p:nvSpPr>
        <p:spPr>
          <a:xfrm>
            <a:off x="609120" y="1676520"/>
            <a:ext cx="8001000" cy="44956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schall J, Mermel LA, Classen D, et al. Strategies to prevent central line-associated bloodstream infections in acute care hospitals.  </a:t>
            </a:r>
            <a:r>
              <a:rPr b="0" i="1" lang="en-US" sz="1800" spc="-1" strike="noStrike">
                <a:solidFill>
                  <a:srgbClr val="000000"/>
                </a:solidFill>
                <a:latin typeface="Calibri"/>
              </a:rPr>
              <a:t>Infection Control and Hospital Epidemiology.</a:t>
            </a:r>
            <a:r>
              <a:rPr b="0" lang="en-US" sz="1800" spc="-1" strike="noStrike">
                <a:solidFill>
                  <a:srgbClr val="000000"/>
                </a:solidFill>
                <a:latin typeface="Calibri"/>
              </a:rPr>
              <a:t> 2008; 29 (supp. 1):S22-S30.</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Grady NP, Alexander M, Dellinger P, et al. Guidelines for the prevention of intravascular catheter-related infections. </a:t>
            </a:r>
            <a:r>
              <a:rPr b="0" i="1" lang="en-US" sz="1800" spc="-1" strike="noStrike">
                <a:solidFill>
                  <a:srgbClr val="000000"/>
                </a:solidFill>
                <a:latin typeface="Calibri"/>
              </a:rPr>
              <a:t>Infection Control and Hospital Epidemiology.</a:t>
            </a:r>
            <a:r>
              <a:rPr b="0" lang="en-US" sz="1800" spc="-1" strike="noStrike">
                <a:solidFill>
                  <a:srgbClr val="000000"/>
                </a:solidFill>
                <a:latin typeface="Calibri"/>
              </a:rPr>
              <a:t> 2002; 23(12):759-76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novost PJ, King J, Holzmueller CG, et al. A web-based tool for the Comprehensive Unit-based Safety Program (CUSP). </a:t>
            </a:r>
            <a:r>
              <a:rPr b="0" i="1" lang="en-US" sz="1800" spc="-1" strike="noStrike">
                <a:solidFill>
                  <a:srgbClr val="000000"/>
                </a:solidFill>
                <a:latin typeface="Calibri"/>
              </a:rPr>
              <a:t>Jt Comm J Qual Patient Saf</a:t>
            </a:r>
            <a:r>
              <a:rPr b="0" lang="en-US" sz="1800" spc="-1" strike="noStrike">
                <a:solidFill>
                  <a:srgbClr val="000000"/>
                </a:solidFill>
                <a:latin typeface="Calibri"/>
              </a:rPr>
              <a:t>. 2006 Mar; 32(3):119-2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sit JF, Schwebel C, Bouadma L, et al. Chlorhexidine-impregnated sponges and less frequent dressing changes for prevention of catheter-related infections in critically ill adults: A randomized controlled trial. </a:t>
            </a:r>
            <a:r>
              <a:rPr b="0" i="1" lang="en-US" sz="1800" spc="-1" strike="noStrike">
                <a:solidFill>
                  <a:srgbClr val="000000"/>
                </a:solidFill>
                <a:latin typeface="Calibri"/>
              </a:rPr>
              <a:t>JAMA; </a:t>
            </a:r>
            <a:r>
              <a:rPr b="0" lang="en-US" sz="1800" spc="-1" strike="noStrike">
                <a:solidFill>
                  <a:srgbClr val="000000"/>
                </a:solidFill>
                <a:latin typeface="Calibri"/>
              </a:rPr>
              <a:t>301(12): 1231-1241</a:t>
            </a:r>
            <a:r>
              <a:rPr b="0" i="1" lang="en-US" sz="1800" spc="-1" strike="noStrike">
                <a:solidFill>
                  <a:srgbClr val="000000"/>
                </a:solidFill>
                <a:latin typeface="Calibri"/>
              </a:rPr>
              <a:t>.</a:t>
            </a:r>
            <a:endParaRPr b="0" lang="en-US" sz="18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1920" y="3123720"/>
            <a:ext cx="8458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Calibri"/>
              </a:rPr>
              <a:t>Thank You</a:t>
            </a:r>
            <a:endParaRPr b="0" lang="en-US" sz="44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arning Objectives</a:t>
            </a:r>
            <a:endParaRPr b="0" lang="en-US" sz="4400" spc="-1" strike="noStrike">
              <a:solidFill>
                <a:srgbClr val="000000"/>
              </a:solidFill>
              <a:latin typeface="Calibri"/>
            </a:endParaRPr>
          </a:p>
        </p:txBody>
      </p:sp>
      <p:sp>
        <p:nvSpPr>
          <p:cNvPr id="478"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steps to take if your unit’s infection rate is higher than zer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lessons learned” from others who have walked this process</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75960"/>
            <a:ext cx="861048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ection rate above zero?</a:t>
            </a:r>
            <a:endParaRPr b="0" lang="en-US" sz="4400" spc="-1" strike="noStrike">
              <a:solidFill>
                <a:srgbClr val="000000"/>
              </a:solidFill>
              <a:latin typeface="Calibri"/>
            </a:endParaRPr>
          </a:p>
        </p:txBody>
      </p:sp>
      <p:sp>
        <p:nvSpPr>
          <p:cNvPr id="480" name="PlaceHolder 2"/>
          <p:cNvSpPr>
            <a:spLocks noGrp="1"/>
          </p:cNvSpPr>
          <p:nvPr>
            <p:ph/>
          </p:nvPr>
        </p:nvSpPr>
        <p:spPr>
          <a:xfrm>
            <a:off x="304920" y="2133360"/>
            <a:ext cx="8686800" cy="29718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entury Gothic"/>
              </a:rPr>
              <a:t>Or</a:t>
            </a:r>
            <a:endParaRPr b="0" lang="en-US" sz="4400" spc="-1" strike="noStrike">
              <a:solidFill>
                <a:srgbClr val="000000"/>
              </a:solidFill>
              <a:latin typeface="Calibri"/>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entury Gothic"/>
              </a:rPr>
              <a:t>Were you at zero and then had a spike in your infections?</a:t>
            </a:r>
            <a:endParaRPr b="0" lang="en-US" sz="44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pike in Infections?</a:t>
            </a:r>
            <a:endParaRPr b="0" lang="en-US" sz="4400" spc="-1" strike="noStrike">
              <a:solidFill>
                <a:srgbClr val="000000"/>
              </a:solidFill>
              <a:latin typeface="Calibri"/>
            </a:endParaRPr>
          </a:p>
        </p:txBody>
      </p:sp>
      <p:sp>
        <p:nvSpPr>
          <p:cNvPr id="482" name=""/>
          <p:cNvSpPr txBox="1"/>
          <p:nvPr/>
        </p:nvSpPr>
        <p:spPr>
          <a:xfrm>
            <a:off x="-360" y="2361960"/>
            <a:ext cx="8991720" cy="28954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suggest walking the process from line placement to maintenance before adding new technologies.</a:t>
            </a:r>
            <a:endParaRPr b="0" lang="en-US" sz="32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cess Auditing</a:t>
            </a:r>
            <a:endParaRPr b="0" lang="en-US" sz="4400" spc="-1" strike="noStrike">
              <a:solidFill>
                <a:srgbClr val="000000"/>
              </a:solidFill>
              <a:latin typeface="Calibri"/>
            </a:endParaRPr>
          </a:p>
        </p:txBody>
      </p:sp>
      <p:sp>
        <p:nvSpPr>
          <p:cNvPr id="484" name=""/>
          <p:cNvSpPr txBox="1"/>
          <p:nvPr/>
        </p:nvSpPr>
        <p:spPr>
          <a:xfrm>
            <a:off x="152280" y="1676520"/>
            <a:ext cx="8763120" cy="44956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tient Level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checklist us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protocol follow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everyone wear appropriate cloth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someone speak up?</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dressing secur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site cleaned and maintained per protoc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you use a preferred site for place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the line stay in longer than necessary?</a:t>
            </a:r>
            <a:endParaRPr b="0" lang="en-US" sz="27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486" name=""/>
          <p:cNvSpPr txBox="1"/>
          <p:nvPr/>
        </p:nvSpPr>
        <p:spPr>
          <a:xfrm>
            <a:off x="228240" y="1676520"/>
            <a:ext cx="8381880" cy="48765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ributable infection definition misunderstoo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CU taking credit for infections identified within 72 hours of being placed in the 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CU spread use of bundle to the 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ecklist used but nurses documenting noncompliance instead of stopping procedu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rses must be empowered to stop the procedur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urses did not feel they had leadership support to stop the procedu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ership gave nurses a number to call if any problems encountere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488" name=""/>
          <p:cNvSpPr txBox="1"/>
          <p:nvPr/>
        </p:nvSpPr>
        <p:spPr>
          <a:xfrm>
            <a:off x="304560" y="1676520"/>
            <a:ext cx="8305560" cy="4419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U was not asking daily if central line could be remov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ed question to Daily Goals workshe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nsistent compliance with scrubbing hub prior to accessing lin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crub the Hub” campaign in uni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cular access team and Infection Control provided training to all staff who accessed lines</a:t>
            </a:r>
            <a:endParaRPr b="0" lang="en-US" sz="2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andardize</a:t>
            </a:r>
            <a:endParaRPr b="0" lang="en-US" sz="4400" spc="-1" strike="noStrike">
              <a:solidFill>
                <a:srgbClr val="000000"/>
              </a:solidFill>
              <a:latin typeface="Calibri"/>
            </a:endParaRPr>
          </a:p>
        </p:txBody>
      </p:sp>
      <p:pic>
        <p:nvPicPr>
          <p:cNvPr id="490" name="Picture 2" descr="A picture of a nurse in a surgical mask and wear standing next to a cart. "/>
          <p:cNvPicPr/>
          <p:nvPr/>
        </p:nvPicPr>
        <p:blipFill>
          <a:blip r:embed="rId1"/>
          <a:stretch/>
        </p:blipFill>
        <p:spPr>
          <a:xfrm>
            <a:off x="2590920" y="1981080"/>
            <a:ext cx="3659040" cy="4114800"/>
          </a:xfrm>
          <a:prstGeom prst="rect">
            <a:avLst/>
          </a:prstGeom>
          <a:ln w="0">
            <a:noFill/>
          </a:ln>
          <a:effectLst>
            <a:outerShdw dist="139498" dir="2700000" blurRad="0" rotWithShape="0">
              <a:srgbClr val="333333">
                <a:alpha val="65000"/>
              </a:srgbClr>
            </a:outerShdw>
          </a:effectLst>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ine Cart Contents – 4 drawers</a:t>
            </a:r>
            <a:endParaRPr b="0" lang="en-US" sz="4000" spc="-1" strike="noStrike">
              <a:solidFill>
                <a:srgbClr val="000000"/>
              </a:solidFill>
              <a:latin typeface="Calibri"/>
            </a:endParaRPr>
          </a:p>
        </p:txBody>
      </p:sp>
      <p:pic>
        <p:nvPicPr>
          <p:cNvPr id="492" name="Picture 3" descr="Picture of content inside drawer 1."/>
          <p:cNvPicPr/>
          <p:nvPr/>
        </p:nvPicPr>
        <p:blipFill>
          <a:blip r:embed="rId1"/>
          <a:stretch/>
        </p:blipFill>
        <p:spPr>
          <a:xfrm>
            <a:off x="298440" y="1517760"/>
            <a:ext cx="3328920" cy="2573280"/>
          </a:xfrm>
          <a:prstGeom prst="rect">
            <a:avLst/>
          </a:prstGeom>
          <a:ln w="0">
            <a:noFill/>
          </a:ln>
        </p:spPr>
      </p:pic>
      <p:pic>
        <p:nvPicPr>
          <p:cNvPr id="493" name="Picture 4" descr="Picture of content inside drawer 2."/>
          <p:cNvPicPr/>
          <p:nvPr/>
        </p:nvPicPr>
        <p:blipFill>
          <a:blip r:embed="rId2"/>
          <a:stretch/>
        </p:blipFill>
        <p:spPr>
          <a:xfrm>
            <a:off x="4102200" y="1504800"/>
            <a:ext cx="3328920" cy="2573640"/>
          </a:xfrm>
          <a:prstGeom prst="rect">
            <a:avLst/>
          </a:prstGeom>
          <a:ln w="0">
            <a:noFill/>
          </a:ln>
        </p:spPr>
      </p:pic>
      <p:pic>
        <p:nvPicPr>
          <p:cNvPr id="494" name="Picture 5" descr="Picture of content inside drawer 3."/>
          <p:cNvPicPr/>
          <p:nvPr/>
        </p:nvPicPr>
        <p:blipFill>
          <a:blip r:embed="rId3"/>
          <a:stretch/>
        </p:blipFill>
        <p:spPr>
          <a:xfrm>
            <a:off x="291960" y="4114800"/>
            <a:ext cx="3322800" cy="2571840"/>
          </a:xfrm>
          <a:prstGeom prst="rect">
            <a:avLst/>
          </a:prstGeom>
          <a:ln w="0">
            <a:noFill/>
          </a:ln>
        </p:spPr>
      </p:pic>
      <p:pic>
        <p:nvPicPr>
          <p:cNvPr id="495" name="Picture 6" descr="Picture of content inside drawer 4."/>
          <p:cNvPicPr/>
          <p:nvPr/>
        </p:nvPicPr>
        <p:blipFill>
          <a:blip r:embed="rId4"/>
          <a:stretch/>
        </p:blipFill>
        <p:spPr>
          <a:xfrm>
            <a:off x="4102200" y="4133880"/>
            <a:ext cx="3322440" cy="25653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21:09:36Z</dcterms:created>
  <dc:creator>Katy O'Shea</dc:creator>
  <dc:description/>
  <dc:language>en-US</dc:language>
  <cp:lastModifiedBy>Karen Fleming-Michael</cp:lastModifiedBy>
  <dcterms:modified xsi:type="dcterms:W3CDTF">2013-01-07T12:46:56Z</dcterms:modified>
  <cp:revision>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5149243E18E894E866B845766CF3156</vt:lpwstr>
  </property>
</Properties>
</file>