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31E5-B2BC-4F9B-88EE-BAA41203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E3D1-3EB4-4EE3-A416-2D726B90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68F1-8404-4AC1-B16B-38D57406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ost recognized strategies, but not all are effe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A03B-D3A8-4E28-A5FF-E0670A98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thod of conflict resolution is from the military.  CAN be used Within  domains, between domains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6AE-D335-4DD3-9E1F-B96872DF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D mechanism when confrontation may not bring about a win for either the personnel or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335-89AC-43C0-B64B-5A06D708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0F9-05DF-4B0B-898A-A918940E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2F7-7CC0-472B-809F-66D7826D9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lessness can lead to self esteem issues, question our ability to work effectively, change our opinion of our workplace and in most severe situations lead to changing jobs, nurse turnov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7345-CA47-44B9-8849-12EAE1AB1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6BBB-5BA2-4023-B438-372DF8A93F3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7424-DE23-46D4-B98C-889C98BAF5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683C-1D9A-4888-ADE4-E3C8B27C01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3FF5-E63E-44F6-BBC1-8AFB808D99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2D58-601C-4AD2-A7FD-FB388C246C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BD04-30E4-4200-8823-D55B05AD30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3716-EF31-4379-80E2-9FCB45F509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96B9-051E-448B-BDB5-B70FCF9A72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6B20-5DAE-4D84-8812-51E82AC189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EC06-F814-49CE-9D9A-63858C69DA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C05C-A766-485C-858E-DADA474BFB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078D-5AF7-4CBA-B6DD-49C9570B07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FDABC-F004-4238-8C5C-EA505684859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C4490-D03F-433F-AAFC-9835C404C96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33017-D515-4259-BCC4-E31B695F6C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9A2BB-1D8B-44C9-BAA7-D9C5D1BFE05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4544A-19EF-48D7-9332-D934D3BA52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52E9B-1F5F-43A2-B07F-FB5F48A47D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46252-EC33-4F0E-AA04-4CFBE3F971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C1941-7D4E-4E97-B2EA-5CC7490C1C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6F070-59E9-428F-BDE5-C473699F1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2CC3-5C1F-4418-8EF4-9D235E6394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9BE33-F4BF-4DCF-AD16-24A224A9A6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85381-46F4-45B6-8F39-7E669F0C9B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ED900-A95B-4144-BEF1-982DB62FF8C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E4DE6B-A4C1-4EF9-BF4F-F98216E1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B233C-BEBD-44B5-A06F-602FEC7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0B0365-3F28-4735-AC7F-C460ECE4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5CEDC-AD55-4FDA-8BBE-3E865B1B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73FB7-D4E3-4D35-A993-5186F309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A161F-45EE-4416-9CB8-3D81B15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1D532-E35C-41BB-B973-0E8D019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760C-5A8F-4231-8109-E8F64BEF46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6BD32-B6C5-4068-97BD-7B64E8A8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A9E1E-C034-40EA-B62D-58A7B4B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5E390C-5A00-43DD-A633-16CB613C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4BCEE-C1F1-451D-BDDC-BD7D54CD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CB5E10-44EA-4287-BCAB-62900914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7EE99C-A06D-4AAA-B00F-66285882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8FA639-2160-421B-A737-60C6F10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6B4DA4-1578-4499-93B7-50F69BDD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2675A-8407-4F93-9707-90BC8EF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4115F3-4BB9-4CAD-92F1-5AB55E15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F54B-4523-46C3-B9D7-4C328B406C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1E2F7-CE85-4CC1-A2FF-F12A3AD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9447AB-D76E-4EB7-AEBC-8D9FEE1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58E80-40AC-48A5-9EC8-42A4264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E046F3-96FD-4965-8033-96ADB63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D4D96E-8CBE-452A-8F6D-2B0D43A8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3CA3BB-ED35-4B95-973D-5CA11D3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1EBFF-9971-400C-9599-A1B72365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97B8D-CC42-41DC-83FB-30B2F89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F2B6A-CAC3-4F8E-BBDB-449DB1ED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C3E878-FDEC-480F-BAC9-244A4E1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5076-14EE-47E2-A012-0476563E4BE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F3C59-A9F6-476D-B11B-85648579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DD238-E9C4-48FF-AA36-5C24E5D7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555D1-EE7C-47E1-B2EA-D6C883F7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FE932-0EB2-4927-807D-84F8747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761DBD-07BE-4FE5-BB2A-167BA24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FE8C12-925D-4C27-99E5-5C6B9CC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61782-6636-4348-9E30-5ED35FB8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E76FC-3EAA-464E-B4FA-365BB00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C3A35-D6D9-4A88-8860-01E511A3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28C0-6721-4652-B84A-A244E45D8D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BB5C-2CB7-4BB9-A2EA-DC489F01DB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4F64-91E0-4C0A-8A28-D446E5E50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518C-5725-4489-BC7B-2CC3EF094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554E-ADA6-4268-A1D8-50B236BB70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867E-BE1E-4BC8-84AC-F0424A8E3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421F-14E5-4B28-AA31-675E36BB2D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5C8F-D400-44C7-BDFE-4F8904B026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D769-039E-49AE-B9B0-3F28A62C24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4B8-772D-49EF-923A-E92FD94555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44B-F68F-42DF-A769-98E8B79B30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125-02A8-4BC8-97CD-2574C217AD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F82-62C7-4864-8531-59410412BD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E55-63FC-476E-AD44-3ECCD7384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FA82-402F-488B-AA5F-8E674AC2A4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189-D96F-4108-8A72-7DEA9D3041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B18-56E2-4CFC-BB7E-8EC1FC3CFA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64D-666A-495A-BDC7-0DCE18B137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ACE-362A-4EC4-ABE8-94DA0A9825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B0C-3956-468E-AFB4-F9E39A8C29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CB2-9EF3-420E-9440-A86CB0A12E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2DC-474C-4D42-A141-EB126DC7E0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5A11A-7E56-4D2A-B5EE-58052A5846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E1FA0-C953-4A8B-8045-828229B10B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17E91-E71A-420A-8E91-1A38DA906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5D99-66AD-4D73-BE30-814EFB5D79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A5FE8-94C0-42FE-A2C9-D765AA8EAB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75AA8-8B19-4715-8A11-3B1753183F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0D16C-220C-4890-B866-3D3F375594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B531-2054-49E9-B97F-E7623A166C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A6211-63C2-4100-A9A0-417F77E7EF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C1A3-1BF9-457E-B23A-10E2404EA3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8444-5AF2-4604-8EE1-C94555EA68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BDBF5-AFDF-4CEA-8C22-61691B3600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6F67E-5537-4207-9ACF-B77EB2F7A9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82C72-6DF5-4B6D-9680-E74F5A0E4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D24C-9C65-45FA-B636-F5DBE057A2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6C2BE-2234-4FA3-AFD3-4584C4A212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18BFF-1404-4F08-8F5D-E1F21E2612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8ECB-8F0D-4F1A-99FC-D73CFBD6BC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BA777-1016-45D7-97E4-93BA747DBEE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0D18E-FD3E-49A7-8F50-FCD0155519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66328-69AB-4CFA-8127-F8B5F7450E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BBA9-0641-4E48-B2D8-BB40505C9B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EEDAF-8CA1-42E6-ABA2-DA3DE12236D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549CF-6F88-4BF7-981F-5D674A6513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836A-63FF-45C0-819D-CDF9AF315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D513-AF9B-410E-BCA7-BAA302D96E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B7603-4616-4793-9578-9CD36D2D51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607B-0B44-40CB-866C-57971DCF9C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15FB-6778-4B2D-8398-C365221132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1A9-2B9E-4C0E-8A91-895E93229CE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EFB0-D0A3-4D0F-81B0-67E4911F16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7515-A00B-489D-BBCD-F6D3E417E5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1E42-E2D2-4E1D-93A9-2FECC42A02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C8B-D817-42D0-853C-5665D2B18C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248-05D2-43C6-A818-239C559EA8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C40E-3C19-4E4F-AFE1-877F3F665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11C7-2603-4436-A2A5-5E5A21199F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E1BA-BCB7-4F1D-A65D-44E55DCE43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211-5258-4A20-BBE9-4E55AD1231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F81-EB6B-47CA-87DD-5A7D09503A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A00D0-AFD3-4919-8F01-E17A12555D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4BF17-8D20-40E5-B9F0-A8FDE28779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321EF-00A0-4C6C-9F44-083C3BB0F6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D4485-4259-4D8E-8479-1D6E746B36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51D63-0256-47E8-BE9B-5F8DD25DD7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D1FCE-73A9-4CB8-AC47-86F0AE543B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2D2D6-6444-4113-B59D-6CC909387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F4E5-0C26-4984-ADBF-7D5F4281EE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37FD8-51CC-43B4-A089-F0E1E69A0A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C76FA-7F0D-43DC-98D4-4F4CE94D52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367DD-0255-448C-BB67-7C5EAC2D01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C24BC-FE26-436B-AE3F-820AD81FE9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E8EF0D-4B29-4343-8E10-54968A4C9D8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40E74-8A9F-46B7-A195-14E2A9136E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43624-34CD-4BC5-A777-F7B3EEF2E9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B198E-C560-42F0-977B-BECE699FC0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D739F-5AB2-403F-9358-8E4912FBAB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307E3-75D4-493A-ACE7-C13A81900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8398-C724-47D1-89D9-0EBDE2BD23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B3E79-6D32-4694-9689-4C6E3C298A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17A39-7D4B-4EAD-B31F-13BDCDD833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8B19B-9153-4495-BAFB-FE0779F812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E5935-E9C0-4664-AC6F-A3FEEC120A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B047C-1D34-4986-A0C3-D07A3BEBBB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F88E0-A0E2-4D5C-874C-F1FA9A17AA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A6F65-079A-4090-8808-303F1BAB24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DD32-A696-4E31-803D-356CC38E53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7B55-65D7-451D-9F9D-C35F5EF8F4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534F-9062-4131-A7B5-F1EFD4DC7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251E-10D8-459F-8E65-BAF3774DF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312-5DA6-4152-9108-694028BC6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B895-09A2-416C-AA98-CBD03E91F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1F2-F007-4898-8964-36BAA84FB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1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6521-982A-4736-A3CC-092E1D1A4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BBFA-34DA-4324-8FFB-E72670B3A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F73-E36B-4FB8-833A-C4DFED27F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1B82-52DB-4254-9ADA-ABAD0C1E5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0C73-09D3-4616-8FC4-6D6BEB920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9B8F-E497-441C-9DD3-F48F3338D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B27-052A-4E18-8B59-9250E27DD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C9FC-97D0-4165-A424-60D410D21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613D-FCE7-4617-8409-5CDF7A822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6880" y="5105520"/>
            <a:ext cx="8762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003399"/>
                </a:solidFill>
                <a:latin typeface="Calibri"/>
              </a:rPr>
              <a:t>Conflict 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199880" y="434340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vid Thompson, DNSc, MS, 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ll Marsteller, PhD, M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9" descr="An image of an umpire stopping a fight between two men "/>
          <p:cNvPicPr/>
          <p:nvPr/>
        </p:nvPicPr>
        <p:blipFill>
          <a:blip r:embed="rId1"/>
          <a:stretch/>
        </p:blipFill>
        <p:spPr>
          <a:xfrm>
            <a:off x="1523880" y="447840"/>
            <a:ext cx="5829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196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sser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0520" y="1778040"/>
            <a:ext cx="815364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to guide and improve assertion in the interest of 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7" descr="A model moving clockwise:&#13;&#10;&#13;&#10;Get Person's Attention&#13;&#10;Express Concern&#13;&#10;State Problem&#13;&#10;propose Action&#13;&#10;Reach Decision"/>
          <p:cNvPicPr/>
          <p:nvPr/>
        </p:nvPicPr>
        <p:blipFill>
          <a:blip r:embed="rId1"/>
          <a:stretch/>
        </p:blipFill>
        <p:spPr>
          <a:xfrm>
            <a:off x="1981080" y="2666880"/>
            <a:ext cx="46468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lpful Hints in Apply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sser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he common goal: Quality care, the welfare of the patient, safety – it’s hard to disagree with safe, high-qualit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the issue of who’s right and who’s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e on doing the right thing for patient-centered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rsonalize the conver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ly avoid being perceived as judg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hard on the problem, not the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rategies for Conflict Re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696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drawal—Little or no significance to either party (lose-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ing—Force outcome regardless of the desire of one party (win-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iliation—Giving in to preserve relationship with other party (lose-w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omise—Concerned with both outcome and relationship (?-?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CONFRON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et the problem head on (win-w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rontation is an Assertive mea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lict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ectful negot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Conflict resolution is what is right not who is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Aggressive. Use to explain perspectives. If handled appropriately may be an opportunity to educate the other party invol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-Attempt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elements of assertion make two attempts to reach a common go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r viewpoint is disregarded, traditionally continue up the chain of command or “escalate” to achieve re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 n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rse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ervativ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confrontational method to gain agreement among two or more team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ensure disagreement does not escalate to confrontation by seeking input and advice from another team member or outside consul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ESC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685800" y="1981080"/>
            <a:ext cx="772164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0010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tructured, assertive, communication approach for managing and resolving confli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scribe the specific sit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xpress your concerns about the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ggest other altern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sequences should be st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Ultimately, consensus shall be reach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When to use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ever you have a personal conflict with another health team member that threatens your ability to perform your job w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timely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--When you scream at me in front of my coworkers about the delay in care, you’re making it perso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-This reduces my credibility with the patients and undermines my authority with staff. I feel you don’t respect m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--If you are upset about delays or other patient care issues, pull me aside and I will address your concer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--If your outbursts continue, we won’t have a working relationship, and patient care will suff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EEN--A Model for Conflict Re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- Liste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 Empathiz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- Negotiat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lict with Patients/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--Can you help me understand why you are upse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That is understandable,  I can see why you are up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The reason we wanted to do this was becaus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-Let’s agree on a path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Confli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831680"/>
            <a:ext cx="850428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on of mutual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cess that begins when goals of one party are frustrated by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interdependence/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lict with Clinic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--Can you help me understand how you see the situation, how you are weighing the risk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I can see how you see it that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Let me explain how I se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-Let’s put the patient first and agree on a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ew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Good (interactionist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Natural (human relations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ad (traditional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must be man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752120"/>
            <a:ext cx="850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car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atible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 factors (size, routinization, specialization, reward system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perceptions, ideas, or belie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betwee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thoughts/needs within an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mmunication (may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456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content conflict  (differing opinions related to the task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or relationship conflict  (interpersonal conflict -- dislike, negative emotions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or process conflict (disagreement on how to get the task completed — e.g., duties, decisionmaking technique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al of Conflict Re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ront problems, communicate openly and respectfully with someone of opposing opinion to provide optimal patient 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Address Confli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vitable in dynamic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lead to feelings of powerless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ause anyone, especially subordinates, to view administrators, attending physicians as adversaries and creates conflict and divided loyalties in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ssertion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ing appropriately assertive me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in thought and communicat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ent technically and soc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vowing perfection while looking for clarification/common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ing owned by the entire team (this is not just a “subordinate” skill set, and it must be valued by the receiver to wor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ssertion is 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gress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ront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sce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0:41:36Z</dcterms:created>
  <dc:creator>user</dc:creator>
  <dc:description/>
  <dc:language>en-US</dc:language>
  <cp:lastModifiedBy>Karen Fleming-Michael</cp:lastModifiedBy>
  <dcterms:modified xsi:type="dcterms:W3CDTF">2013-01-07T20:26:57Z</dcterms:modified>
  <cp:revision>46</cp:revision>
  <dc:subject/>
  <dc:title>Conflict Resolution</dc:title>
</cp:coreProperties>
</file>