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47DD-9872-4BCD-844D-F8EE679C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3EDC-69FF-4F81-AAF9-5A0447AC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95E-C9C8-4048-8C7A-1A51302D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ost recognized strategies, but not all are effe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182-57CB-45CA-B7C1-6E713749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thod of conflict resolution is from the military.  CAN be used Within  domains, between domains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A75-F8C8-4714-9185-31499DE7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D mechanism when confrontation may not bring about a win for either the personnel or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BE41-3034-4B86-80CD-FE70C814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CAA-4DEB-4B1A-8CE6-70020336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AD87-4952-4411-BD7F-41B825A0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lessness can lead to self esteem issues, question our ability to work effectively, change our opinion of our workplace and in most severe situations lead to changing jobs, nurse turnov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548E-3570-4359-95E1-AD3557A7F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1BDE-2CF8-4A4D-928B-0C0E95DA3F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6E4D-B085-4FAC-8B2D-D152A74905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CE83-E21E-43C2-B39F-480014000F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4521-28D6-40C2-9994-FED617A474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EC56-1B3E-485C-8FDE-01E0DE1AE1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7BCB-4768-4AFB-8E19-3D6FC1D9B6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955A-B1F0-4AA3-B686-A3096513CE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2DB3-474A-4C82-BA9F-4B17BEC7BA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AFB3-CEBF-4995-9B47-E09C339769D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719A-25D4-4247-8007-251F33EEC0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8690-5E94-4327-A77F-82C8C307799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F868-C8B9-4744-8AE9-2DAFCBCA07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2C151-B56D-4129-B30F-58ACF12D83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5F4A6-BB76-4716-908D-0E017C8D349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D9AE4-B71C-4D25-9B57-E202FEFAA4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3FB54-77C4-44C3-B8F6-E041EF819AE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7ABE5-96A6-41C4-ABC6-D4D8064EF0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0776C-99AF-493C-B30C-A2C328A4F6D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0BBF6-EFBF-4074-9E75-1B272728881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463C2-22A3-473A-86D9-6932CEA7E1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9772A-A291-4EDC-9FEA-47D9AE22D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F8FA-E004-4E8B-A8C6-46497EBD08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B5264-6E4F-44AC-848D-DABA9C8F5C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3A1BD-862D-4A06-A29B-A22EB13AD3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A6BD4-20F6-4C08-B423-0381105543A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0F720A-2AF9-4E83-86F0-5B3B2E9A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22170-203C-48A0-9CA0-33CB486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0752B-E559-494A-B720-2192D3C5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69889-8774-4663-9223-CB12858B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43D50-4B21-4942-BE1A-C4A3ACDE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ADD98-201B-4E5E-83FD-3CBD1B7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AB52B9-A2EE-483D-A74C-1C936B7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8CD3-A33C-4B17-8318-38839308C2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0BC2B-085F-4284-9343-5881119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3854ED-A54D-4C33-9111-30BF69D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89C5F-FB7C-4405-85F6-D8BF82D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10B997-EA54-460D-9C75-A43FD7DF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D96B3-7DDD-4D6E-82EA-15CCB716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A19423-63FA-4015-B068-488BDA80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A4827-753F-43BB-BE4B-9EC0728B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807E7-E29B-4CBF-AF37-CA561807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6ED2B-4306-401F-AB26-934C61D0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67217-F121-4C05-9D45-8FE12E2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86BD-97D5-430C-9D35-F662B5023CC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3C744-17F3-440A-AC95-FCAF5099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CE6E67-320B-4767-B0F9-88AF6C0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54B8FD-38C4-4099-94AF-0107C52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C3B14-45B3-4660-AEF8-7BD454D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1392E-4669-4999-9185-47FFA8D3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C7F72-194E-42CC-BC10-1FD2A3A9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0D04C-6AFF-4EEC-AB85-CC8A8777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DDDBD-27C0-466D-A903-A0B79701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271F2-E824-4261-8CCB-2A4A84A6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7A6EF-6613-4179-84D0-3C86A13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1150-1545-44FF-AF2A-F82C47E022B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2DC12E-9179-4038-A332-9673E030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51B3C2-DD82-4A18-A2ED-4ECA74A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BB112E-3C1D-47D5-A101-E61D5187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989D8-FF0B-44DB-939B-4CC3835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1E313-8175-4576-A30A-705354B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B97B80-D500-4AC8-9621-16E2B20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7809C-877C-401D-B3E4-3A4BE602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A532D-5187-4D74-8267-26B41F1C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6C550-C905-43E1-B851-AC22C25E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5E12-4FDF-48AB-9F68-F58BD6F598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83B6-3CAB-4244-AFFE-2BABC0F96D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5F36-1D70-4016-90E2-797644854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00FB-9B3F-490A-A694-2F138BC13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8888-AD22-49A2-8591-3ED526690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F0DD-6428-4294-B414-C7B09BC01F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ECBC-3183-4C7E-ABBA-2971C1441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ECE4-B2BD-4C39-A49D-64E56B756C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E551-AFDF-4E39-A601-FAD1D6BFAA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5D8-3435-4051-B61C-AF7C047C7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F8F-409B-4AB9-B673-BF080D97B7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F0F-529E-4525-84C0-15F957AC52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AB6-9716-49C1-B23C-D8C734607A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024-891E-4AF0-A4D5-AE3968E51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2503-7B26-4933-B327-8FBA08848E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A76-C77E-443B-9D6F-3A395F7008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FFB-4EC6-4475-A4BA-AE0075CB2A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83F-F8D2-4240-834D-2F51A69798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EFD-02E2-4C8F-AC6C-38E715A33A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0D9-2AB3-4808-B5B0-61CD5AEDFC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722-14DF-4250-BF3F-C34AB0E2C4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361-11F3-4599-AF5E-3E7B3A49D3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D74A5-9CFD-4268-B8A6-94E024A9CB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EA49B-79FA-4EAD-9454-4492828478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B6CD5-DFF3-4BE8-86B9-BC40D23A2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2D0D-EF55-48E4-BC33-162FF6338F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8B5C9-0FE7-431E-BF93-CF23B32AFA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D73ED-12BD-4A46-A378-299F95D385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F344-D043-4CDF-9530-419E336C85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CC66-6387-4555-9BE7-1C8D6C0890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59F67-2CC9-455F-8AD1-85120B8F90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802C1-2C1F-4CB5-BD08-ACF009B274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FC9F-F41F-4C13-BEE4-186E90B17A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8341C-2FD8-4989-9182-6CD7CE4CDF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76789-A961-4A9A-A4E9-DE5CD5AFF2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0D4B7-895A-47FB-9C3F-4593A1322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F9F8-1739-4FC8-96E8-B1BF81ABC6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46BB3-6BE8-46D1-85C6-C03B18AAC1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7EC91-8C47-49CE-A0DD-DCB487C429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9F035-3CD1-4D59-B7B4-9A007F51F9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269B7-EEAC-48EC-BC3E-15F7197C08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98571-3A95-463C-984B-53EEBEADEF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CE9E-16FA-4E13-8109-5E215FFFAA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0C970-15F5-4C4E-B4DC-2AC7AD4FCB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42DD6-EF96-4DB3-8286-A054E14997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103C0-5679-4D87-AF77-95CFC64503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D0D6C-59BC-4132-AE84-69B056A8E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DDE7-70E4-471F-AF2F-CB82615B72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6A443-EA80-486C-A730-B674A3D38B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6D21-C28F-4EFB-9763-BB1257D5BA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32BF-E36C-45C1-BB06-5236F7EC46F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E6A6-F7F7-4984-9619-07BFEEB7A8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9922-BF03-4C1F-9761-F94E015ED3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69B4-17FD-40F8-A07B-C4F670B43D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56C8-FF8A-4595-B6BD-58F8DE95F4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4EA5-FDDC-42FB-8ABE-D082A4B940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49D-C3E2-4D51-90B8-5A3BF18357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35F2-1E6E-4D59-AE34-1608A1A79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BF30-DA9C-4607-B86A-80698E3943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6BFE-779F-43A0-8B9C-F04F757711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5FE5-E41E-445B-BCF3-0E7E2411AE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3188-62AD-49B9-BD32-9984E33210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5B28F-2E8D-4836-907F-2658E5AC49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DE220-A50D-4BFB-A576-238EC520B8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C7F14-BEB0-4D73-A078-6CC1C150D7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7FD4E-A303-42BA-B110-287D600CD1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B3C0D-C83B-4D17-8600-86872FFCA5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DD84A-D32F-40FD-9369-3040AF0DD2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A007B-213A-45D8-A4DE-93D24DEBD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A017-75E1-4826-A47C-3EDB36B6AB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DAD6D-DB72-4557-B910-F51BB45438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E83AB-1814-4F01-B86C-7186545FE2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29AD6-286F-4C30-8B4B-4BE3D7AAEE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BB686-7332-4D9A-8227-F86E907758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DB00B-5B25-45E0-8A6D-7F5EBBF0DE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1F75C-F753-43F5-BD74-680AF5C9FC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97B2-13E7-4000-AFA7-FF372D6B6B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E937D-34DC-4B40-9151-DC6CA16532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B9BEC-54FF-4D19-BC43-A2C643A79A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10E37-B36F-43A2-8F1C-0363DFB0E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0372-BDF3-4998-9B5C-EBC25A079C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360E7-3B1A-4A56-9385-C1735A5DBA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7089D-5D8F-4EBE-BF72-FC8487D713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BA624-FA17-4244-8046-2DD5482A20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F6187-AE26-49EC-8788-1711E9589F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C0441-FAF5-481D-8CB0-BE4AF1B828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8BACD-28EC-48BE-905E-EA42B56D5A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A96E8-9E77-4E59-9DE8-B21D08AFD7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C6CD-DF66-4BB7-A571-52F4A21868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A09B-8313-442B-8A0D-A5950D8B49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A3C3-DDCD-4BF0-AA66-369E5E847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B1D7-B59C-40B7-8DB7-F3CCD8DBD2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4B1D-FD82-4116-8CCB-92BAF38A3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96D0-C5D1-4904-BA4D-7DF7CE05A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1F3-A864-4E6E-861C-F7912ADBA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1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5437-507A-472C-A4FA-E5F497DA9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2DE-E111-48F7-AB2F-0A43C96B6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7DEF-2B42-45B2-95F5-0C2A9274B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0A2-69C1-46C1-AE44-215D7653F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B3E9-C02F-402C-A210-9B83CFF3A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763-38CA-4964-A00D-2AC0331FB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36C5-CAF0-473D-902E-1B90E8A8D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74D1-64D0-40AF-AF82-5286A2662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A9B0-3D14-4618-B9A0-898BEE6C5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6880" y="5105520"/>
            <a:ext cx="8762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003399"/>
                </a:solidFill>
                <a:latin typeface="Calibri"/>
              </a:rPr>
              <a:t>Conflict 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199880" y="434340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vid Thompson, DNSc, MS, 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ll Marsteller, PhD, M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9" descr="An image of an umpire stopping a fight between two men "/>
          <p:cNvPicPr/>
          <p:nvPr/>
        </p:nvPicPr>
        <p:blipFill>
          <a:blip r:embed="rId1"/>
          <a:stretch/>
        </p:blipFill>
        <p:spPr>
          <a:xfrm>
            <a:off x="1523880" y="447840"/>
            <a:ext cx="5829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196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sser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0520" y="1778040"/>
            <a:ext cx="815364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to guide and improve assertion in the interest of 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7" descr="A model moving clockwise:&#13;&#10;&#13;&#10;Get Person's Attention&#13;&#10;Express Concern&#13;&#10;State Problem&#13;&#10;propose Action&#13;&#10;Reach Decision"/>
          <p:cNvPicPr/>
          <p:nvPr/>
        </p:nvPicPr>
        <p:blipFill>
          <a:blip r:embed="rId1"/>
          <a:stretch/>
        </p:blipFill>
        <p:spPr>
          <a:xfrm>
            <a:off x="1981080" y="2666880"/>
            <a:ext cx="46468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lpful Hints in Apply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sser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he common goal: Quality care, the welfare of the patient, safety – it’s hard to disagree with safe, high-qualit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the issue of who’s right and who’s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e on doing the right thing for patient-centered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rsonalize the conver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ly avoid being perceived as judg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hard on the problem, not the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rategies for Conflict Re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696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drawal—Little or no significance to either party (lose-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ing—Force outcome regardless of the desire of one party (win-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iliation—Giving in to preserve relationship with other party (lose-w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omise—Concerned with both outcome and relationship (?-?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CONFRON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et the problem head on (win-w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rontation is an Assertive mea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lict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ectful negot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Conflict resolution is what is right not who is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Aggressive. Use to explain perspectives. If handled appropriately may be an opportunity to educate the other party invol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-Attempt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elements of assertion make two attempts to reach a common go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r viewpoint is disregarded, traditionally continue up the chain of command or “escalate” to achieve re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 n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rse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ervativ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confrontational method to gain agreement among two or more team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ensure disagreement does not escalate to confrontation by seeking input and advice from another team member or outside consul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ESC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685800" y="1981080"/>
            <a:ext cx="772164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0010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tructured, assertive, communication approach for managing and resolving confli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scribe the specific sit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xpress your concerns about the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ggest other altern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sequences should be st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Ultimately, consensus shall be reach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When to use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ever you have a personal conflict with another health team member that threatens your ability to perform your job w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timely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--When you scream at me in front of my coworkers about the delay in care, you’re making it perso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-This reduces my credibility with the patients and undermines my authority with staff. I feel you don’t respect m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--If you are upset about delays or other patient care issues, pull me aside and I will address your concer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--If your outbursts continue, we won’t have a working relationship, and patient care will suff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EEN--A Model for Conflict Re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- Liste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 Empathiz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- Negotiat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lict with Patients/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--Can you help me understand why you are upse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That is understandable,  I can see why you are up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The reason we wanted to do this was becaus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-Let’s agree on a path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Confli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831680"/>
            <a:ext cx="850428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on of mutual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cess that begins when goals of one party are frustrated by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interdependence/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lict with Clinic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--Can you help me understand how you see the situation, how you are weighing the risk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I can see how you see it that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Let me explain how I se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-Let’s put the patient first and agree on a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ew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Good (interactionist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Natural (human relations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ad (traditional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must be man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752120"/>
            <a:ext cx="850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car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atible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 factors (size, routinization, specialization, reward system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perceptions, ideas, or belie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betwee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thoughts/needs within an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mmunication (may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456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content conflict  (differing opinions related to the task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or relationship conflict  (interpersonal conflict -- dislike, negative emotions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or process conflict (disagreement on how to get the task completed — e.g., duties, decisionmaking technique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al of Conflict Re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ront problems, communicate openly and respectfully with someone of opposing opinion to provide optimal patient 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Address Confli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vitable in dynamic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lead to feelings of powerless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ause anyone, especially subordinates, to view administrators, attending physicians as adversaries and creates conflict and divided loyalties in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ssertion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ing appropriately assertive me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in thought and communicat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ent technically and soc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vowing perfection while looking for clarification/common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ing owned by the entire team (this is not just a “subordinate” skill set, and it must be valued by the receiver to wor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ssertion is 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gress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ront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sce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0:41:36Z</dcterms:created>
  <dc:creator>user</dc:creator>
  <dc:description/>
  <dc:language>en-US</dc:language>
  <cp:lastModifiedBy>Karen Fleming-Michael</cp:lastModifiedBy>
  <dcterms:modified xsi:type="dcterms:W3CDTF">2013-01-07T20:26:57Z</dcterms:modified>
  <cp:revision>46</cp:revision>
  <dc:subject/>
  <dc:title>Conflict Resolution</dc:title>
</cp:coreProperties>
</file>