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CEA2-2BFD-4729-BB5B-D82D1E26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652C-09FD-4450-9964-90476274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A5F-16F5-485C-AD57-88404BF59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ost recognized strategies, but not all are effe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986-AEA3-40C9-9255-20CB5758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thod of conflict resolution is from the military.  CAN be used Within  domains, between domains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FCF-BC1F-4F12-99EF-62574315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D mechanism when confrontation may not bring about a win for either the personnel or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EA26-406A-4269-BE95-60646C2B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1244-3447-4F71-8690-B310F315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2290-1901-4F60-A887-6B696EAD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lessness can lead to self esteem issues, question our ability to work effectively, change our opinion of our workplace and in most severe situations lead to changing jobs, nurse turnov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A3C4-24B4-497A-94A2-837B12FED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F220-5BF7-4703-BB23-8144A12B76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4A34-4853-4C7C-BC62-E6823AC4CC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BFC0-5CFD-43DA-BD3B-629EC3E590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09DB-88BF-4A8E-8CE9-FF3F94A611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CE26-C37A-42DA-8C9D-31AF46C53D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945D-7BDA-4CED-A93F-EA63B95527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EEA6-8401-43CB-A821-AA6ED72EFA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7361-ED06-45CE-A0CD-1E8EB8F831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1CA9-EA3D-439D-82DC-1B01F57EBF2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5922-E358-4B6D-B8C8-B2307EDD10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31AB-0BE5-4C28-B7B0-517B724B2D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7634-4400-4A63-AFD0-0259FFEE88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D2169-78A7-4810-99F8-FD53B1D1269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BFCB5-EC46-47F7-91DD-11F6038DCD1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5B615-FF53-4AE0-BF31-13A3A8C6971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9E681-1E1C-4834-B500-60FDF469A35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55955-1A53-4456-835C-8AC77701D9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EFA7F-7175-4FCC-84C5-F2D6C8C936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23ACB-D8DA-4C0E-B8FA-4A622B6D22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92B21-814F-428C-82CB-A6A24AA407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03704-7284-448D-B89E-7378F3265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971C-73C1-4C5A-B7ED-0FFBD43F44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F598B-1E24-4BE9-9892-183EA37DD2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2B622-5FCC-473F-8297-EB09DEC3FAC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146D4-F1D0-4ED0-9328-351B7A4E16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01D3E-37E1-4B21-B22E-5EDD4028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3B7DA4-2793-4FEF-BB7C-2D14F55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520ED-9664-42C1-AD42-878560A3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F47137-3C84-4375-A577-5161608C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F1BE9-453E-413F-9BE6-DA319A7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7E5C1-3A6E-4F97-81A7-C131DB2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11F9E-5A16-4B63-8518-306642A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A55B-751B-4BAF-BBE2-F386A9E1B9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BEC6D-B276-41B0-AE70-365E08B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0F49C-9BE1-4302-B14A-80D7FF4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C9301-02EE-471F-A429-888D417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364A3-F8B1-41CC-B244-1E6EE3B5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5A993-0D46-4032-BFAB-D5C99A5C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02AA4-32D4-41D7-A020-6EA52766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92694-805D-41C1-A801-A4B7A47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24FEF-2054-4E22-9723-B70C10E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9900EB-C415-44F3-AE59-564F3696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36188-44E1-4190-BCD2-4839B7D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6C85-905E-46A7-940A-798D715D3B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EFCCB-C39D-4BDF-8626-A59F2A2F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14EA7E-F69F-4A7B-A548-5BB579F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00E2C-AA84-46D9-8938-CD32905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07CA7E-0D6D-4020-8F92-33298EF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82E97-03D5-45F5-BD8D-100F516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A4525-FB01-49B9-9B0E-E40251A2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BB1EC-7158-464C-9B75-D0FE9CAE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58122F-8800-4371-AA68-E1221ADA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D6BE29-21B2-4015-BF9F-E022B8F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3B1965-69B4-4918-A93D-392604C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EB10-5E3E-4AB8-93C7-F720DBF5131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0DF66-5656-49FD-8C49-8EA81A3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71EB7-869E-4934-A6C5-E82251B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B22C66-75E5-4311-8B96-AD6F143C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D2FEF-5F34-4EEF-9ED7-341FAED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2239B-5463-44D7-977D-5450546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33E17-ABAF-4BCB-A490-1112377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7EF9C-A190-4EE1-924E-3DF2661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0CBB67-D10C-43B7-AA65-BEC3D4C3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1A157-E869-446A-9E88-C16F1B6F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CC92-AA27-4446-80ED-072F07497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771E-D83E-47B8-AC65-A9F2311E8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FEDD-B955-4AFF-9380-8603781FF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4BEB-EA0B-4CBD-AC89-DE0F139E0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C4EA-FCD8-413B-960B-B0D2927C9D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88DD-36E9-4FDC-9CA4-1503D3C55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346E-D467-4BE0-944C-43CB2915E3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CB61-50D7-4055-BF76-F22C6841FE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7101-345C-4A93-9A73-C7F044C64E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386-0B14-436D-8EF1-650CC6B567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212-3FFD-4EF4-A8C0-34A386A5E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6C9-89C4-48E0-AF37-AB66B3B1A9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4CA-ECDA-4DB2-AA3E-40B762A5C2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E8E-FE5B-4254-B532-9E55AEC37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0652-10C0-49DD-BC22-E7BE68A4A5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5EC-EE18-4A53-B944-2DA22DAB09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19A-843E-4748-8560-F6E07DA252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85D-69D5-45E0-BB41-F88E5692F5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52A-7249-4FBF-920D-E5EEC4FBAA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2D6-2051-4ECB-B926-A8806DA208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439-64D7-4B6A-A250-39326D4512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3AC-A12A-466E-A958-8832D7C68F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7A276-2ABF-4E8E-8ECA-5C60CF32BF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CEF85-B4ED-47E2-AF4F-7936755E8E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60D4-860A-4B18-A6E2-7F1CF6292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033A-839C-42E2-8D3E-B4668C6396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B0D17-2A28-495C-92D2-4440590E8C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5974-050A-452B-A3AB-F10D7A2BE2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0F56A-2DD2-4FC8-8E9D-A6F0C4F73B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6E67-5092-4392-A18C-DF6E8C87D1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7067B-43DE-4DB6-BD18-3526B57364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990F3-409C-4891-9F2C-AACA6D0A30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FEC12-B4A9-46CC-A85B-C018686ACA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EC643-5511-4367-AB78-D58D2484DB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6841C-9027-4FCF-9A5F-8F1CCDCE22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27229-6334-46B9-8609-F42E7432A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88EF-6A39-4944-83AD-9C7AEDB4E9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B117B-BFC2-4C94-AF86-03C81C0004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E29E8-999D-4664-A155-6D218D6F480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410A-CCCC-4AD5-A7A1-E495E5F78A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A3D60-1466-40DE-849A-CC0FA1C6B8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DC8B5-88BD-48C8-9492-B2DBC9E560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4FBF-6837-4AA1-84F3-43412A8CF2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FD9DF-14C6-4E0B-AADB-A876BD6FF3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0EC2-F1ED-477F-9039-8CAC92E81D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BD344-40E2-44B8-ABA7-C6CBD6DCFA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877C6-04B3-449B-832C-0D7CC97F5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A443-858E-434C-99E3-1DA2788940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D42CF-C151-4F38-98BA-6E6AA37347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692-168D-450C-BA40-2DFE872163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30A7-E2B8-410F-AB3A-27F8C47B72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D4D6-D5DA-4E01-9D22-3B3E217FC1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6A6C-53BC-414B-AB43-5BD1FE6347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FC3F-D589-4925-99A4-6F2BA09BC1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DDC8-A1E9-4AC9-B431-EFFC8E5A65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67DD-76DE-4C36-9DAA-ED49E7EF3D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224-3F30-4160-9510-FE4E940E35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025E-38C2-4EF0-90AB-C3C97A827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6050-DDEB-45D5-87AF-E041B400472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4C5D-573F-4459-BD92-634C444D2D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6E8-7F61-4129-A62D-78DFC1EDBF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5F98-9FB4-4BED-AF9E-107D543B40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0F8AEF-C9C3-40F0-BA34-421FA54F90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259A6-3F64-4EAF-B8EC-9320ACC915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4A440-0F16-4191-930D-7A6F601983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66AC1-95BD-4C5D-9ECB-DB80643267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2F38F-EC08-4991-8D63-E3D588408D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377C-72F0-480A-A0FE-05ADBB6275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602FC-9D32-4A13-B9A2-C77E78D6B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5323-A0B4-47C1-A027-6BBD1004D0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E759F-BB65-4970-BBFA-966E00C494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55F2A-93A1-4CAB-A7BE-D68762939F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EEFDE-E23A-4C7D-96D6-8DB9345E4C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702A5-1DFB-4946-963B-5E4BE73BD2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659B8-4248-467A-8F0B-DA98D10B7A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22B13-D09C-4285-947F-AE54D34B27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B1A1E-08E2-4904-87FE-530681B308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04DD6-40C4-4A3E-8878-EE2ED15EAC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A7908-8A54-419C-A363-8AF6522E457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95997-C854-4E08-96C2-90C05BD7A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7D31-05FC-43CB-8042-36EDDB2189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82F77-1396-4CD0-91B8-AC870E0E67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A01A9-DB0F-414B-9DA9-44C9CF0547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3C044-87CC-4E34-B5DB-BCA1A68D3B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9B60D-F262-4249-B47A-2456593407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571F0-879F-46C5-9C5A-5062A6BAF8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6CC47-8154-4124-8A7B-EA09233FC9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C7107-18B2-4BE7-AF8C-2381E4E44C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1D17-CB53-436B-A74E-86CE351615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2DBD-1E62-4E11-86F0-BD5F1CC696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BC20-5C6D-4411-9EA0-272D2A730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AB1-61D4-43D6-9CFC-F31AC8649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BEE8-B3DB-400B-94E9-7694EC5DB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F2F-A24D-4E7D-9DAE-73DD4E01F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353-BD05-4B7C-A750-5354627A4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AB7-5C1F-4B63-99A0-F27B036C1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E53-E5D6-4959-A457-83F0105E8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CA78-227B-4423-AEE6-1B8C0E677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632D-7068-407E-B2E6-08E18725F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CC3-93D9-4742-B145-B84D3CCD9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1C9-EBC2-4CDB-B70A-D0006533B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9BA-5309-487E-B1E8-BE08FA9BD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9D9E-80DA-47A2-BFA1-1F8EEF0CF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1B2-3108-4389-948E-6C8311ED6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6880" y="5105520"/>
            <a:ext cx="8762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003399"/>
                </a:solidFill>
                <a:latin typeface="Calibri"/>
              </a:rPr>
              <a:t>Conflict 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199880" y="434340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vid Thompson, DNSc, MS, 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ill Marsteller, PhD, M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9" descr="An image of an umpire stopping a fight between two men "/>
          <p:cNvPicPr/>
          <p:nvPr/>
        </p:nvPicPr>
        <p:blipFill>
          <a:blip r:embed="rId1"/>
          <a:stretch/>
        </p:blipFill>
        <p:spPr>
          <a:xfrm>
            <a:off x="1523880" y="447840"/>
            <a:ext cx="5829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196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0520" y="1778040"/>
            <a:ext cx="815364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to guide and improve assertion in the interest of 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7" descr="A model moving clockwise:&#13;&#10;&#13;&#10;Get Person's Attention&#13;&#10;Express Concern&#13;&#10;State Problem&#13;&#10;propose Action&#13;&#10;Reach Decision"/>
          <p:cNvPicPr/>
          <p:nvPr/>
        </p:nvPicPr>
        <p:blipFill>
          <a:blip r:embed="rId1"/>
          <a:stretch/>
        </p:blipFill>
        <p:spPr>
          <a:xfrm>
            <a:off x="1981080" y="2666880"/>
            <a:ext cx="46468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elpful Hints in Apply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Asser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common goal: Quality care, the welfare of the patient, safety – it’s hard to disagree with safe, high-qualit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the issue of who’s right and who’s wr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e on doing the right thing for patient-center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rsonalize the conver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ly avoid being perceived as judg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hard on the problem, not the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rategies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696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al—Little or no significance to either party (lose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ng—Force outcome regardless of the desire of one party (win-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iliation—Giving in to preserve relationship with other party (lose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omise—Concerned with both outcome and relationship (?-?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CONFRO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et the problem head on (win-w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rontation is an Assertive mean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lict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ful negot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Conflict resolution is what is right not who is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Aggressive. Use to explain perspectives. If handled appropriately may be an opportunity to educate the other party invol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-Attempt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elements of assertion make two attempts to reach a common go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r viewpoint is disregarded, traditionally continue up the chain of command or “escalate” to achieve re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 n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rse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ervativ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confrontational method to gain agreement among two or more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ensure disagreement does not escalate to confrontation by seeking input and advice from another team member or outside consul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ESC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685800" y="1981080"/>
            <a:ext cx="772164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0010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ructured, assertive, communication approach for managing and resolving confli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scribe the specific sit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xpress your concerns about the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ggest other altern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sequences should be st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Ultimately, consensus shall be reach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When to use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ever you have a personal conflict with another health team member that threatens your ability to perform your job w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timely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SC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--When you scream at me in front of my coworkers about the delay in care, you’re making it perso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-This reduces my credibility with the patients and undermines my authority with staff. I feel you don’t respect m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--If you are upset about delays or other patient care issues, pull me aside and I will address your concer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--If your outbursts continue, we won’t have a working relationship, and patient care will suff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EEN--A Model for Conflict Res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- Liste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mpathi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-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- Negotiat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Patients/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why you are upse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at is understandable,  I can see why you are up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The reason we wanted to do this was becaus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agree on a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onfli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831680"/>
            <a:ext cx="850428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on of mutual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cess that begins when goals of one party are frustrated by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interdependence/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lict with Clinic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--Can you help me understand how you see the situation, how you are weighing the risk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I can see how you see it that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-Let me explain how I se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-Let’s put the patient first and agree on a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ew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Good (interactionist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Natural (human relations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ad (traditional view)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must be man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752120"/>
            <a:ext cx="850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car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atible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al factors (size, routinization, specialization, reward system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perceptions, ideas, or belie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betwee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thoughts/needs within an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mmunication (may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456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content conflict  (differing opinions related to the task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or relationship conflict  (interpersonal conflict -- dislike, negative emotions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or process conflict (disagreement on how to get the task completed — e.g., duties, decisionmaking technique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al of Conflict Re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 problems, communicate openly and respectfully with someone of opposing opinion to provide optimal patient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Address Confli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vitable in dynamic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lead to feelings of powerless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ause anyone, especially subordinates, to view administrators, attending physicians as adversaries and creates conflict and divided loyalties in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ing appropriately assertive me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in thought and communicat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ent technically and soc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vowing perfection while looking for clarification/commo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owned by the entire team (this is not just a “subordinate” skill set, and it must be valued by the receiver to wor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ssertion is 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gress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ront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bigu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sc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0:41:36Z</dcterms:created>
  <dc:creator>user</dc:creator>
  <dc:description/>
  <dc:language>en-US</dc:language>
  <cp:lastModifiedBy>Karen Fleming-Michael</cp:lastModifiedBy>
  <dcterms:modified xsi:type="dcterms:W3CDTF">2013-01-07T20:26:57Z</dcterms:modified>
  <cp:revision>46</cp:revision>
  <dc:subject/>
  <dc:title>Conflict Resolution</dc:title>
</cp:coreProperties>
</file>