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wmf" ContentType="image/x-wmf"/>
  <Override PartName="/ppt/media/image18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  <p:sldId id="283" r:id="rId55"/>
    <p:sldId id="284" r:id="rId56"/>
    <p:sldId id="285" r:id="rId57"/>
    <p:sldId id="286" r:id="rId58"/>
    <p:sldId id="287" r:id="rId59"/>
    <p:sldId id="288" r:id="rId60"/>
    <p:sldId id="289" r:id="rId61"/>
    <p:sldId id="290" r:id="rId62"/>
    <p:sldId id="291" r:id="rId63"/>
    <p:sldId id="292" r:id="rId64"/>
    <p:sldId id="293" r:id="rId65"/>
    <p:sldId id="294" r:id="rId66"/>
    <p:sldId id="295" r:id="rId67"/>
    <p:sldId id="296" r:id="rId68"/>
    <p:sldId id="297" r:id="rId69"/>
    <p:sldId id="298" r:id="rId70"/>
    <p:sldId id="299" r:id="rId71"/>
    <p:sldId id="300" r:id="rId72"/>
    <p:sldId id="301" r:id="rId73"/>
    <p:sldId id="302" r:id="rId74"/>
    <p:sldId id="303" r:id="rId75"/>
    <p:sldId id="304" r:id="rId76"/>
    <p:sldId id="305" r:id="rId77"/>
    <p:sldId id="306" r:id="rId78"/>
    <p:sldId id="307" r:id="rId79"/>
    <p:sldId id="308" r:id="rId80"/>
    <p:sldId id="309" r:id="rId81"/>
    <p:sldId id="310" r:id="rId82"/>
    <p:sldId id="311" r:id="rId83"/>
    <p:sldId id="312" r:id="rId84"/>
    <p:sldId id="313" r:id="rId85"/>
    <p:sldId id="314" r:id="rId86"/>
    <p:sldId id="315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slide" Target="slides/slide28.xml"/><Relationship Id="rId56" Type="http://schemas.openxmlformats.org/officeDocument/2006/relationships/slide" Target="slides/slide29.xml"/><Relationship Id="rId57" Type="http://schemas.openxmlformats.org/officeDocument/2006/relationships/slide" Target="slides/slide30.xml"/><Relationship Id="rId58" Type="http://schemas.openxmlformats.org/officeDocument/2006/relationships/slide" Target="slides/slide31.xml"/><Relationship Id="rId59" Type="http://schemas.openxmlformats.org/officeDocument/2006/relationships/slide" Target="slides/slide32.xml"/><Relationship Id="rId60" Type="http://schemas.openxmlformats.org/officeDocument/2006/relationships/slide" Target="slides/slide33.xml"/><Relationship Id="rId61" Type="http://schemas.openxmlformats.org/officeDocument/2006/relationships/slide" Target="slides/slide34.xml"/><Relationship Id="rId62" Type="http://schemas.openxmlformats.org/officeDocument/2006/relationships/slide" Target="slides/slide35.xml"/><Relationship Id="rId63" Type="http://schemas.openxmlformats.org/officeDocument/2006/relationships/slide" Target="slides/slide36.xml"/><Relationship Id="rId64" Type="http://schemas.openxmlformats.org/officeDocument/2006/relationships/slide" Target="slides/slide37.xml"/><Relationship Id="rId65" Type="http://schemas.openxmlformats.org/officeDocument/2006/relationships/slide" Target="slides/slide38.xml"/><Relationship Id="rId66" Type="http://schemas.openxmlformats.org/officeDocument/2006/relationships/slide" Target="slides/slide39.xml"/><Relationship Id="rId67" Type="http://schemas.openxmlformats.org/officeDocument/2006/relationships/slide" Target="slides/slide40.xml"/><Relationship Id="rId68" Type="http://schemas.openxmlformats.org/officeDocument/2006/relationships/slide" Target="slides/slide41.xml"/><Relationship Id="rId69" Type="http://schemas.openxmlformats.org/officeDocument/2006/relationships/slide" Target="slides/slide42.xml"/><Relationship Id="rId70" Type="http://schemas.openxmlformats.org/officeDocument/2006/relationships/slide" Target="slides/slide43.xml"/><Relationship Id="rId71" Type="http://schemas.openxmlformats.org/officeDocument/2006/relationships/slide" Target="slides/slide44.xml"/><Relationship Id="rId72" Type="http://schemas.openxmlformats.org/officeDocument/2006/relationships/slide" Target="slides/slide45.xml"/><Relationship Id="rId73" Type="http://schemas.openxmlformats.org/officeDocument/2006/relationships/slide" Target="slides/slide46.xml"/><Relationship Id="rId74" Type="http://schemas.openxmlformats.org/officeDocument/2006/relationships/slide" Target="slides/slide47.xml"/><Relationship Id="rId75" Type="http://schemas.openxmlformats.org/officeDocument/2006/relationships/slide" Target="slides/slide48.xml"/><Relationship Id="rId76" Type="http://schemas.openxmlformats.org/officeDocument/2006/relationships/slide" Target="slides/slide49.xml"/><Relationship Id="rId77" Type="http://schemas.openxmlformats.org/officeDocument/2006/relationships/slide" Target="slides/slide50.xml"/><Relationship Id="rId78" Type="http://schemas.openxmlformats.org/officeDocument/2006/relationships/slide" Target="slides/slide51.xml"/><Relationship Id="rId79" Type="http://schemas.openxmlformats.org/officeDocument/2006/relationships/slide" Target="slides/slide52.xml"/><Relationship Id="rId80" Type="http://schemas.openxmlformats.org/officeDocument/2006/relationships/slide" Target="slides/slide53.xml"/><Relationship Id="rId81" Type="http://schemas.openxmlformats.org/officeDocument/2006/relationships/slide" Target="slides/slide54.xml"/><Relationship Id="rId82" Type="http://schemas.openxmlformats.org/officeDocument/2006/relationships/slide" Target="slides/slide55.xml"/><Relationship Id="rId83" Type="http://schemas.openxmlformats.org/officeDocument/2006/relationships/slide" Target="slides/slide56.xml"/><Relationship Id="rId84" Type="http://schemas.openxmlformats.org/officeDocument/2006/relationships/slide" Target="slides/slide57.xml"/><Relationship Id="rId85" Type="http://schemas.openxmlformats.org/officeDocument/2006/relationships/slide" Target="slides/slide58.xml"/><Relationship Id="rId86" Type="http://schemas.openxmlformats.org/officeDocument/2006/relationships/slide" Target="slides/slide59.xml"/><Relationship Id="rId87" Type="http://schemas.openxmlformats.org/officeDocument/2006/relationships/slide" Target="slides/slide60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449C-FBAA-4BFD-A1C6-F64A5C99D107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20FB-A7D5-43E1-A6CC-34DDB9026B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6F98-4C06-40CF-90B6-6938804923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C4A3-3537-486B-A5F5-D970FC140B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E95E-E245-4FEE-9F77-1AA88AAAF1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12CB-65AF-4D9F-902B-FD3093524BA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0C7D-97D6-4810-AE9E-11BB50A527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AF8D-6980-435C-BCC7-4CF0F71231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2B92-90F1-46F2-A914-4B811877C1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A9C6-2CC9-4B75-9FDD-19B4E95675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B182-3492-4A28-BA84-D05495D11D2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E678-5E87-41A1-BD71-FE82E84FC1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F843-6EC8-4767-9E68-E383D99ACC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0AB1-DBAA-43CA-8A11-2BE3EFBABDC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DD8D-52D8-43B8-BC33-56A76E1864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B5A9-5F87-4F58-9726-A9833097E0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AF01-A52B-409D-B1B6-95F1AB64389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07B8-A971-4366-92F5-52BF50F8B0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347C-CA29-4259-B12C-A38A26A012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F566-9AE7-49F7-8D2D-0556E5C5DC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D188A-3378-40A9-AA9F-45856F25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A2B4-6B07-452C-8C2F-B51CA4A4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DDA27-CE5D-438F-99B8-90664AA7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5B9BF-B572-48D3-92BB-D24DE883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C59E0-D691-4B68-9C5C-C9C89D5E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5B30D-6ADA-410F-BADB-6B347080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16E2E-63EB-401D-B481-B5805B4B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F3B32-7FD5-472B-A627-BE606FC1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18518-B119-4733-AA3D-1B33B344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E496A-983E-4A6E-AC2D-5928D6E7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861E9-BA96-4E30-9981-27B8AFC5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8411-5650-48E1-99F6-98303A9A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8036-F157-45AD-817D-F0C112CB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2D1DC-5D61-4A52-835E-8E673971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CB839-21D0-4F2C-A2CF-33D94EA6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55D04-2778-4650-88F4-EA33BCF6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19C9-B13E-49DF-851F-11F5E1F6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61B63-D4D2-4F15-BD01-BF4CD907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99A6A-F1FE-4CE2-850A-6BC8633D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980F-4CBE-4048-81CC-706306B5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A57A1-F42B-47FC-BC29-F902274E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B9959-519B-48D9-99CA-5313C6B3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DB85-3773-43E5-BC87-B3569DE7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E6171-0181-4978-9EE6-08B9EDBC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70B2E-392D-496C-8CDC-B5606EDD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3F470-7CCD-4D53-AED0-BF4727D9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E70BE-CFDF-49AF-8161-758825A2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EE7A0-1EB3-44DB-BD3E-038DE89C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96093-9419-47DD-9468-9A9F9573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4981E-D1FE-407C-B4F0-B896C9C3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4B3F9-7669-46D5-8656-B9FB0E76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C76A8-3F84-4553-9F99-AAEEBB0B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A46D9-8B9D-46A2-93F4-2D682CC3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3A85F-B0BC-491D-BD02-D11B27D6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44D18-4893-4A66-9772-F39616E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3549E-CB4B-4E0D-A665-43A7F32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FD3C5-C1C9-45D1-A075-920F6498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FA5BB-1A85-4287-A9DC-D5B1A840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CD48E-A567-48AD-BCF2-3DB150A9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BE760-9FFD-4FA8-AC07-CBBEC1F7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E052D-5447-4BAF-88DF-AF3ECD7B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26323-7B2E-4D59-8BB0-0A8C3E3A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66AA9-7792-4354-A3EB-907681D9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3A425-AA98-4892-B981-C1C70637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08C85-4DE1-4C13-9BDB-F5037AF1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4795F-DFD1-4097-8E5E-7B45F44A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1ABB1-E67B-4820-9E90-14E6F66D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E1C52-CE7A-411F-B093-D6013919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D1B6C-F7E3-41BF-A128-929F9A8B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108BB-0BE2-4FE7-A2B5-FE7839F8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4C5E6-69AB-4694-9D9A-8C85FC44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DC181-3CB7-4392-87E8-391950E1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D561D-300D-4D84-9234-163A809E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9FEE0-4D85-4358-B192-F1F48680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B78E7-EE96-4ABE-9350-449073E2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42AE3-DD3B-4DC2-B458-0181CEFE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F561A-A041-45D0-A78F-DE93B6AE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8194E-6C81-4514-9B5B-EFCE2D67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05E8E-78E9-4C2F-9529-B309509E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06583-B5B9-4299-BE6F-C05A6807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51AFA-2B51-45E5-BA99-9D90F389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E68E5-7904-494D-8C7D-138B79F3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A20B0-6D04-4A48-B04A-CB80B150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AB64F-0F60-4F1A-B432-A9BF2222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9E8C8-18A3-4637-A13D-A4F91B5F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64615-5C89-4253-8207-DF08A149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5DF49-FD8C-4019-87D3-E38D071C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080E9-657A-447E-BC1E-A079DA87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44624-D2E7-4059-B7A6-75743D48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E9530-EA73-4454-BE7D-7D28CD16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C4DF2-E713-4C54-812A-A4210394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41E49-3BB7-4343-961A-1EB941DB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F4A98-8DAC-4EE7-8FB0-4A08DC87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F3B79-9898-467D-BD52-CD70F4AE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F6F8C-6B7B-4DEA-9928-236FAE9F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87992-4661-406E-B430-CD6708C3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21697-D47C-4E36-BF33-096EC51C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E0CE0-0A4D-4A1A-B286-E512B137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01151-FFB1-4B3D-B7BE-BB835B6F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89908-E239-46EB-AC70-971DDB49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6C913-2D99-4AE6-8D99-C45740D5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CB3FD-9BE9-4CF8-95C0-6ED9C83A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A64F2-949A-4D27-BDA5-68D5B72E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19794-BFB2-4AE6-AB61-9EE5F4F6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E43CA-91EC-49DA-9950-47B35644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5DE57-A316-4E64-9832-5DC3ECA2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BFF91-35A7-4828-851A-A48CC675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20624-DA24-4604-8202-2513BB9E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AC3F4-A012-4055-80C0-C18B7147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0A597-0CEC-4AAC-8F8D-016E3EE6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A5ADA-2A02-46AF-9F75-E675A7EC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D8F21-5446-4AEA-9BC2-B756B7B2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6D904-1E23-4CDF-910F-109903AF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2D499-4B7A-4E87-8AD4-15A73C23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8C794-846B-46BE-812D-7CB8F975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F493D-00B8-48E7-A088-7D26B6FD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A6E73-49F4-4062-A1AA-30F04B4B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BCB1A-AEFB-4D36-BEBA-D3DE7F06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71C7B-A1A3-4583-B828-1F79C244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97037-93AF-427A-B323-9300299F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10047-3D27-4EE6-ACE6-6998EA74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C6944-6217-4235-AEAE-5330D784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EE3EC-5316-470E-9FC9-19663036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FE5E4-AC1C-4F86-A090-017F30DC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11F21-3EEA-4841-8FE7-E477E8A2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54AE1-2F8A-4CD7-B04A-47955C29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658FC-EF2B-4E20-86A0-F2E3786E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1A8D2-C30E-42D4-94D5-109A513E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B8661-5EC3-4C53-9F52-4C7C06E7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F8B13-286C-4F0C-9AE1-212CFB46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1AA78-DC82-42FC-B2AE-F81D0FB3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59C21-723C-485B-AE59-16D46F35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815F8-4840-41AF-8002-6F4F738F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B4A5E-2B72-4E2C-A0A0-A2FC881A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7345E-E5CF-4DD4-96D3-FBDBA92A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E1852-2193-4420-92E2-AD133C28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62B75-4962-4B08-A250-4B3AC9DA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5A85E-3FF8-49A1-BCD9-6CA946A5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A42C4-D955-4F82-9B99-011C30CF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63FB8-2D3E-46BA-842D-760188E5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409A7-A941-49AF-A8C5-FB6A590F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7D527-4D59-4617-AE24-936EE1CD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89F42-375D-4529-AD28-0BACBA93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24907-A6A8-4D39-9422-DF1BE194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C65FB-C506-4A78-96C6-B20D835C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D6F97-C55E-4E40-B53D-1F1E260A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B2E6C-2233-4FFB-A094-E3C48E61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C3BD2-00B2-4006-9D69-92E3082B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F1C64-DBB6-4F07-B104-E5118021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1E6EE-2A66-4664-9E15-41822330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85BF8-C681-4939-A3F9-35B3A478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9D092-B391-4CAC-B63D-628EE5EB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D3510-13BD-4170-90E0-64CC6A26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33028-574D-42E4-B612-17D19FCB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97A59-220B-4CB4-B9C5-5DA2128E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14058-F4C1-4ED6-B522-F9359786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1C6B8-E41A-4EBC-A336-4ADB5BA7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B451D-116C-4539-88A7-5B1B0549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D2DE9-C884-4E6C-9E19-B638FFE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1D98E-1045-4CDE-B50E-64BA5DE3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029D1-2F48-4587-AD0B-53305B53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D8F99-1706-4F8B-BDBD-D39ADF17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1EECF-C28D-48FE-B92F-3E099970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5C0F1-A55D-4512-94A0-9A49C6AD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22AB6-DD1C-4BC3-B34D-9549993D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71C34-A55D-4C10-B876-70FADF76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0BA019-DF6B-4D5B-86F4-1EBD80B2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F7CD9-73F5-4CC2-837E-8F405DB4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78A1F-780E-4376-9181-DC0F4CAD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06814-6F92-41C9-AEC6-77D320E1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9F578-D7E3-43B5-8616-EC6ACAAE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D0D8D-E84A-4EB4-B158-937AD508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7C7740-95C5-4A2F-8E7F-EE5039A3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1DFF9E-8991-4F19-9772-3A231149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E86C3-2102-44D7-872C-0CFF10A8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314C72-8CAC-4EAD-A9FB-84569C68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7057B4-F9C9-46B0-9947-5BD1478C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3A960A-FDA7-4815-AA35-E4BA3A2D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902F9-69DE-44AE-9595-8DC63839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5F922-66C3-4B8C-818F-0E0702D7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6F4D74-DD69-44F7-8857-0EC50555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A91570-C45C-4498-8406-FAA6FD51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DD255-EE5E-438B-9A04-3BFA1624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57888-5660-47F1-BDE4-C8A686A0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A9C08-7F7E-4191-AAEA-1D84393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3A639E-98E0-4957-91E9-F0594B4A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EE3ABD-F917-42B1-9A81-00589E2C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6811F-17A6-421E-B0DF-C853580D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26778-06B7-426F-AFC3-4A8075DF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A716D9-5878-451E-AEB0-84B68B1B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FD1777-DE7D-4B1C-8982-BAF0B114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A4F97D-D198-4140-9BE5-9553849E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55B9C-9C9C-488E-8A47-3A57BF57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3A6135-5A2C-4DC0-816B-9D32E66F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5639C7-2AB1-496B-9444-00DAC0DE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833185-A5EE-4FDD-A8BB-990911E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0BC487-7CE0-48C9-A32E-AFC6BF0E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8291D-4728-4064-BC5C-FAC929B2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70F515-BAF4-44FA-A7A7-3D54829F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41AFE-BE55-4098-B7B1-08335EC3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6967F-F124-4E44-91B7-D79C4E6C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11E15B-A208-47E3-8FDF-65F701C5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ACC151-957B-407B-B006-A199AE6C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A25B7-22D2-44BC-97CA-3A2E512B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A6AC3A-C96B-412C-A7D4-554D5806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EF049-ECE5-4D23-9B7B-D7F250D0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B86B6E-9B44-4518-BEC5-64421923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B8F5C5-8131-4130-9E96-71AE84C3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C916B-46A0-47C2-AB6A-AD768616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427910-AFA5-4FD0-8070-5B00ABEB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CC1CB9-3286-4A1A-A6F6-6B128127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212CD-1EBF-4D9E-A7AC-EE8F6286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60E9D-8716-44A3-9CD1-09085DC3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53D15-C1BC-4BB4-89E9-955E98D6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64464-1055-4067-9E8B-1CC20570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7617E-1B64-4D9E-867E-F02BED21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46930-F75F-455C-B2CE-99112711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F637D-F4E3-42A7-A0EB-723FA462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C6352-0462-402B-B3AD-85502266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DD54E-9220-4546-A772-9A9C270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A89C6-4D2A-4734-87B7-78829EC5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88861-016F-4836-A958-77A552ED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B35DD-DB1F-47B3-A655-784F3A0E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FC207-F652-49DD-B9D0-37DF89E0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9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CBFA-ACFA-4FE4-9709-E740A1391A7E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15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EC9B-8692-439A-9384-7FA3CBE5A62C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8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8C7B-3260-4730-A604-B414264A2743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1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3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1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B7F3-6A7E-48F8-8A68-38BEFD70884A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24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4E66-D5D5-4BDC-B48F-3A1E9FF38339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27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9F41-222C-4A7C-9E5D-EFD29C7445D8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0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0082-5517-4496-8E18-F7229B72695C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33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1B1D-BCC3-4C95-9DE3-0D8CB7C5C073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36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5D75-0E29-406E-8EE3-5EF623C240DC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2E65-701E-40D3-A34F-06278E679356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39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E6B5-7CF6-41B2-AA9A-7F174830C003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4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0D65-A3A6-4A1B-AB31-CBD44786EA5E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45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2121-FFD3-4F4B-90E1-F4BFEE43928B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48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C796-4256-4633-B8AD-95892134B210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51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BDA3-D411-459C-91DD-68247CC75481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1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traight Connector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traight Connector 1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929280" y="5867280"/>
            <a:ext cx="2214720" cy="99072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54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7E7F-BBDB-4DB9-8522-1ABE00E06CE4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AC15-2D50-4732-B0A6-DF3E3D387D9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68A9-C1C7-438A-B064-0887CB866F6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082B-AA29-4E30-8761-7E6F69EA79D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0398-F823-4FCD-8DA4-C47C1E06FEE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Rounded Rectangle 5"/>
          <p:cNvGrpSpPr/>
          <p:nvPr/>
        </p:nvGrpSpPr>
        <p:grpSpPr>
          <a:xfrm>
            <a:off x="-6480" y="-6480"/>
            <a:ext cx="9156960" cy="1158840"/>
            <a:chOff x="-6480" y="-6480"/>
            <a:chExt cx="9156960" cy="1158840"/>
          </a:xfrm>
        </p:grpSpPr>
        <p:pic>
          <p:nvPicPr>
            <p:cNvPr id="298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ounded Rectangle 5"/>
          <p:cNvGrpSpPr/>
          <p:nvPr/>
        </p:nvGrpSpPr>
        <p:grpSpPr>
          <a:xfrm>
            <a:off x="-6480" y="-6480"/>
            <a:ext cx="9156960" cy="1158840"/>
            <a:chOff x="-6480" y="-6480"/>
            <a:chExt cx="9156960" cy="1158840"/>
          </a:xfrm>
        </p:grpSpPr>
        <p:pic>
          <p:nvPicPr>
            <p:cNvPr id="339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nthecuspstophai.org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onthecuspstophai.org/" TargetMode="External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5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mailto:mjskiba@agh.org" TargetMode="External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National Content Web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  <a:ea typeface="Tahoma"/>
              </a:rPr>
              <a:t>CUSP: A Framework for Succ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March 7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0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CU Safety Clim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6" name="Picture 7" descr="Chart titled Effect of CUSP on safety Climate that shows percent “Needs Improvement” (pre-CUSP 2004) vs. (Post CUSP 2006)"/>
          <p:cNvPicPr/>
          <p:nvPr/>
        </p:nvPicPr>
        <p:blipFill>
          <a:blip r:embed="rId1"/>
          <a:srcRect l="2479" t="2073" r="2393" b="2154"/>
          <a:stretch/>
        </p:blipFill>
        <p:spPr>
          <a:xfrm>
            <a:off x="1523880" y="1676520"/>
            <a:ext cx="6019920" cy="442584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 txBox="1"/>
          <p:nvPr/>
        </p:nvSpPr>
        <p:spPr>
          <a:xfrm>
            <a:off x="0" y="62485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“Needs Improvement” - Safety Climate Score &lt;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2"/>
          <p:cNvSpPr/>
          <p:nvPr/>
        </p:nvSpPr>
        <p:spPr>
          <a:xfrm>
            <a:off x="-304920" y="0"/>
            <a:ext cx="990612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"/>
          <p:cNvSpPr/>
          <p:nvPr/>
        </p:nvSpPr>
        <p:spPr>
          <a:xfrm>
            <a:off x="0" y="2263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4"/>
          <p:cNvSpPr/>
          <p:nvPr/>
        </p:nvSpPr>
        <p:spPr>
          <a:xfrm>
            <a:off x="13240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1" name="Object 5"/>
          <p:cNvGraphicFramePr/>
          <p:nvPr/>
        </p:nvGraphicFramePr>
        <p:xfrm>
          <a:off x="-152280" y="0"/>
          <a:ext cx="912960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2" name="Object 5" descr="chart showing % reporting positive teamwork climat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0"/>
                    <a:ext cx="912960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b0b0b"/>
                </a:solidFill>
                <a:latin typeface="Calibri"/>
              </a:rPr>
              <a:t>Teamwork Climate &amp;</a:t>
            </a:r>
            <a:br>
              <a:rPr sz="4100"/>
            </a:br>
            <a:r>
              <a:rPr b="1" lang="en-US" sz="4100" spc="-1" strike="noStrike">
                <a:solidFill>
                  <a:srgbClr val="0b0b0b"/>
                </a:solidFill>
                <a:latin typeface="Calibri"/>
              </a:rPr>
              <a:t>Annual Nurse Turnover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7"/>
          <p:cNvSpPr/>
          <p:nvPr/>
        </p:nvSpPr>
        <p:spPr>
          <a:xfrm rot="16200000">
            <a:off x="-1889640" y="3261600"/>
            <a:ext cx="4651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b0b0b"/>
                </a:solidFill>
                <a:latin typeface="Arial Narrow"/>
              </a:rPr>
              <a:t>% reporting positive teamwork clim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Group 8"/>
          <p:cNvGrpSpPr/>
          <p:nvPr/>
        </p:nvGrpSpPr>
        <p:grpSpPr>
          <a:xfrm>
            <a:off x="914400" y="4690800"/>
            <a:ext cx="8076960" cy="851400"/>
            <a:chOff x="914400" y="4690800"/>
            <a:chExt cx="8076960" cy="851400"/>
          </a:xfrm>
        </p:grpSpPr>
        <p:sp>
          <p:nvSpPr>
            <p:cNvPr id="1146" name="AutoShape 9"/>
            <p:cNvSpPr/>
            <p:nvPr/>
          </p:nvSpPr>
          <p:spPr>
            <a:xfrm flipV="1" rot="16200000">
              <a:off x="2129760" y="3752280"/>
              <a:ext cx="718920" cy="2594880"/>
            </a:xfrm>
            <a:prstGeom prst="flowChartOnlineStorage">
              <a:avLst/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AutoShape 10"/>
            <p:cNvSpPr/>
            <p:nvPr/>
          </p:nvSpPr>
          <p:spPr>
            <a:xfrm flipV="1" rot="16200000">
              <a:off x="4728960" y="3748320"/>
              <a:ext cx="718920" cy="2602800"/>
            </a:xfrm>
            <a:prstGeom prst="flowChartOnlineStorag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11"/>
            <p:cNvSpPr/>
            <p:nvPr/>
          </p:nvSpPr>
          <p:spPr>
            <a:xfrm flipV="1" rot="16200000">
              <a:off x="7331040" y="3749040"/>
              <a:ext cx="718920" cy="2601360"/>
            </a:xfrm>
            <a:prstGeom prst="flowChartOnlineStorage">
              <a:avLst/>
            </a:prstGeom>
            <a:gradFill rotWithShape="0">
              <a:gsLst>
                <a:gs pos="0">
                  <a:srgbClr val="185e18"/>
                </a:gs>
                <a:gs pos="50000">
                  <a:srgbClr val="33cc33"/>
                </a:gs>
                <a:gs pos="100000">
                  <a:srgbClr val="185e1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12"/>
            <p:cNvSpPr/>
            <p:nvPr/>
          </p:nvSpPr>
          <p:spPr>
            <a:xfrm>
              <a:off x="914400" y="4838400"/>
              <a:ext cx="28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High Turnover  16.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13"/>
            <p:cNvSpPr/>
            <p:nvPr/>
          </p:nvSpPr>
          <p:spPr>
            <a:xfrm>
              <a:off x="6297480" y="4838400"/>
              <a:ext cx="254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    </a:t>
              </a: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Low Turnover 7.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14"/>
            <p:cNvSpPr/>
            <p:nvPr/>
          </p:nvSpPr>
          <p:spPr>
            <a:xfrm>
              <a:off x="3566520" y="4838400"/>
              <a:ext cx="268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1f497d"/>
                  </a:solidFill>
                  <a:latin typeface="Times New Roman"/>
                </a:rPr>
                <a:t>Mid Turnover 10.8%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asonable man adapts himself to the world; the unreasonable one persists in trying to adapt the world to himself. Therefore all progress depends on the unreasonable man.”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n and Super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orge Bernard Sha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The Comprehensive Unit-based Safety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377640" y="1904760"/>
            <a:ext cx="8461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Comprehensive Unit-based Safety Program (CUSP): A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terven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r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tak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prov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e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ltu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hris Goeschel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D MPA MPS RN FA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or, Strategic Development and Research Initiatives 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mstrong Institute for Patient Safety and Qua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ohns Hopkins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ahoma"/>
              </a:rPr>
              <a:t>Ideas for Ensuring Patients Receiv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ahoma"/>
              </a:rPr>
              <a:t>the Interventions: the 4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ngage: Stories, show baselin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ducate staff on evide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xecu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Standardize: Create line ca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Create independent checks: Create BSI checkl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Empower nurses to stop takeof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Learn from mistak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valu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Feedback performa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View infections as def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nsure Patients Reliably Receiv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304920" y="1905120"/>
          <a:ext cx="8534160" cy="3922560"/>
        </p:xfrm>
        <a:graphic>
          <a:graphicData uri="http://schemas.openxmlformats.org/drawingml/2006/table">
            <a:tbl>
              <a:tblPr/>
              <a:tblGrid>
                <a:gridCol w="2009520"/>
                <a:gridCol w="2175120"/>
                <a:gridCol w="2174760"/>
                <a:gridCol w="2174760"/>
              </a:tblGrid>
              <a:tr h="460080">
                <a:tc rowSpan="2">
                  <a:txBody>
                    <a:bodyPr lIns="4680" rIns="468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80" rIns="468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enio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80" rIns="468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ea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taff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eader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680" rIns="468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eader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ngag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ow does this make the world a better plac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ducat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What do we need to do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 rowSpan="2"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xecut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What keeps me from doing i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ow can we do it with my resources and cultur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valuat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lIns="4212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ow do we know we improved safety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6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59" name=""/>
          <p:cNvSpPr txBox="1"/>
          <p:nvPr/>
        </p:nvSpPr>
        <p:spPr>
          <a:xfrm>
            <a:off x="3504960" y="59130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4061"/>
                </a:solidFill>
                <a:latin typeface="Arial"/>
                <a:ea typeface="ＭＳ Ｐゴシック"/>
              </a:rPr>
              <a:t>Pronovost: Health Services Research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Slide Number Placeholder 6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89E9-6B8E-47FB-A401-6569F7935C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Down Arrow 27"/>
          <p:cNvSpPr/>
          <p:nvPr/>
        </p:nvSpPr>
        <p:spPr>
          <a:xfrm>
            <a:off x="2362320" y="1066680"/>
            <a:ext cx="53316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Down Arrow 28"/>
          <p:cNvSpPr/>
          <p:nvPr/>
        </p:nvSpPr>
        <p:spPr>
          <a:xfrm flipV="1" rot="10800000">
            <a:off x="6400800" y="1065600"/>
            <a:ext cx="53352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Down Arrow 31"/>
          <p:cNvSpPr/>
          <p:nvPr/>
        </p:nvSpPr>
        <p:spPr>
          <a:xfrm flipV="1" rot="10800000">
            <a:off x="2057400" y="5715000"/>
            <a:ext cx="53352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Down Arrow 32"/>
          <p:cNvSpPr/>
          <p:nvPr/>
        </p:nvSpPr>
        <p:spPr>
          <a:xfrm flipV="1" rot="10800000">
            <a:off x="6324480" y="5637600"/>
            <a:ext cx="6098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03356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SimSun"/>
              </a:rPr>
              <a:t>Mea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609120" y="1447920"/>
            <a:ext cx="3429000" cy="914400"/>
          </a:xfrm>
          <a:prstGeom prst="rect">
            <a:avLst/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Have We Created a Safe Cult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How Do We Know We Lear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From Mistak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533520" y="2514240"/>
            <a:ext cx="350496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CU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Comprehensive Unit-based Safety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533520" y="3733560"/>
            <a:ext cx="3504960" cy="19047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ducate staff on science of safe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dentify def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sign executive to adopt un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arn from one defect per quar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lement teamwork too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952880" y="1447920"/>
            <a:ext cx="3810240" cy="914400"/>
          </a:xfrm>
          <a:prstGeom prst="rect">
            <a:avLst/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How Often Do We Har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Are Patient Outcom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Improv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4952880" y="2590560"/>
            <a:ext cx="373392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  <a:ea typeface="SimSun"/>
              </a:rPr>
              <a:t>(TRiP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  <a:ea typeface="SimSun"/>
              </a:rPr>
              <a:t>Translating Evidence Into Pract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952880" y="3733560"/>
            <a:ext cx="3733920" cy="19047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mmarize the evidence in a check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dentify local barriers to implem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 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sure all patients get the evid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990720" y="6081840"/>
            <a:ext cx="7619760" cy="699840"/>
          </a:xfrm>
          <a:prstGeom prst="rect">
            <a:avLst/>
          </a:prstGeom>
          <a:solidFill>
            <a:srgbClr val="9bbb5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SimSun"/>
              </a:rPr>
              <a:t>Impr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33520" y="185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What is CUS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09480" y="2133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Comprehensive Unit-based Safety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n intervention to learn from mistakes and improve safety cul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onthecuspstophai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Line 9"/>
          <p:cNvSpPr/>
          <p:nvPr/>
        </p:nvSpPr>
        <p:spPr>
          <a:xfrm flipH="1">
            <a:off x="2819520" y="1905120"/>
            <a:ext cx="380880" cy="761760"/>
          </a:xfrm>
          <a:prstGeom prst="line">
            <a:avLst/>
          </a:prstGeom>
          <a:ln w="255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10"/>
          <p:cNvSpPr/>
          <p:nvPr/>
        </p:nvSpPr>
        <p:spPr>
          <a:xfrm>
            <a:off x="5638680" y="1905120"/>
            <a:ext cx="533520" cy="761760"/>
          </a:xfrm>
          <a:prstGeom prst="line">
            <a:avLst/>
          </a:prstGeom>
          <a:ln w="255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11"/>
          <p:cNvSpPr/>
          <p:nvPr/>
        </p:nvSpPr>
        <p:spPr>
          <a:xfrm>
            <a:off x="1371600" y="35053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800240" y="2666880"/>
            <a:ext cx="3886200" cy="3733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SI-Reduction Proto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Best-evidence supplies, organization of suppl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12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Ensuring all patients receive the best practic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12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Checklist to ensure consistent application of evide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/>
          </p:nvPr>
        </p:nvSpPr>
        <p:spPr>
          <a:xfrm>
            <a:off x="533520" y="2666880"/>
            <a:ext cx="4038480" cy="3733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mprehensive Unit-based Safety Program (CUS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Improve or reinforce good cross-disciplinary communication and teamwor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Enhance coordination of ca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Address overall patient safe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-Work towards healthy unit cul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title"/>
          </p:nvPr>
        </p:nvSpPr>
        <p:spPr>
          <a:xfrm>
            <a:off x="1170000" y="533520"/>
            <a:ext cx="66024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n the CUSP: Stop BSI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nter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1"/>
          <p:cNvGrpSpPr/>
          <p:nvPr/>
        </p:nvGrpSpPr>
        <p:grpSpPr>
          <a:xfrm>
            <a:off x="-15840" y="0"/>
            <a:ext cx="9159840" cy="6994080"/>
            <a:chOff x="-15840" y="0"/>
            <a:chExt cx="9159840" cy="6994080"/>
          </a:xfrm>
        </p:grpSpPr>
        <p:pic>
          <p:nvPicPr>
            <p:cNvPr id="1182" name="Picture 3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9159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3" name="TextBox 2"/>
            <p:cNvSpPr/>
            <p:nvPr/>
          </p:nvSpPr>
          <p:spPr>
            <a:xfrm>
              <a:off x="75960" y="6473880"/>
              <a:ext cx="365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0253f"/>
                  </a:solidFill>
                  <a:latin typeface="Arial"/>
                  <a:ea typeface="Arial"/>
                </a:rPr>
                <a:t>Pronovost, Berenholtz, Needham BMJ 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Today’s Spea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arge Cannon, Medical Officer, C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inet Javellana, Health Insurance Specialist, C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Barb Edson, Vice President of Clinical Quality, HR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hris George, Director of National Projects, MHA Keystone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hris Goeschel, Director of Strategic Development and Research Initiatives at Armstrong Institute for Patient Safety and Quality, John Hopkins Un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ary Jo Skiba, Project Manager QI/Research, Alpena Regional Medical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afety Score Car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Keystone ICU Safety Dash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5" name=""/>
          <p:cNvGraphicFramePr/>
          <p:nvPr/>
        </p:nvGraphicFramePr>
        <p:xfrm>
          <a:off x="457200" y="1828800"/>
          <a:ext cx="7772400" cy="2889360"/>
        </p:xfrm>
        <a:graphic>
          <a:graphicData uri="http://schemas.openxmlformats.org/drawingml/2006/table">
            <a:tbl>
              <a:tblPr/>
              <a:tblGrid>
                <a:gridCol w="4984920"/>
                <a:gridCol w="1450800"/>
                <a:gridCol w="1336680"/>
              </a:tblGrid>
              <a:tr h="418680">
                <a:tc>
                  <a:txBody>
                    <a:bodyPr lIns="7560" rIns="756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418680">
                <a:tc>
                  <a:txBody>
                    <a:bodyPr lIns="6840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ow often did we harm (BSI)?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media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/10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19040">
                <a:tc>
                  <a:txBody>
                    <a:bodyPr lIns="6840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ow often do we do what we should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18680">
                <a:tc>
                  <a:txBody>
                    <a:bodyPr lIns="6840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ow often did we learn from mistakes?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6680">
                <a:tc>
                  <a:txBody>
                    <a:bodyPr lIns="6840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ave we created a safe culture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hat areas need improvement?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44520">
                <a:tc>
                  <a:txBody>
                    <a:bodyPr lIns="756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  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fety climat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43440">
                <a:tc>
                  <a:txBody>
                    <a:bodyPr lIns="7560" rIns="756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  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eamwork climat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186" name=""/>
          <p:cNvSpPr txBox="1"/>
          <p:nvPr/>
        </p:nvSpPr>
        <p:spPr>
          <a:xfrm>
            <a:off x="2384280" y="5280120"/>
            <a:ext cx="5060520" cy="412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ctr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* CUSP is intervention to improve th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re CUSP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Create a CUSP tea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Nurses, physician, support staff, infection prevention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Assign a team lea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Measure culture in the un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Work with hospital quality leader or hospital management to have a senior executive assigned to CUSP tea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s of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457200" y="1828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ducate staff on science of safety </a:t>
            </a:r>
            <a:br>
              <a:rPr sz="2500"/>
            </a:br>
            <a:r>
              <a:rPr b="0" lang="en-US" sz="2500" spc="-1" strike="noStrike" u="sng">
                <a:solidFill>
                  <a:srgbClr val="558ed5"/>
                </a:solidFill>
                <a:uFillTx/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dentify defect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ssign executive to adopt uni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Learn from one defect per quarter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mplement teamwork tool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802440" indent="-432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802440" indent="-432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75960" y="6552720"/>
            <a:ext cx="51512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novost J,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Patient Safety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200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1: Science of Saf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Understand system determines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Use strategies to improve system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Standard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Create independent checks for key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earn from mistak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Apply strategies to both technical work and team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Recognize teams make wise decisions with diverse and independent input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2: Identify De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Administer the staff safety assessment and ask staff, “How will the next patient be harmed?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Review error reports, liability claims, sentinel events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or M and M confere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rioritize De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457200" y="19047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List all def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Tahoma"/>
              </a:rPr>
              <a:t>Discuss with staff what are the three greatest risks and what you should work on fir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3: Executive Partn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xecutive should become a member of unit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xecutive should meet monthly with unit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xecutive should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Review def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Ensure unit team has resources to reduce ri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Hold team accountable for improving risks and central line-associated blood steam infection r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4: Learning from Mist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685800" y="17521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What happened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Why did it happen (system lenses)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What could you do to reduce risk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ow do you know risk was reduced 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Create policy,  process, or proced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Ensure staff know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Evaluate if policy is used correc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60480" y="6552720"/>
            <a:ext cx="4054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novost 2005 JCJQ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4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Identify Most Important Contributing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609480" y="19810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ate each contributing fac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mportance of the problem and contributing fac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n causing the acciden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n future accide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4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Identify Most Effective Inter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ate each interven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39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ow well the intervention solves the problem or mitigates the contributing factors for the accid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39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ate the team belief that the intervention will be implemented and executed as inten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Working Together – The Player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04560" y="18284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enters for Medicare &amp; Medicaid Services Quality Improvement Organization (CMS QI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Agency for Health Care Research and Quality (AHRQ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On the CUSP: Stop HAI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www.onthecuspstophai.or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LABSI National Project Tea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ichigan Health &amp; Hospital Association - Michigan  Keystone Center for Patient Safety &amp; Quality (MHA Keyston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ahoma"/>
              </a:rPr>
              <a:t>Armstrong Institute for Patient Safety and Quality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Johns Hopkins University (JH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76120" indent="-2761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Health Research &amp; Educational Trust (HRET), research affiliate of the American Hospital Associ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8" name="Picture 4" descr=" Image of four figures each holding a puzzle piece in place making the puzzle"/>
          <p:cNvPicPr/>
          <p:nvPr/>
        </p:nvPicPr>
        <p:blipFill>
          <a:blip r:embed="rId2"/>
          <a:stretch/>
        </p:blipFill>
        <p:spPr>
          <a:xfrm>
            <a:off x="7315200" y="2209680"/>
            <a:ext cx="1547640" cy="154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4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Evaluate Whether Risks Were Reduc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295280" y="20574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id you create a policy or proced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o staff know about the polic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re staff using it as inten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o staff believe risks have been reduc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5: Teamwork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1371240" y="175212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Call li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aily go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Morning brief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Shadow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Culture check u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novost JCC, JCJQ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5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Call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Ensure your unit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  <a:ea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as a process to identify which physician to page or call for each pati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Make sure call list is easily accessible and upda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5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Morning 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45720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ave a morning meeting with charge nurse and unit attending(s) about the unit-level plan for the da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iscuss work for the da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What happened during the ev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Who is being admitted and discharged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What are potential risks during the day; how can we reduce these ri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Step 5 cont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  <a:ea typeface="Tahoma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d: Shado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Follow another type of clinician doing his or her job for between 2 and 4 hou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Have the shadower discuss with staff what he or she will do differently now that he or she has walked in another person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Tahoma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s sho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CUSP is a Continuous Eff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45720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dd science of safety education to orient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Learn from one defect per quarter; share or post lesson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mplement teamwork tools that best meet the unit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Tahoma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s nee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eview details in the CUSP man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Action Items --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Look over the CUSP manual with team member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Brainstorm potential hazards with team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Assess team composition with respect to CUSP elemen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eview pre-implementation checklist — where are yo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Action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04560" y="12949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Review content of Web site at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ea typeface="Tahoma"/>
                <a:hlinkClick r:id="rId1"/>
              </a:rPr>
              <a:t>www.onthecuspstophai.or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Toolki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Slides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Manua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Project Management Checklist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Pre-Implementation Checkl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CEO/Senior Leader Checkl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ahoma"/>
              </a:rPr>
              <a:t>Infection Preventionist Checkl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Pronovost P, Weast B, Rosenstein B, et al. Implementing and validating a comprehensive unit-based safety program. J Pat Safety. 2005; 1(1):33-40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Pronovost P, Berenholtz S, Dorman T,  et al. Improving communication in the ICU using daily goals. J Crit Care. 2003; 18(2):71-7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Pronovost PJ, Weast B, Bishop K, et al. Senior executive adopt-a-work unit: A model for safety improvement. Jt Comm J Qual Saf. 2004; 30(2):59-6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Thompson DA, Holzmueller CG, Cafeo CL, et al. A morning briefing: Setting the stage for a clinically and operationally good day. Jt Comm J Qual and Saf. 2005; 31(8):476-479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Picture 2" descr="Picture of a child, Josie King, playing in the sand "/>
          <p:cNvPicPr/>
          <p:nvPr/>
        </p:nvPicPr>
        <p:blipFill>
          <a:blip r:embed="rId1"/>
          <a:stretch/>
        </p:blipFill>
        <p:spPr>
          <a:xfrm>
            <a:off x="2252520" y="762120"/>
            <a:ext cx="4529160" cy="555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76212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Understand CUSP impact on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ist CUSP compon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Describe how a hospital implemented CU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+ CAUTI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cess and 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5333760" y="1599840"/>
            <a:ext cx="354636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y Jo Skiba, RN B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 Manager QI/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14" descr="Image of Catheter Bag"/>
          <p:cNvPicPr/>
          <p:nvPr/>
        </p:nvPicPr>
        <p:blipFill>
          <a:blip r:embed="rId1"/>
          <a:stretch/>
        </p:blipFill>
        <p:spPr>
          <a:xfrm>
            <a:off x="1600200" y="2438280"/>
            <a:ext cx="5283360" cy="3962520"/>
          </a:xfrm>
          <a:prstGeom prst="rect">
            <a:avLst/>
          </a:prstGeom>
          <a:ln w="0">
            <a:noFill/>
          </a:ln>
        </p:spPr>
      </p:pic>
      <p:sp>
        <p:nvSpPr>
          <p:cNvPr id="1230" name="Slide Number Placeholder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EF7A-6752-4078-9146-6B672467C65A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y CUSP interventions to CAUTI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barriers/identify steps to successful CAUTI project ini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CUSP to maintain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7739-EE23-4DBF-9DAC-11C899DF143C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 of Safety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e prior to CA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ty survey to identify at-risk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science of safety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2755-AE5D-4AAE-8C9F-CFC95B789223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ject Plan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TI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wareness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olle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start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 for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10" descr="Image of green stick figures in a circle surrounding a light bulb holding hands "/>
          <p:cNvPicPr/>
          <p:nvPr/>
        </p:nvPicPr>
        <p:blipFill>
          <a:blip r:embed="rId1"/>
          <a:srcRect l="6963" t="14626" r="6086" b="16065"/>
          <a:stretch/>
        </p:blipFill>
        <p:spPr>
          <a:xfrm>
            <a:off x="5562720" y="1600200"/>
            <a:ext cx="2819160" cy="182880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13" descr="Image of a construction site "/>
          <p:cNvPicPr/>
          <p:nvPr/>
        </p:nvPicPr>
        <p:blipFill>
          <a:blip r:embed="rId2"/>
          <a:stretch/>
        </p:blipFill>
        <p:spPr>
          <a:xfrm>
            <a:off x="5181480" y="3505320"/>
            <a:ext cx="3505320" cy="234000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C9F5-B9BA-4B1D-9699-10E37641BC44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ject Plan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 and engage CAUTI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volve frontline staff – Respect the wis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ve a physician champ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charge nurses/staff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age an executive l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fy de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baseline data – CAUTI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ainstorm safety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termine the scope of your initial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 - Urinary cathete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, revise, consoli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policy in toolk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024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n’t re-create the whe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2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9251-1263-4D98-97D0-CC442711793D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roject Awarenes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76320" y="1599840"/>
            <a:ext cx="3047760" cy="5181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KEYSTONE 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(Hospital Associated Infecti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“</a:t>
            </a:r>
            <a:r>
              <a:rPr b="1" lang="en-US" sz="28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Bladder Bundle Pro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Microsoft Sans Serif"/>
                <a:ea typeface="ＭＳ Ｐゴシック"/>
              </a:rPr>
              <a:t>Preventing Catheter-Associated Urinary Tract Inf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352320" y="2057040"/>
            <a:ext cx="5334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Hospital newslet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li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creen sav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8" name="Picture 2" descr="Cartoon image of a nurse with a patient laying in the bed "/>
          <p:cNvPicPr/>
          <p:nvPr/>
        </p:nvPicPr>
        <p:blipFill>
          <a:blip r:embed="rId1"/>
          <a:stretch/>
        </p:blipFill>
        <p:spPr>
          <a:xfrm>
            <a:off x="1523880" y="5181480"/>
            <a:ext cx="1451160" cy="1524240"/>
          </a:xfrm>
          <a:prstGeom prst="rect">
            <a:avLst/>
          </a:prstGeom>
          <a:ln w="0">
            <a:noFill/>
          </a:ln>
        </p:spPr>
      </p:pic>
      <p:sp>
        <p:nvSpPr>
          <p:cNvPr id="1249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8C2B-0D4C-44FF-B3D3-D8623AA0F6AA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1371960" y="1752120"/>
            <a:ext cx="5791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coll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forms – Add qualifiers specific to your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sure understanding of project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 days week – Monday through Friday  (not weeken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11400" indent="-282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entry with Web-based program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211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AA25-983F-416C-A023-B60B2EC826EF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3" name="Picture 2" descr="Square box with text that reads   &#10;&#10;Indications:  Acute urinary retention or obstruction = 1&#10;Perioperative use in selected surgeries = 2&#10;Perineal  and sacral wounds in incontinent patients  = 3 &#10;Hospice / comfort/ palliative care = 4 &#10;Required immobilization for trauma or surgery  = 5&#10;Chronic indwelling urinary catheter on admission = 6&#10;Accurate measurement of urinary output in the critically ill patients = 7 &#10;Not indicated urinary catheters reasons:&#10;Urine output monitoring outside intensive care = 8 &#10;Incontinence without a sacral or perineal pressure score = 9 &#10;Prolonged postoperative use = 10 &#10;Others = 11 (include those transferred from intensive care, morbid obesity, immobility, confusion or dementia, and patient request) &#10;"/>
          <p:cNvPicPr/>
          <p:nvPr/>
        </p:nvPicPr>
        <p:blipFill>
          <a:blip r:embed="rId1"/>
          <a:stretch/>
        </p:blipFill>
        <p:spPr>
          <a:xfrm>
            <a:off x="4343400" y="1663560"/>
            <a:ext cx="44197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lanning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90680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fy Defects -- Plan Ahead to Prevent Roadbl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227160" y="2286000"/>
            <a:ext cx="40399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ill be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ill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ill we tr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will w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ill we do make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9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much ongoing training  or re-train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4644720" y="2285640"/>
            <a:ext cx="404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ill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ill w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will w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Slide Number Placeholder 6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2126-D7A2-40BA-AEB4-D62170F9762A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ducate on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ac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TI face-to-face inservic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nursing/a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deline for prevention of CAUTI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ian 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artmen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 Demonstration of insertion compe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9E77-9F07-4469-9119-655A1C4E7968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velop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UTI Education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5228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70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n’t re-create the 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other hospitals’ PowerPoint slid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ltiple CAUTI toolk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/revise to 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850A-3C68-4FEA-A013-74CB888FBBB8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ichigan CUSP Experi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is George, RN 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or of National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higan Health &amp; Hospital Assoc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stone Center for Patient Safety &amp;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3" name="Picture 4" descr="Image of the horizon with text that reads Pure Michigan"/>
          <p:cNvPicPr/>
          <p:nvPr/>
        </p:nvPicPr>
        <p:blipFill>
          <a:blip r:embed="rId1"/>
          <a:stretch/>
        </p:blipFill>
        <p:spPr>
          <a:xfrm>
            <a:off x="3252960" y="4038480"/>
            <a:ext cx="2666880" cy="179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CAUTI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228240" y="23623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ed the trai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d frontline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7" name="Picture 5" descr="Who let the Bugs in! &#10;How bacterial invasion occurs. &#10;- Up the external surface of catheter UTI early after insertion ? lack of asepsis during insertion    &#10;- Up the internal surface of catheter opening a closed drainage system contaminants due to reflux Improper access for urine specimens &#10;- At the Drainage outlet. Improper drainage of the Foley bag &#10;"/>
          <p:cNvPicPr/>
          <p:nvPr/>
        </p:nvPicPr>
        <p:blipFill>
          <a:blip r:embed="rId1"/>
          <a:srcRect l="1683" t="1214" r="0" b="0"/>
          <a:stretch/>
        </p:blipFill>
        <p:spPr>
          <a:xfrm>
            <a:off x="4419720" y="1600200"/>
            <a:ext cx="3849480" cy="420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rinary Catheter Insertion Compe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veling manneq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 percent of aides and all nurse frequent inserters (ED, OR, WHU, IP rehab, IC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ant remediation and repeat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3C0A-AB00-4983-8F16-D6A8471C4703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valuate - Learn from Defec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2895480" y="1600200"/>
            <a:ext cx="4267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67 Competenc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erage 15 min/staff me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1 aides, 126 nur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456840" y="28191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per clea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per glov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aminated fie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n’t know needleles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th port for specimens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3B6B-C132-4325-BAA5-A78776116F00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ecute New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ment plan for compe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field competency all aides within 2 months, supervised by 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ly hired aides trained by 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arly aide hands-on demo of compe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E0EA-8541-4EDE-9BB0-9CD9AC9414E0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hs flagged with date of in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ed to l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men collection fo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’t use first urine drained from cath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 patients – Prior to collection, change catheter unless known change within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atients – If catheter in for 7 days must change prior to specimen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neal hygiene prior to c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hn Door” educational po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Picture 5" descr="Black and white image of a man sitting on a toilet reading a newspaper  "/>
          <p:cNvPicPr/>
          <p:nvPr/>
        </p:nvPicPr>
        <p:blipFill>
          <a:blip r:embed="rId1"/>
          <a:stretch/>
        </p:blipFill>
        <p:spPr>
          <a:xfrm>
            <a:off x="5638680" y="5486400"/>
            <a:ext cx="984240" cy="911160"/>
          </a:xfrm>
          <a:prstGeom prst="rect">
            <a:avLst/>
          </a:prstGeom>
          <a:ln w="0">
            <a:noFill/>
          </a:ln>
        </p:spPr>
      </p:pic>
      <p:sp>
        <p:nvSpPr>
          <p:cNvPr id="1281" name="Slide Number Placeholder 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EBB6-EDF5-4D41-9F51-717F8AC7BBB4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Outcome = Culture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11"/>
          <p:cNvSpPr/>
          <p:nvPr/>
        </p:nvSpPr>
        <p:spPr>
          <a:xfrm>
            <a:off x="228600" y="990720"/>
            <a:ext cx="19051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5 CAUTI’s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8" descr="Line graph showing&#10;&#10;3.25 CAUTI’s/Month&#10;&#10;down to &#10;&#10;1.17 CAUTI’s/Month&#10;&#10;"/>
          <p:cNvPicPr/>
          <p:nvPr/>
        </p:nvPicPr>
        <p:blipFill>
          <a:blip r:embed="rId1"/>
          <a:srcRect l="0" t="16669" r="0" b="0"/>
          <a:stretch/>
        </p:blipFill>
        <p:spPr>
          <a:xfrm>
            <a:off x="228600" y="1798560"/>
            <a:ext cx="8596440" cy="4191120"/>
          </a:xfrm>
          <a:prstGeom prst="rect">
            <a:avLst/>
          </a:prstGeom>
          <a:ln w="0">
            <a:noFill/>
          </a:ln>
        </p:spPr>
      </p:pic>
      <p:sp>
        <p:nvSpPr>
          <p:cNvPr id="1285" name="Text Box 12"/>
          <p:cNvSpPr/>
          <p:nvPr/>
        </p:nvSpPr>
        <p:spPr>
          <a:xfrm>
            <a:off x="7238880" y="1928880"/>
            <a:ext cx="17528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7 CAUTI’s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6" name="Picture 37" descr="Image of a woman with her hand stretched out in the air "/>
          <p:cNvPicPr/>
          <p:nvPr/>
        </p:nvPicPr>
        <p:blipFill>
          <a:blip r:embed="rId2"/>
          <a:srcRect l="22252" t="21755" r="0" b="0"/>
          <a:stretch/>
        </p:blipFill>
        <p:spPr>
          <a:xfrm>
            <a:off x="6248520" y="5867280"/>
            <a:ext cx="72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dentify Why Defects 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U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57200" y="1676520"/>
            <a:ext cx="77724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 competency plan not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was on EM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ath patrol not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rat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Group 1"/>
          <p:cNvGrpSpPr/>
          <p:nvPr/>
        </p:nvGrpSpPr>
        <p:grpSpPr>
          <a:xfrm>
            <a:off x="382680" y="3429000"/>
            <a:ext cx="7084800" cy="2971800"/>
            <a:chOff x="382680" y="3429000"/>
            <a:chExt cx="7084800" cy="2971800"/>
          </a:xfrm>
        </p:grpSpPr>
        <p:pic>
          <p:nvPicPr>
            <p:cNvPr id="1290" name="Chart 4" descr="Line Chart: No Indicated Reason for Catheter&#10;"/>
            <p:cNvPicPr/>
            <p:nvPr/>
          </p:nvPicPr>
          <p:blipFill>
            <a:blip r:embed="rId1"/>
            <a:stretch/>
          </p:blipFill>
          <p:spPr>
            <a:xfrm>
              <a:off x="382680" y="3498480"/>
              <a:ext cx="6792480" cy="29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1" name="Oval 6"/>
            <p:cNvSpPr/>
            <p:nvPr/>
          </p:nvSpPr>
          <p:spPr>
            <a:xfrm>
              <a:off x="6172920" y="3429000"/>
              <a:ext cx="1294560" cy="182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Line 8"/>
          <p:cNvSpPr/>
          <p:nvPr/>
        </p:nvSpPr>
        <p:spPr>
          <a:xfrm flipV="1">
            <a:off x="3429000" y="914400"/>
            <a:ext cx="0" cy="325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Execut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New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57200" y="190512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ual competency aide and ED/OR nur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bedded competency orientation/annual skill eval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da item every leadership/staff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ge nurse daily cath pa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monthly staff and phy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7FC4-42CC-4F1F-9BF9-923AC7C14AAD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Execut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New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cath necessity into EM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ider decrease size standard cath - #16 to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D data capture of cath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39FD-EA56-4532-BE1B-2C4E6F70AEDA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CUSP - Not a Linear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might have to fight the battle more than once in order to win it.”  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Margaret That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worry alone. CUSP is a team 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ot for the moon. Even if you miss, you'll land among the stars.”   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Les Brow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mjskiba@agh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57D9-730C-4058-8D78-B30A38D932B7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t is not just a simple checkli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Picture 2" descr="Image of an article titled Annals of medicine The check list by Atul Gawande"/>
          <p:cNvPicPr/>
          <p:nvPr/>
        </p:nvPicPr>
        <p:blipFill>
          <a:blip r:embed="rId1"/>
          <a:stretch/>
        </p:blipFill>
        <p:spPr>
          <a:xfrm>
            <a:off x="0" y="1676520"/>
            <a:ext cx="4589640" cy="42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6" name="Picture 3" descr="Image of an article titled the art of medicine Reality check for checklist "/>
          <p:cNvPicPr/>
          <p:nvPr/>
        </p:nvPicPr>
        <p:blipFill>
          <a:blip r:embed="rId2"/>
          <a:stretch/>
        </p:blipFill>
        <p:spPr>
          <a:xfrm>
            <a:off x="4027320" y="3657600"/>
            <a:ext cx="511668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l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ve you ever heard of the Comprehensive Unit-based Safety Program (CUSP) befo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have never heard of CU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have heard of CUSP, but have not implemented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have heard of CUSP, but have not successfully implemented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ve implemented CUSP successfully and actively using it in my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My senior executive regularly attends safety meetings on my unit, and can identify the top three safety issues that our safety team is currently working 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y rarely attends and is out of touch with our unit safety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mittently attends, and is somewhat aware of our unit safety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ends whenever possible, and is aware of our unit’s top three safety iss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By ensuring that your senior executive is a part of your safety team, meeting monthly with your unit team, and holding your unit team accountable for improving risks surrounding a hospital inquired condition, my unit will be successfully utilizing the executive partnership component of CUSP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, not at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s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, those are the main elements of the executive partnership component of CU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E7E1-BD28-4325-ADAF-45405A4F889C}" type="slidenum">
              <a:rPr b="1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– The Michigan Experi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57200" y="19807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USP tied with a technical intervention, such as central line-associated blood stream infection prevention “checklis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Knowing the difference between adaptive and technical challenges is one of the key tasks of leadership.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</a:rPr>
              <a:t>Ronald A. Heifetz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03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CU Safety Clim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0" name="Picture 7" descr="Chart titled Effect of CUSP on safety Climate that shows percent “Needs Improvement” (pre-CUSP 2004) vs. (Post CUSP 2006)"/>
          <p:cNvPicPr/>
          <p:nvPr/>
        </p:nvPicPr>
        <p:blipFill>
          <a:blip r:embed="rId1"/>
          <a:srcRect l="2479" t="2073" r="2393" b="2154"/>
          <a:stretch/>
        </p:blipFill>
        <p:spPr>
          <a:xfrm>
            <a:off x="1523880" y="1676520"/>
            <a:ext cx="6019920" cy="44258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 txBox="1"/>
          <p:nvPr/>
        </p:nvSpPr>
        <p:spPr>
          <a:xfrm>
            <a:off x="0" y="62485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“Needs Improvement” - Safety Climate Score  &lt;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796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lture / Climate and Outcom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3" name="Group 6"/>
          <p:cNvGrpSpPr/>
          <p:nvPr/>
        </p:nvGrpSpPr>
        <p:grpSpPr>
          <a:xfrm>
            <a:off x="304920" y="1600200"/>
            <a:ext cx="8229600" cy="4495680"/>
            <a:chOff x="304920" y="1600200"/>
            <a:chExt cx="8229600" cy="4495680"/>
          </a:xfrm>
        </p:grpSpPr>
        <p:pic>
          <p:nvPicPr>
            <p:cNvPr id="1124" name="AutoShape 8" descr=""/>
            <p:cNvPicPr/>
            <p:nvPr/>
          </p:nvPicPr>
          <p:blipFill>
            <a:blip r:embed="rId1"/>
            <a:stretch/>
          </p:blipFill>
          <p:spPr>
            <a:xfrm>
              <a:off x="987480" y="5547960"/>
              <a:ext cx="2450520" cy="5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AutoShape 8" descr=""/>
            <p:cNvPicPr/>
            <p:nvPr/>
          </p:nvPicPr>
          <p:blipFill>
            <a:blip r:embed="rId2"/>
            <a:stretch/>
          </p:blipFill>
          <p:spPr>
            <a:xfrm>
              <a:off x="3426120" y="5554080"/>
              <a:ext cx="2298240" cy="5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AutoShape 8" descr=""/>
            <p:cNvPicPr/>
            <p:nvPr/>
          </p:nvPicPr>
          <p:blipFill>
            <a:blip r:embed="rId3"/>
            <a:stretch/>
          </p:blipFill>
          <p:spPr>
            <a:xfrm>
              <a:off x="5407200" y="5547960"/>
              <a:ext cx="2298240" cy="5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Object 3" descr="Graph that shows % of Respondents Within An ICU Reporting Good Teamwork Climate, No BSI = 5 months or more w/ zero with the caption The strongest predictor of clinical excellence: caregivers feel comfortable speaking up if they perceive a problem with patient care in the middle of the graph. "/>
            <p:cNvPicPr/>
            <p:nvPr/>
          </p:nvPicPr>
          <p:blipFill>
            <a:blip r:embed="rId4"/>
            <a:stretch/>
          </p:blipFill>
          <p:spPr>
            <a:xfrm>
              <a:off x="304920" y="1600200"/>
              <a:ext cx="8229600" cy="41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8" name="Rounded Rectangle 10"/>
            <p:cNvGrpSpPr/>
            <p:nvPr/>
          </p:nvGrpSpPr>
          <p:grpSpPr>
            <a:xfrm>
              <a:off x="2584800" y="2205720"/>
              <a:ext cx="3822120" cy="620640"/>
              <a:chOff x="2584800" y="2205720"/>
              <a:chExt cx="3822120" cy="620640"/>
            </a:xfrm>
          </p:grpSpPr>
          <p:pic>
            <p:nvPicPr>
              <p:cNvPr id="1129" name="Rounded 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584800" y="2205720"/>
                <a:ext cx="382212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0" name=""/>
              <p:cNvSpPr/>
              <p:nvPr/>
            </p:nvSpPr>
            <p:spPr>
              <a:xfrm>
                <a:off x="2620440" y="2238480"/>
                <a:ext cx="37504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No BSI = 5 months or more w/ zer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Rounded Rectangular Callout 16"/>
            <p:cNvGrpSpPr/>
            <p:nvPr/>
          </p:nvGrpSpPr>
          <p:grpSpPr>
            <a:xfrm>
              <a:off x="2225160" y="3447720"/>
              <a:ext cx="5010840" cy="2075760"/>
              <a:chOff x="2225160" y="3447720"/>
              <a:chExt cx="5010840" cy="2075760"/>
            </a:xfrm>
          </p:grpSpPr>
          <p:pic>
            <p:nvPicPr>
              <p:cNvPr id="1132" name="Rounded Rectangular Callou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2225160" y="3447720"/>
                <a:ext cx="5010840" cy="207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3" name=""/>
              <p:cNvSpPr/>
              <p:nvPr/>
            </p:nvSpPr>
            <p:spPr>
              <a:xfrm>
                <a:off x="2346480" y="3561840"/>
                <a:ext cx="4300560" cy="10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rebuchet MS"/>
                  </a:rPr>
                  <a:t>The strongest predictor of clinical excellence: Caregivers feel comfortable speaking up if they perceive a problem with patient c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4" name=""/>
          <p:cNvSpPr txBox="1"/>
          <p:nvPr/>
        </p:nvSpPr>
        <p:spPr>
          <a:xfrm>
            <a:off x="3428640" y="65527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Attribution: J. Bryan Sext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9:33:12Z</dcterms:created>
  <dc:creator>Heon-Jae Jeong, MD, MPH, MBA</dc:creator>
  <dc:description/>
  <dc:language>en-US</dc:language>
  <cp:lastModifiedBy>Karen Fleming-Michael</cp:lastModifiedBy>
  <dcterms:modified xsi:type="dcterms:W3CDTF">2013-01-10T15:54:30Z</dcterms:modified>
  <cp:revision>509</cp:revision>
  <dc:subject/>
  <dc:title>Project Report - Lean Sig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Id">
    <vt:lpwstr>0x010100C9DD924C0397EB4AA26B65D1B8E62784</vt:lpwstr>
  </property>
  <property fmtid="{D5CDD505-2E9C-101B-9397-08002B2CF9AE}" pid="6" name="Keywords">
    <vt:lpwstr/>
  </property>
  <property fmtid="{D5CDD505-2E9C-101B-9397-08002B2CF9AE}" pid="7" name="Slides">
    <vt:lpwstr>25</vt:lpwstr>
  </property>
  <property fmtid="{D5CDD505-2E9C-101B-9397-08002B2CF9AE}" pid="8" name="Subject">
    <vt:lpwstr/>
  </property>
  <property fmtid="{D5CDD505-2E9C-101B-9397-08002B2CF9AE}" pid="9" name="_Author">
    <vt:lpwstr>Heon-Jae Jeong, MD, MPH, MBA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