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3.wmf" ContentType="image/x-wmf"/>
  <Override PartName="/ppt/media/image18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  <p:sldId id="278" r:id="rId50"/>
    <p:sldId id="279" r:id="rId51"/>
    <p:sldId id="280" r:id="rId52"/>
    <p:sldId id="281" r:id="rId53"/>
    <p:sldId id="282" r:id="rId54"/>
    <p:sldId id="283" r:id="rId55"/>
    <p:sldId id="284" r:id="rId56"/>
    <p:sldId id="285" r:id="rId57"/>
    <p:sldId id="286" r:id="rId58"/>
    <p:sldId id="287" r:id="rId59"/>
    <p:sldId id="288" r:id="rId60"/>
    <p:sldId id="289" r:id="rId61"/>
    <p:sldId id="290" r:id="rId62"/>
    <p:sldId id="291" r:id="rId63"/>
    <p:sldId id="292" r:id="rId64"/>
    <p:sldId id="293" r:id="rId65"/>
    <p:sldId id="294" r:id="rId66"/>
    <p:sldId id="295" r:id="rId67"/>
    <p:sldId id="296" r:id="rId68"/>
    <p:sldId id="297" r:id="rId69"/>
    <p:sldId id="298" r:id="rId70"/>
    <p:sldId id="299" r:id="rId71"/>
    <p:sldId id="300" r:id="rId72"/>
    <p:sldId id="301" r:id="rId73"/>
    <p:sldId id="302" r:id="rId74"/>
    <p:sldId id="303" r:id="rId75"/>
    <p:sldId id="304" r:id="rId76"/>
    <p:sldId id="305" r:id="rId77"/>
    <p:sldId id="306" r:id="rId78"/>
    <p:sldId id="307" r:id="rId79"/>
    <p:sldId id="308" r:id="rId80"/>
    <p:sldId id="309" r:id="rId81"/>
    <p:sldId id="310" r:id="rId82"/>
    <p:sldId id="311" r:id="rId83"/>
    <p:sldId id="312" r:id="rId84"/>
    <p:sldId id="313" r:id="rId85"/>
    <p:sldId id="314" r:id="rId86"/>
    <p:sldId id="315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slide" Target="slides/slide23.xml"/><Relationship Id="rId51" Type="http://schemas.openxmlformats.org/officeDocument/2006/relationships/slide" Target="slides/slide24.xml"/><Relationship Id="rId52" Type="http://schemas.openxmlformats.org/officeDocument/2006/relationships/slide" Target="slides/slide25.xml"/><Relationship Id="rId53" Type="http://schemas.openxmlformats.org/officeDocument/2006/relationships/slide" Target="slides/slide26.xml"/><Relationship Id="rId54" Type="http://schemas.openxmlformats.org/officeDocument/2006/relationships/slide" Target="slides/slide27.xml"/><Relationship Id="rId55" Type="http://schemas.openxmlformats.org/officeDocument/2006/relationships/slide" Target="slides/slide28.xml"/><Relationship Id="rId56" Type="http://schemas.openxmlformats.org/officeDocument/2006/relationships/slide" Target="slides/slide29.xml"/><Relationship Id="rId57" Type="http://schemas.openxmlformats.org/officeDocument/2006/relationships/slide" Target="slides/slide30.xml"/><Relationship Id="rId58" Type="http://schemas.openxmlformats.org/officeDocument/2006/relationships/slide" Target="slides/slide31.xml"/><Relationship Id="rId59" Type="http://schemas.openxmlformats.org/officeDocument/2006/relationships/slide" Target="slides/slide32.xml"/><Relationship Id="rId60" Type="http://schemas.openxmlformats.org/officeDocument/2006/relationships/slide" Target="slides/slide33.xml"/><Relationship Id="rId61" Type="http://schemas.openxmlformats.org/officeDocument/2006/relationships/slide" Target="slides/slide34.xml"/><Relationship Id="rId62" Type="http://schemas.openxmlformats.org/officeDocument/2006/relationships/slide" Target="slides/slide35.xml"/><Relationship Id="rId63" Type="http://schemas.openxmlformats.org/officeDocument/2006/relationships/slide" Target="slides/slide36.xml"/><Relationship Id="rId64" Type="http://schemas.openxmlformats.org/officeDocument/2006/relationships/slide" Target="slides/slide37.xml"/><Relationship Id="rId65" Type="http://schemas.openxmlformats.org/officeDocument/2006/relationships/slide" Target="slides/slide38.xml"/><Relationship Id="rId66" Type="http://schemas.openxmlformats.org/officeDocument/2006/relationships/slide" Target="slides/slide39.xml"/><Relationship Id="rId67" Type="http://schemas.openxmlformats.org/officeDocument/2006/relationships/slide" Target="slides/slide40.xml"/><Relationship Id="rId68" Type="http://schemas.openxmlformats.org/officeDocument/2006/relationships/slide" Target="slides/slide41.xml"/><Relationship Id="rId69" Type="http://schemas.openxmlformats.org/officeDocument/2006/relationships/slide" Target="slides/slide42.xml"/><Relationship Id="rId70" Type="http://schemas.openxmlformats.org/officeDocument/2006/relationships/slide" Target="slides/slide43.xml"/><Relationship Id="rId71" Type="http://schemas.openxmlformats.org/officeDocument/2006/relationships/slide" Target="slides/slide44.xml"/><Relationship Id="rId72" Type="http://schemas.openxmlformats.org/officeDocument/2006/relationships/slide" Target="slides/slide45.xml"/><Relationship Id="rId73" Type="http://schemas.openxmlformats.org/officeDocument/2006/relationships/slide" Target="slides/slide46.xml"/><Relationship Id="rId74" Type="http://schemas.openxmlformats.org/officeDocument/2006/relationships/slide" Target="slides/slide47.xml"/><Relationship Id="rId75" Type="http://schemas.openxmlformats.org/officeDocument/2006/relationships/slide" Target="slides/slide48.xml"/><Relationship Id="rId76" Type="http://schemas.openxmlformats.org/officeDocument/2006/relationships/slide" Target="slides/slide49.xml"/><Relationship Id="rId77" Type="http://schemas.openxmlformats.org/officeDocument/2006/relationships/slide" Target="slides/slide50.xml"/><Relationship Id="rId78" Type="http://schemas.openxmlformats.org/officeDocument/2006/relationships/slide" Target="slides/slide51.xml"/><Relationship Id="rId79" Type="http://schemas.openxmlformats.org/officeDocument/2006/relationships/slide" Target="slides/slide52.xml"/><Relationship Id="rId80" Type="http://schemas.openxmlformats.org/officeDocument/2006/relationships/slide" Target="slides/slide53.xml"/><Relationship Id="rId81" Type="http://schemas.openxmlformats.org/officeDocument/2006/relationships/slide" Target="slides/slide54.xml"/><Relationship Id="rId82" Type="http://schemas.openxmlformats.org/officeDocument/2006/relationships/slide" Target="slides/slide55.xml"/><Relationship Id="rId83" Type="http://schemas.openxmlformats.org/officeDocument/2006/relationships/slide" Target="slides/slide56.xml"/><Relationship Id="rId84" Type="http://schemas.openxmlformats.org/officeDocument/2006/relationships/slide" Target="slides/slide57.xml"/><Relationship Id="rId85" Type="http://schemas.openxmlformats.org/officeDocument/2006/relationships/slide" Target="slides/slide58.xml"/><Relationship Id="rId86" Type="http://schemas.openxmlformats.org/officeDocument/2006/relationships/slide" Target="slides/slide59.xml"/><Relationship Id="rId87" Type="http://schemas.openxmlformats.org/officeDocument/2006/relationships/slide" Target="slides/slide60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0521-4B41-40EF-8C32-AE9D6BA6BACF}" type="datetime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3373-1781-4942-9DFC-25920829D3E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9D8B-C7CC-42ED-9363-A087B9D472F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707C-CC75-4E82-907B-EF6EEC5AC82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ACEF-389D-48C3-B7AE-B93E03003E5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E1B0-5A69-4594-B9AD-66E10201838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7F51-47A2-4C98-B063-719B64E9115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BEA2-2F10-4D9A-8FB3-79A0690CCAE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52BD-F048-4925-A34F-822D4B08C4C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68C8-CF1B-4891-936D-A779BCC97B7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7344-BA09-42B0-9AC9-8CA6ED73703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3B97-2AF0-4250-A7C2-C993A98C4E2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03A4-0758-409D-8C20-2E33412BF3E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8833-6709-40AF-BE7A-D801A9FB76C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800E-BEC1-470C-9F68-A97904728E9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D115-B680-4070-95D6-8F1E44F302A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07F4-1E3E-44DC-B241-835D8B61E53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ADFF-FAD2-449E-9EFC-6FC763A5C08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3BC6-CDEE-4089-ACCA-C95FF982276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74F7-07BF-4EF7-BD91-44D45278BDD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ADCC1-A625-49B7-BEC9-6EB9BC29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817E2-45DD-44A4-93A2-C4D8596F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3A1F3-E5A2-40C8-AA33-DA465907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54EAC-F33E-49F4-8C88-E24B150B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89B96-CA48-4B35-8EC8-9CB5758C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6B643-B1A0-4085-981F-90B24F6C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4D29F-6226-4FA1-967E-B5FE78C6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177C9-F2D7-4B99-B8FE-E3E2799D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F0B68-AC54-48D3-A960-6DC2983A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CCF08-572E-4EBC-A3A0-B29CB2B9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52C51-CCB2-428F-9385-23746DD9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AE85F-DDB3-42B4-B937-50BF789A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EAA19-5699-4864-9987-8EB8DC0A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58116-FB11-4D8A-B18F-2BC4164E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01384-D908-4715-B6E6-641BEB7A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80F7C-377A-42A7-9437-1F0A0E30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C35FF-B1E9-4CF7-A946-E7785C8E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E4E92-CAF5-47FC-A8E7-9753BD72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ABD96-A9E0-4CBA-8EB4-7787B711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BA546-FEB7-4C4D-AC3D-D20B6AED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D6FDD-EB3B-4A6E-BE00-7AC9D634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9E2E0-CE2C-4659-8917-41538A81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4309B-109A-4C1F-9D5B-B6D3E7AE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E396E-B9BF-4CB4-9CF5-0ACBB727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039E5-2B02-41EA-8DDF-6183FFF7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24AAD-1F39-4D14-9898-89AFB5EF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7E7D8-E75A-4214-9C70-F350BDAC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18E84-00AA-400D-9B6C-9602B87E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0D23E-1CF9-4551-A69F-B645601D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E1374-079B-4F4E-86C2-55D33885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2E997-461D-46BE-92A9-55DFEBB8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7A009-54FD-4569-B0F6-4DCA0F67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B211A-F360-472F-B2F1-5DB12AE8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C7C41-F4EB-4ACF-8791-60968DBD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1C63A-39E1-4B9E-A7CE-90FB2CDA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81F98-D3E1-4C72-BF58-6E5C2A75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8ADF6-C8CF-4EDF-97C9-073D8E5D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30BDC-C636-433A-82D2-70B02445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2533E-E216-4D35-AE0E-E54B6CC6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CDB96-DB56-465F-A8AA-618BF91F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BF968-41BF-4456-8EF1-CA4BECDD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BC4EA-8652-40AB-A665-E4CB7F1B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0FA79-F2C5-4941-ADCF-1FDFD414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88BA9-8BF5-4932-9DDB-2358F74E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44085-55BB-431C-B2E9-29473CA6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90261-2054-4D19-A6BE-6B7D57BB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B10CC-3215-473F-B45E-FA5294FD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9E569-1D36-4CE8-8E2D-77403879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02CD6-E7C1-4CDF-9690-69E9C706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DACB4-F1EB-423C-8436-14F884FC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5305B-73B2-4883-8379-F45075AD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79B75-B631-4AB2-9A49-BCD4C6D8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1F62C-FC4D-4097-8E3B-F5689614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0F46E-DC5B-4728-9D18-70F56685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7096D-99D7-4CCF-AE02-D414A199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85CFC-AA6C-412F-945D-1A2C78F7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6BE6E-E501-4D2A-B7A6-76D4B979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136D1-37D7-4C89-B206-F3474FB2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88B21-258F-44B4-8C44-F33DD1DA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18F3C-58A9-4015-888A-34A8F654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B8F14-5A96-4FB6-B8A6-39AC2CD8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F31F7-6E4D-4DFE-9AA7-B4A0A281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44D34-1499-43EF-856E-23B89338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A92B0-8094-4201-8C66-D135639C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09E4A-DCB8-4E01-84BD-A8F64050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4E0B1-A5D4-4BE4-B045-92630A80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44078-F13C-44E1-8CB6-7C76EE3C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4378E-9881-4AF6-AABA-03F44270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0A547-59D6-4EA7-8438-4D20C5DE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A4887-F3AA-4D10-B0B4-63AE00AF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3D534-A17A-4DC5-B5B5-4578C66F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28546-82A2-4E3A-AF94-3F5DFC19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71197-95FE-481D-9EF8-EB7EF6F9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5EB2C-402B-4672-8797-939BD01F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79D7D-248E-47FB-8FC8-B2113462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7D0DC-1825-43D1-9E2A-A073CE1C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F274A-EAE5-4EE3-8320-8948A214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4B079-9734-4E4F-BEBA-FE2EA3F1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FACC3-64B8-44BE-ACCA-F575DD95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0CB65-8D50-43C0-A0B3-40441C19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D6CA0-763D-4DE9-9C3A-C170D36E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1D697-A040-4A0D-B2E6-80A8A98D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F90E9-3807-4CD0-A4B3-165916B9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6F345-BD8E-4AA5-8D44-ACBCCA9B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43F98-D677-44A0-B548-633E7011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80EDA-F98E-4832-AB27-B063FDCA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41251-5BAF-4D7A-AAE1-7BCE1F18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30133-5CA6-4241-94AC-8CF53B4E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1A83A-76E7-433E-9518-CC3BF500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AAA5F-31BC-47E8-B9A5-83B2B47A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F0D2E-8A80-49C9-926C-D28F7EA1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35495-48B2-4AB9-B873-53CC45DE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212E6-3034-4241-A7D3-BCED7139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63615-BE33-444F-917B-D71F38D2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56EE4-8778-4A35-ACFA-7693130C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1AEF9-4290-4C50-BAEB-1C215502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2DA25-1E00-447D-9623-B793611E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158F7-3F46-4BF9-8FBE-D135BCF2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5701E-C548-4775-9A36-BCDFFE33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0E9FE-A2BC-4590-8493-8100B296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23A6E-8365-4D06-BC8A-0898CAE1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409E1-281D-4852-A6FC-543EB874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DBCCF-F895-409C-8FB5-312D7547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AC8D4-A264-4365-948A-7A1B1DDA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6B427-20AB-4008-AFA3-FC196EF9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EB4A4-C854-44E5-9569-BB335CC6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C6DA8-15B4-4596-9B02-B452DE1F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49932-41A8-4FD8-A709-CC10A3BC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4753F-2CB7-4AE0-A26B-F00F0134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9635D-61E2-4BD9-A6C6-9462A689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D2E46-0B2E-4C2F-881E-39DCB1BB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EC08B-569F-47C9-B58F-023E944F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8539A-074C-4AEF-93AB-3BEB74C9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3DC08-5259-4CBD-BC66-753E3559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DA88B-8918-4C8D-AE70-33BF1F80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4D463-ED85-40CE-AB38-5BBE1629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59BB5-CBA4-4A6E-AEB3-E2579974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87F20-FA5C-47EF-A9E4-D6A161D3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0F489B-1D4D-488A-A80A-89CB223B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B689D-94A0-474A-834B-3ADE048C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9C1A84-5E8A-4465-BDA2-10222D45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13B5E-CC61-49AF-BA8D-ECD0A3A6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A2B87-7721-4C60-9E6F-7410EF70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955AC-F539-47A7-A89D-BC9F2357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562209-D4FF-4E67-AC91-8EE99C4B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EE3769-2304-4480-9E52-E725964A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CFD31-5281-47E5-9EF3-52E69601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ADEC8C-78B9-4F27-BAA0-81AC1A14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C0A655-2DD4-4A96-B680-1E47B3D0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53BA60-9A5E-48CD-B6AF-96800B1F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B0463-F74F-44D0-8CE3-3A835F88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B3748F-8746-46F0-9F50-906E7A74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76B968-5650-45F6-93DF-71B4CDC6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9FA991-8B43-4A9B-B3DD-56FB7F41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42E2A2-2D76-4D3E-8B2F-F6A77219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976E47-BF77-413D-92CD-E1DA2AED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701E73-B54A-423A-AF76-AA65F46C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C09F0C-98C0-4828-B775-418000C9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6F16FB-B303-4380-957A-3E79DD93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E4024B-AE7A-4F90-A03B-8163688B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AAC6EF-46C0-4EAC-90BF-0B643256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5C032C-13E4-4D12-9927-832BE03A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E5CAB3-4ABB-4E9E-9216-E4EF4778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F8853D-B50E-4D0C-9984-71D78714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36552E-45B4-4268-9430-151146E2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3A3E28-F693-44D0-B8F3-7B985A9D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8D3235-7AA4-4E3E-99FA-B50C5F42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E6D5A6-E30D-4F5D-AFD6-3C83567C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9CD22F-2657-4907-91A4-59CF997D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0663C3-B4F5-4B29-9F1D-C4C9941F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C02319-0C38-4D32-8BCD-A27971F0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A9C98F-3CF5-4FAF-A680-23D8AA6E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F38DE0-B674-43E0-BFC6-7DD01997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4A33D2-2ACE-4285-94FD-E5DB820C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4D590E-3C43-4B0F-BB87-54B5EEB2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E47872-4C3A-400B-A5E3-A1A7D8FC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9528BA-78EF-488B-98C8-43BC61DE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475100-FF85-4239-8F93-B1F252CA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FAAF6F-99A6-41DF-924A-B410EA9C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5E3183-699D-4114-B234-FC27C74D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A4B9C8-9F28-469D-B002-73F86439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492E6E-8860-4EBC-A791-D0518748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55880E-1E03-4449-BD61-24AEBF7A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421E15-0B0F-41CB-8306-6BDE938E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3D7A64-3BF4-46A1-91AC-F2B9739E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A59A83-77F4-496F-B788-CF5AD6E4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5DDC69-907C-4E10-A535-F9944092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9E7328-10D6-4902-8B08-BF918223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B80A9F-3418-41AD-861D-E9B84175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EEBDB4-5F92-48C6-8A09-CC7AF014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B49C68-43CB-4BDD-A9C9-D9331A55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23C01B-8118-408F-B7BA-FA88EBDC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19CFA0-93BB-422C-9FA5-FE0C412E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4ED59A-6E2B-451C-83A4-DDB78AA2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5C9609-2E02-42AE-923D-91FE4818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B33AA5-CFCC-4A2C-BBD8-11DBFE05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C11F27-903C-46CB-A524-4C67DF79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A9FBB9-B3F1-46D4-908C-088AFF10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CE4314-8628-45B5-BF62-1B4F0805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A9AD88-E3B4-4710-B4E2-2DBFAAA9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1B482A-3C8D-4B55-8E8B-AFED7385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D2D287-2D65-4D6E-8791-9EFF97B9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BF5539-9569-4FED-A0FA-0B723CD1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7B0C1A-9368-4A97-BD64-6976A63D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A87604-3E1D-4898-ACC7-F8E9E145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039C42-CF66-400A-BBEC-29E9416A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50F329-574A-498D-BE5B-3EA7536B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9CB4FC-9346-4D84-83D4-1629BA45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6448AB-A79F-4B01-9A1F-45C32447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14A7F9-C810-4C20-87A1-221D934C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BB5B5C-8819-414C-A730-303523DD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E37D50-9DD2-486E-9B6F-1B393386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A01CC-7BEB-4037-9542-69C587C3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8E886-21A9-4CEC-A42C-86EA19AC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2113F-AD26-4FF5-A60B-1E0EFB53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71B32C-75E3-4F0B-9424-40F7965F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95518-F955-47A2-949C-B8A35ACE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75A90-78B1-452D-AB7F-4098B304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8A33F8-2F90-4060-AAEE-21B9A0DA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2DEBF9-3C29-4D73-92F2-549A1972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E1E6D8-BA34-4726-ACFB-D70428E7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D6024-5E21-48BC-8F50-A5998823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93F87-8625-4D2B-8333-9A5F7981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880C1-9902-4B2D-82F4-47CF05B7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ftr" idx="9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12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2576-3572-42DA-9253-78A4E7DF9C8A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15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563B-EB71-43AF-94BD-184358657E2B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18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0B80-5D77-4B8B-82FD-C28BF55907A5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1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13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21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9E81-3DF7-4AAF-B3C0-771AF8330693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24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F1CA-77FC-41F4-B872-E1A12BFD34A0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27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B6A4-0D43-4EB5-B81E-835DE778B4AA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0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1C52-DC99-4375-AD4D-D58CE91EF643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33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ACC6-7D99-41D5-BB8C-8EFE8CFA222F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36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F3F5-45CA-4B86-B0B6-2D59D27511F7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47B7-EA4E-45B2-A80B-2798DDC0B11B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39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9266-B252-4C7D-B9E0-603D95ED6B31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42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4A54-1B91-473B-96E8-A704EBCFE5CB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45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6A33-07FC-4301-9497-2C8753219156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48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FF34-228E-4336-A582-57A65538F9B6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sldNum" idx="51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3971-C2A6-4FD0-8C87-4BB9BD326CAB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3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sldNum" idx="54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32F3-A9FD-414C-B4B7-0312D8D5B432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0" y="6324480"/>
            <a:ext cx="899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711E-49F9-41C2-ADC8-652CA8B4B2F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0" y="6324480"/>
            <a:ext cx="899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58AA-1C22-43BB-B612-2EFE95543D7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0" y="6324480"/>
            <a:ext cx="899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820F-4DED-4BC4-BF89-1B0AC685B2F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B006-7912-416A-8DEB-E92920026C2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Rounded Rectangle 5"/>
          <p:cNvGrpSpPr/>
          <p:nvPr/>
        </p:nvGrpSpPr>
        <p:grpSpPr>
          <a:xfrm>
            <a:off x="-6480" y="-6480"/>
            <a:ext cx="9156960" cy="1158840"/>
            <a:chOff x="-6480" y="-6480"/>
            <a:chExt cx="9156960" cy="1158840"/>
          </a:xfrm>
        </p:grpSpPr>
        <p:pic>
          <p:nvPicPr>
            <p:cNvPr id="298" name="Rounded Rectangle 5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ounded Rectangle 5"/>
          <p:cNvGrpSpPr/>
          <p:nvPr/>
        </p:nvGrpSpPr>
        <p:grpSpPr>
          <a:xfrm>
            <a:off x="-6480" y="-6480"/>
            <a:ext cx="9156960" cy="1158840"/>
            <a:chOff x="-6480" y="-6480"/>
            <a:chExt cx="9156960" cy="1158840"/>
          </a:xfrm>
        </p:grpSpPr>
        <p:pic>
          <p:nvPicPr>
            <p:cNvPr id="339" name="Rounded Rectangle 5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nthecuspstophai.org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onthecuspstophai.org/" TargetMode="External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5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mailto:mjskiba@agh.org" TargetMode="External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National Content Web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  <a:ea typeface="Tahoma"/>
              </a:rPr>
              <a:t>CUSP: A Framework for Succes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March 7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10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CU Safety Clima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6" name="Picture 7" descr="Chart titled Effect of CUSP on safety Climate that shows percent “Needs Improvement” (pre-CUSP 2004) vs. (Post CUSP 2006)"/>
          <p:cNvPicPr/>
          <p:nvPr/>
        </p:nvPicPr>
        <p:blipFill>
          <a:blip r:embed="rId1"/>
          <a:srcRect l="2479" t="2073" r="2393" b="2154"/>
          <a:stretch/>
        </p:blipFill>
        <p:spPr>
          <a:xfrm>
            <a:off x="1523880" y="1676520"/>
            <a:ext cx="6019920" cy="4425840"/>
          </a:xfrm>
          <a:prstGeom prst="rect">
            <a:avLst/>
          </a:prstGeom>
          <a:ln w="0">
            <a:noFill/>
          </a:ln>
        </p:spPr>
      </p:pic>
      <p:sp>
        <p:nvSpPr>
          <p:cNvPr id="1137" name=""/>
          <p:cNvSpPr txBox="1"/>
          <p:nvPr/>
        </p:nvSpPr>
        <p:spPr>
          <a:xfrm>
            <a:off x="0" y="624852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“Needs Improvement” - Safety Climate Score &lt;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2"/>
          <p:cNvSpPr/>
          <p:nvPr/>
        </p:nvSpPr>
        <p:spPr>
          <a:xfrm>
            <a:off x="-304920" y="0"/>
            <a:ext cx="990612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3"/>
          <p:cNvSpPr/>
          <p:nvPr/>
        </p:nvSpPr>
        <p:spPr>
          <a:xfrm>
            <a:off x="0" y="22636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4"/>
          <p:cNvSpPr/>
          <p:nvPr/>
        </p:nvSpPr>
        <p:spPr>
          <a:xfrm>
            <a:off x="13240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1" name="Object 5"/>
          <p:cNvGraphicFramePr/>
          <p:nvPr/>
        </p:nvGraphicFramePr>
        <p:xfrm>
          <a:off x="-152280" y="0"/>
          <a:ext cx="9129600" cy="67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2" name="Object 5" descr="chart showing % reporting positive teamwork climate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0"/>
                    <a:ext cx="912960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b0b0b"/>
                </a:solidFill>
                <a:latin typeface="Calibri"/>
              </a:rPr>
              <a:t>Teamwork Climate &amp;</a:t>
            </a:r>
            <a:br>
              <a:rPr sz="4100"/>
            </a:br>
            <a:r>
              <a:rPr b="1" lang="en-US" sz="4100" spc="-1" strike="noStrike">
                <a:solidFill>
                  <a:srgbClr val="0b0b0b"/>
                </a:solidFill>
                <a:latin typeface="Calibri"/>
              </a:rPr>
              <a:t>Annual Nurse Turnover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7"/>
          <p:cNvSpPr/>
          <p:nvPr/>
        </p:nvSpPr>
        <p:spPr>
          <a:xfrm rot="16200000">
            <a:off x="-1889640" y="3261600"/>
            <a:ext cx="4651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b0b0b"/>
                </a:solidFill>
                <a:latin typeface="Arial Narrow"/>
              </a:rPr>
              <a:t>% reporting positive teamwork clim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5" name="Group 8"/>
          <p:cNvGrpSpPr/>
          <p:nvPr/>
        </p:nvGrpSpPr>
        <p:grpSpPr>
          <a:xfrm>
            <a:off x="914400" y="4690800"/>
            <a:ext cx="8076960" cy="851400"/>
            <a:chOff x="914400" y="4690800"/>
            <a:chExt cx="8076960" cy="851400"/>
          </a:xfrm>
        </p:grpSpPr>
        <p:sp>
          <p:nvSpPr>
            <p:cNvPr id="1146" name="AutoShape 9"/>
            <p:cNvSpPr/>
            <p:nvPr/>
          </p:nvSpPr>
          <p:spPr>
            <a:xfrm flipV="1" rot="16200000">
              <a:off x="2129760" y="3752280"/>
              <a:ext cx="718920" cy="2594880"/>
            </a:xfrm>
            <a:prstGeom prst="flowChartOnlineStorage">
              <a:avLst/>
            </a:prstGeom>
            <a:gradFill rotWithShape="0">
              <a:gsLst>
                <a:gs pos="0">
                  <a:srgbClr val="761800"/>
                </a:gs>
                <a:gs pos="50000">
                  <a:srgbClr val="ff3300"/>
                </a:gs>
                <a:gs pos="100000">
                  <a:srgbClr val="76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AutoShape 10"/>
            <p:cNvSpPr/>
            <p:nvPr/>
          </p:nvSpPr>
          <p:spPr>
            <a:xfrm flipV="1" rot="16200000">
              <a:off x="4728960" y="3748320"/>
              <a:ext cx="718920" cy="2602800"/>
            </a:xfrm>
            <a:prstGeom prst="flowChartOnlineStorag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AutoShape 11"/>
            <p:cNvSpPr/>
            <p:nvPr/>
          </p:nvSpPr>
          <p:spPr>
            <a:xfrm flipV="1" rot="16200000">
              <a:off x="7331040" y="3749040"/>
              <a:ext cx="718920" cy="2601360"/>
            </a:xfrm>
            <a:prstGeom prst="flowChartOnlineStorage">
              <a:avLst/>
            </a:prstGeom>
            <a:gradFill rotWithShape="0">
              <a:gsLst>
                <a:gs pos="0">
                  <a:srgbClr val="185e18"/>
                </a:gs>
                <a:gs pos="50000">
                  <a:srgbClr val="33cc33"/>
                </a:gs>
                <a:gs pos="100000">
                  <a:srgbClr val="185e18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Text Box 12"/>
            <p:cNvSpPr/>
            <p:nvPr/>
          </p:nvSpPr>
          <p:spPr>
            <a:xfrm>
              <a:off x="914400" y="4838400"/>
              <a:ext cx="287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High Turnover  16.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Text Box 13"/>
            <p:cNvSpPr/>
            <p:nvPr/>
          </p:nvSpPr>
          <p:spPr>
            <a:xfrm>
              <a:off x="6297480" y="4838400"/>
              <a:ext cx="254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    </a:t>
              </a: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Low Turnover 7.9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Text Box 14"/>
            <p:cNvSpPr/>
            <p:nvPr/>
          </p:nvSpPr>
          <p:spPr>
            <a:xfrm>
              <a:off x="3566520" y="4838400"/>
              <a:ext cx="268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Mid Turnover 10.8%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asonable man adapts himself to the world; the unreasonable one persists in trying to adapt the world to himself. Therefore all progress depends on the unreasonable man.”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n and Superm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orge Bernard Sha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185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The Comprehensive Unit-based Safety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377640" y="1904760"/>
            <a:ext cx="8461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Comprehensive Unit-based Safety Program (CUSP): A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terven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ar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take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prov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fet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ltur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hris Goeschel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D MPA MPS RN FAA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or, Strategic Development and Research Initiatives 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mstrong Institute for Patient Safety and Qual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Johns Hopkins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Tahoma"/>
              </a:rPr>
              <a:t>Ideas for Ensuring Patients Receiv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Tahoma"/>
              </a:rPr>
              <a:t>the Interventions: the 4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Engage: Stories, show baselin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Educate staff on evide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Execu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Standardize: Create line car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Create independent checks: Create BSI checklis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Empower nurses to stop takeoff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Learn from mistak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Evalua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Feedback performan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View infections as def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nsure Patients Reliably Receiv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8" name=""/>
          <p:cNvGraphicFramePr/>
          <p:nvPr/>
        </p:nvGraphicFramePr>
        <p:xfrm>
          <a:off x="304920" y="1905120"/>
          <a:ext cx="8534160" cy="3922560"/>
        </p:xfrm>
        <a:graphic>
          <a:graphicData uri="http://schemas.openxmlformats.org/drawingml/2006/table">
            <a:tbl>
              <a:tblPr/>
              <a:tblGrid>
                <a:gridCol w="2009520"/>
                <a:gridCol w="2175120"/>
                <a:gridCol w="2174760"/>
                <a:gridCol w="2174760"/>
              </a:tblGrid>
              <a:tr h="460080">
                <a:tc rowSpan="2">
                  <a:txBody>
                    <a:bodyPr lIns="4680" rIns="468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80" rIns="468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enio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80" rIns="468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ea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taff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leader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80" rIns="468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leader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520">
                <a:tc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Engag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 gridSpan="3">
                  <a:txBody>
                    <a:bodyPr lIns="4212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How does this make the world a better place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6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520">
                <a:tc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Educat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 gridSpan="3">
                  <a:txBody>
                    <a:bodyPr lIns="4212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What do we need to do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6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560">
                <a:tc rowSpan="2"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Execut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 gridSpan="3">
                  <a:txBody>
                    <a:bodyPr lIns="4212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What keeps me from doing i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6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212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How can we do it with my resources and culture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6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Evaluat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 gridSpan="3">
                  <a:txBody>
                    <a:bodyPr lIns="4212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How do we know we improved safety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6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59" name=""/>
          <p:cNvSpPr txBox="1"/>
          <p:nvPr/>
        </p:nvSpPr>
        <p:spPr>
          <a:xfrm>
            <a:off x="3504960" y="59130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4061"/>
                </a:solidFill>
                <a:latin typeface="Arial"/>
                <a:ea typeface="ＭＳ Ｐゴシック"/>
              </a:rPr>
              <a:t>Pronovost: Health Services Research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Slide Number Placeholder 6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CAF8-49A8-413D-A6D4-45FC9EDBC9B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Down Arrow 27"/>
          <p:cNvSpPr/>
          <p:nvPr/>
        </p:nvSpPr>
        <p:spPr>
          <a:xfrm>
            <a:off x="2362320" y="1066680"/>
            <a:ext cx="53316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Down Arrow 28"/>
          <p:cNvSpPr/>
          <p:nvPr/>
        </p:nvSpPr>
        <p:spPr>
          <a:xfrm flipV="1" rot="10800000">
            <a:off x="6400800" y="1065600"/>
            <a:ext cx="53352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Down Arrow 31"/>
          <p:cNvSpPr/>
          <p:nvPr/>
        </p:nvSpPr>
        <p:spPr>
          <a:xfrm flipV="1" rot="10800000">
            <a:off x="2057400" y="5715000"/>
            <a:ext cx="53352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Down Arrow 32"/>
          <p:cNvSpPr/>
          <p:nvPr/>
        </p:nvSpPr>
        <p:spPr>
          <a:xfrm flipV="1" rot="10800000">
            <a:off x="6324480" y="5637600"/>
            <a:ext cx="6098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03356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SimSun"/>
              </a:rPr>
              <a:t>Mea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609120" y="1447920"/>
            <a:ext cx="3429000" cy="914400"/>
          </a:xfrm>
          <a:prstGeom prst="rect">
            <a:avLst/>
          </a:prstGeom>
          <a:solidFill>
            <a:srgbClr val="9bbb59"/>
          </a:solidFill>
          <a:ln w="255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Have We Created a Safe Cultu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How Do We Know We Lear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From Mistak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533520" y="2514240"/>
            <a:ext cx="3504960" cy="1219320"/>
          </a:xfrm>
          <a:prstGeom prst="rect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CUS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Comprehensive Unit-based Safety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533520" y="3733560"/>
            <a:ext cx="3504960" cy="190476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ducate staff on science of safe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dentify defe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ssign executive to adopt un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arn from one defect per quar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lement teamwork tool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4952880" y="1447920"/>
            <a:ext cx="3810240" cy="914400"/>
          </a:xfrm>
          <a:prstGeom prst="rect">
            <a:avLst/>
          </a:prstGeom>
          <a:solidFill>
            <a:srgbClr val="9bbb59"/>
          </a:solidFill>
          <a:ln w="255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How Often Do We Har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Are Patient Outcom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Improving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4952880" y="2590560"/>
            <a:ext cx="373392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  <a:ea typeface="SimSun"/>
              </a:rPr>
              <a:t>(TRiP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  <a:ea typeface="SimSun"/>
              </a:rPr>
              <a:t>Translating Evidence Into Practi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4952880" y="3733560"/>
            <a:ext cx="3733920" cy="190476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mmarize the evidence in a checkl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dentify local barriers to implemen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e  perform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sure all patients get the evid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990720" y="6081840"/>
            <a:ext cx="7619760" cy="699840"/>
          </a:xfrm>
          <a:prstGeom prst="rect">
            <a:avLst/>
          </a:prstGeom>
          <a:solidFill>
            <a:srgbClr val="9bbb59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SimSun"/>
              </a:rPr>
              <a:t>Impro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33520" y="185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What is CUS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609480" y="21337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Comprehensive Unit-based Safety Progr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An intervention to learn from mistakes and improve safety cultu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www.onthecuspstophai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Line 9"/>
          <p:cNvSpPr/>
          <p:nvPr/>
        </p:nvSpPr>
        <p:spPr>
          <a:xfrm flipH="1">
            <a:off x="2819520" y="1905120"/>
            <a:ext cx="380880" cy="761760"/>
          </a:xfrm>
          <a:prstGeom prst="line">
            <a:avLst/>
          </a:prstGeom>
          <a:ln w="255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10"/>
          <p:cNvSpPr/>
          <p:nvPr/>
        </p:nvSpPr>
        <p:spPr>
          <a:xfrm>
            <a:off x="5638680" y="1905120"/>
            <a:ext cx="533520" cy="761760"/>
          </a:xfrm>
          <a:prstGeom prst="line">
            <a:avLst/>
          </a:prstGeom>
          <a:ln w="255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11"/>
          <p:cNvSpPr/>
          <p:nvPr/>
        </p:nvSpPr>
        <p:spPr>
          <a:xfrm>
            <a:off x="1371600" y="35053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4800240" y="2666880"/>
            <a:ext cx="3886200" cy="3733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BSI-Reduction Protoc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-Best-evidence supplies, organization of suppl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12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Ensuring all patients receive the best practic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12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Checklist to ensure consistent application of eviden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/>
          </p:nvPr>
        </p:nvSpPr>
        <p:spPr>
          <a:xfrm>
            <a:off x="533520" y="2666880"/>
            <a:ext cx="4038480" cy="3733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mprehensive Unit-based Safety Program (CUS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-Improve or reinforce good cross-disciplinary communication and teamwor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-Enhance coordination of ca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-Address overall patient safe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-Work towards healthy unit cultu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title"/>
          </p:nvPr>
        </p:nvSpPr>
        <p:spPr>
          <a:xfrm>
            <a:off x="1170000" y="533520"/>
            <a:ext cx="66024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On the CUSP: Stop BSI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nterv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1" name="Group 1"/>
          <p:cNvGrpSpPr/>
          <p:nvPr/>
        </p:nvGrpSpPr>
        <p:grpSpPr>
          <a:xfrm>
            <a:off x="-15840" y="0"/>
            <a:ext cx="9159840" cy="6994080"/>
            <a:chOff x="-15840" y="0"/>
            <a:chExt cx="9159840" cy="6994080"/>
          </a:xfrm>
        </p:grpSpPr>
        <p:pic>
          <p:nvPicPr>
            <p:cNvPr id="1182" name="Picture 3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9159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3" name="TextBox 2"/>
            <p:cNvSpPr/>
            <p:nvPr/>
          </p:nvSpPr>
          <p:spPr>
            <a:xfrm>
              <a:off x="75960" y="6473880"/>
              <a:ext cx="3657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0253f"/>
                  </a:solidFill>
                  <a:latin typeface="Arial"/>
                  <a:ea typeface="Arial"/>
                </a:rPr>
                <a:t>Pronovost, Berenholtz, Needham BMJ 2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Today’s Spea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Marge Cannon, Medical Officer, C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Minet Javellana, Health Insurance Specialist, C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Barb Edson, Vice President of Clinical Quality, HR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Chris George, Director of National Projects, MHA Keystone Cen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Chris Goeschel, Director of Strategic Development and Research Initiatives at Armstrong Institute for Patient Safety and Quality, John Hopkins Un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Mary Jo Skiba, Project Manager QI/Research, Alpena Regional Medical Cen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afety Score Car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Keystone ICU Safety Dashbo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5" name=""/>
          <p:cNvGraphicFramePr/>
          <p:nvPr/>
        </p:nvGraphicFramePr>
        <p:xfrm>
          <a:off x="457200" y="1828800"/>
          <a:ext cx="7772400" cy="2889360"/>
        </p:xfrm>
        <a:graphic>
          <a:graphicData uri="http://schemas.openxmlformats.org/drawingml/2006/table">
            <a:tbl>
              <a:tblPr/>
              <a:tblGrid>
                <a:gridCol w="4984920"/>
                <a:gridCol w="1450800"/>
                <a:gridCol w="1336680"/>
              </a:tblGrid>
              <a:tr h="418680">
                <a:tc>
                  <a:txBody>
                    <a:bodyPr lIns="7560" rIns="756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418680">
                <a:tc>
                  <a:txBody>
                    <a:bodyPr lIns="68400" rIns="756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ow often did we harm (BSI)?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median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/10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19040">
                <a:tc>
                  <a:txBody>
                    <a:bodyPr lIns="68400" rIns="756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ow often do we do what we should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18680">
                <a:tc>
                  <a:txBody>
                    <a:bodyPr lIns="68400" rIns="756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ow often did we learn from mistakes?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0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0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26680">
                <a:tc>
                  <a:txBody>
                    <a:bodyPr lIns="68400" rIns="756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ave we created a safe culture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hat areas need improvement?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344520">
                <a:tc>
                  <a:txBody>
                    <a:bodyPr lIns="7560" rIns="756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         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afety climate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343440">
                <a:tc>
                  <a:txBody>
                    <a:bodyPr lIns="7560" rIns="756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         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eamwork climate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186" name=""/>
          <p:cNvSpPr txBox="1"/>
          <p:nvPr/>
        </p:nvSpPr>
        <p:spPr>
          <a:xfrm>
            <a:off x="2384280" y="5280120"/>
            <a:ext cx="5060520" cy="4125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ctr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* CUSP is intervention to improve the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Pre CUSP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Tahoma"/>
              </a:rPr>
              <a:t>Create a CUSP tea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ahoma"/>
              </a:rPr>
              <a:t>Nurses, physician, support staff, infection prevention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ahoma"/>
              </a:rPr>
              <a:t>Assign a team lead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Tahoma"/>
              </a:rPr>
              <a:t>Measure culture in the uni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Tahoma"/>
              </a:rPr>
              <a:t>Work with hospital quality leader or hospital management to have a senior executive assigned to CUSP tea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s of CU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457200" y="18288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-493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Educate staff on science of safety </a:t>
            </a:r>
            <a:br>
              <a:rPr sz="2500"/>
            </a:br>
            <a:r>
              <a:rPr b="0" lang="en-US" sz="2500" spc="-1" strike="noStrike" u="sng">
                <a:solidFill>
                  <a:srgbClr val="558ed5"/>
                </a:solidFill>
                <a:uFillTx/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dentify defects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Assign executive to adopt unit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Learn from one defect per quarter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mplement teamwork tool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802440" indent="-432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802440" indent="-432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75960" y="6552720"/>
            <a:ext cx="515124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novost J,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Patient Safety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, 200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185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1: Science of Saf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ahoma"/>
              </a:rPr>
              <a:t>Understand system determines perform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ahoma"/>
              </a:rPr>
              <a:t>Use strategies to improve system perform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Standard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Create independent checks for key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Learn from mistak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ahoma"/>
              </a:rPr>
              <a:t>Apply strategies to both technical work and team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ahoma"/>
              </a:rPr>
              <a:t>Recognize teams make wise decisions with diverse and independent input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185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2: Identify De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Tahoma"/>
              </a:rPr>
              <a:t>Administer the staff safety assessment and ask staff, “How will the next patient be harmed?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Tahoma"/>
              </a:rPr>
              <a:t>Review error reports, liability claims, sentinel events,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Tahoma"/>
              </a:rPr>
              <a:t>or M and M conferen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Prioritize De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457200" y="19047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Tahoma"/>
              </a:rPr>
              <a:t>List all defec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Tahoma"/>
              </a:rPr>
              <a:t>Discuss with staff what are the three greatest risks and what you should work on fir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3: Executive Partne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Executive should become a member of unit t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Executive should meet monthly with unit t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Executive should –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Review def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Ensure unit team has resources to reduce ris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Hold team accountable for improving risks and central line-associated blood steam infection ra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4: Learning from Mistak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685800" y="1752120"/>
            <a:ext cx="9067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What happened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Why did it happen (system lenses)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What could you do to reduce risk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How do you know risk was reduced 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Create policy,  process, or proced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Ensure staff know poli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Evaluate if policy is used correc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60480" y="6552720"/>
            <a:ext cx="40543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novost 2005 JCJQ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4 cont</a:t>
            </a:r>
            <a:r>
              <a:rPr b="0" lang="ja-JP" sz="4400" spc="-1" strike="noStrike">
                <a:solidFill>
                  <a:srgbClr val="ffffff"/>
                </a:solidFill>
                <a:latin typeface="Calibri"/>
                <a:ea typeface="Tahoma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d: Identify Most Important Contributing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609480" y="19810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Rate each contributing fact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mportance of the problem and contributing fac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n causing the accident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n future acciden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4 cont</a:t>
            </a:r>
            <a:r>
              <a:rPr b="0" lang="ja-JP" sz="4400" spc="-1" strike="noStrike">
                <a:solidFill>
                  <a:srgbClr val="ffffff"/>
                </a:solidFill>
                <a:latin typeface="Calibri"/>
                <a:ea typeface="Tahoma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d: Identify Most Effective Interven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4572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Rate each interven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39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How well the intervention solves the problem or mitigates the contributing factors for the accid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39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Rate the team belief that the intervention will be implemented and executed as intend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Working Together – The Player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304560" y="18284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Centers for Medicare &amp; Medicaid Services Quality Improvement Organization (CMS QI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Agency for Health Care Research and Quality (AHRQ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76120" indent="-276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On the CUSP: Stop HAI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www.onthecuspstophai.or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76120" indent="-276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CLABSI National Project Tea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76120" indent="-2761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Michigan Health &amp; Hospital Association - Michigan  Keystone Center for Patient Safety &amp; Quality (MHA Keyston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76120" indent="-2761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ahoma"/>
              </a:rPr>
              <a:t>Armstrong Institute for Patient Safety and Quality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Johns Hopkins University (JHU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76120" indent="-2761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Health Research &amp; Educational Trust (HRET), research affiliate of the American Hospital Associ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8" name="Picture 4" descr=" Image of four figures each holding a puzzle piece in place making the puzzle"/>
          <p:cNvPicPr/>
          <p:nvPr/>
        </p:nvPicPr>
        <p:blipFill>
          <a:blip r:embed="rId2"/>
          <a:stretch/>
        </p:blipFill>
        <p:spPr>
          <a:xfrm>
            <a:off x="7315200" y="2209680"/>
            <a:ext cx="1547640" cy="154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4 cont</a:t>
            </a:r>
            <a:r>
              <a:rPr b="0" lang="ja-JP" sz="4400" spc="-1" strike="noStrike">
                <a:solidFill>
                  <a:srgbClr val="ffffff"/>
                </a:solidFill>
                <a:latin typeface="Calibri"/>
                <a:ea typeface="Tahoma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d: Evaluate Whether Risks Were Reduc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295280" y="205740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Did you create a policy or procedu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Do staff know about the polic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Are staff using it as intend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Do staff believe risks have been reduc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5: Teamwork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1371240" y="175212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Call li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Daily go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Morning brief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Shadow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Culture check u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-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novost JCC, JCJQ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5 cont</a:t>
            </a:r>
            <a:r>
              <a:rPr b="0" lang="ja-JP" sz="4400" spc="-1" strike="noStrike">
                <a:solidFill>
                  <a:srgbClr val="ffffff"/>
                </a:solidFill>
                <a:latin typeface="Calibri"/>
                <a:ea typeface="Tahoma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d: Call 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Ensure your unit</a:t>
            </a:r>
            <a:r>
              <a:rPr b="0" lang="en-US" sz="2500" spc="-1" strike="noStrike">
                <a:solidFill>
                  <a:srgbClr val="ff0000"/>
                </a:solidFill>
                <a:latin typeface="Calibri"/>
                <a:ea typeface="Tahom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has a process to identify which physician to page or call for each pati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Make sure call list is easily accessible and updat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5 cont</a:t>
            </a:r>
            <a:r>
              <a:rPr b="0" lang="ja-JP" sz="4400" spc="-1" strike="noStrike">
                <a:solidFill>
                  <a:srgbClr val="ffffff"/>
                </a:solidFill>
                <a:latin typeface="Calibri"/>
                <a:ea typeface="Tahoma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d: Morning Brief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457200" y="2057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Have a morning meeting with charge nurse and unit attending(s) about the unit-level plan for the da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Discuss work for the da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287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What happened during the ev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287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Who is being admitted and discharged to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287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What are potential risks during the day; how can we reduce these ri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5 cont</a:t>
            </a:r>
            <a:r>
              <a:rPr b="0" lang="ja-JP" sz="4400" spc="-1" strike="noStrike">
                <a:solidFill>
                  <a:srgbClr val="ffffff"/>
                </a:solidFill>
                <a:latin typeface="Calibri"/>
                <a:ea typeface="Tahoma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d: Shadow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457200" y="2133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Follow another type of clinician doing his or her job for between 2 and 4 hou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Have the shadower discuss with staff what he or she will do differently now that he or she has walked in another person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Tahoma"/>
              </a:rPr>
              <a:t>’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s sho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CUSP is a Continuous Eff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45720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Add science of safety education to orient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Learn from one defect per quarter; share or post lesson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mplement teamwork tools that best meet the unit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Tahoma"/>
              </a:rPr>
              <a:t>’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s need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Review details in the CUSP man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Action Items -- CU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Look over the CUSP manual with team member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Brainstorm potential hazards with team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Assess team composition with respect to CUSP element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Review pre-implementation checklist — where are you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Action 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304560" y="129492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Review content of Web site at </a:t>
            </a: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ea typeface="Tahoma"/>
                <a:hlinkClick r:id="rId1"/>
              </a:rPr>
              <a:t>www.onthecuspstophai.or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24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Toolki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24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Slidese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24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Manual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24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Project Management Checklist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Pre-Implementation Checklis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CEO/Senior Leader Checklis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Infection Preventionist Checklis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Pronovost P, Weast B, Rosenstein B, et al. Implementing and validating a comprehensive unit-based safety program. J Pat Safety. 2005; 1(1):33-40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Pronovost P, Berenholtz S, Dorman T,  et al. Improving communication in the ICU using daily goals. J Crit Care. 2003; 18(2):71-7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Pronovost PJ, Weast B, Bishop K, et al. Senior executive adopt-a-work unit: A model for safety improvement. Jt Comm J Qual Saf. 2004; 30(2):59-6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Thompson DA, Holzmueller CG, Cafeo CL, et al. A morning briefing: Setting the stage for a clinically and operationally good day. Jt Comm J Qual and Saf. 2005; 31(8):476-479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6" name="Picture 2" descr="Picture of a child, Josie King, playing in the sand "/>
          <p:cNvPicPr/>
          <p:nvPr/>
        </p:nvPicPr>
        <p:blipFill>
          <a:blip r:embed="rId1"/>
          <a:stretch/>
        </p:blipFill>
        <p:spPr>
          <a:xfrm>
            <a:off x="2252520" y="762120"/>
            <a:ext cx="4529160" cy="5553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762120" y="18288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Understand CUSP impact on saf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List CUSP compon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Describe how a hospital implemented CU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SP + CAUTI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cess and Pre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5333760" y="1599840"/>
            <a:ext cx="354636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ry Jo Skiba, RN BS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ject Manager QI/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Picture 14" descr="Image of Catheter Bag"/>
          <p:cNvPicPr/>
          <p:nvPr/>
        </p:nvPicPr>
        <p:blipFill>
          <a:blip r:embed="rId1"/>
          <a:stretch/>
        </p:blipFill>
        <p:spPr>
          <a:xfrm>
            <a:off x="1600200" y="2438280"/>
            <a:ext cx="5283360" cy="3962520"/>
          </a:xfrm>
          <a:prstGeom prst="rect">
            <a:avLst/>
          </a:prstGeom>
          <a:ln w="0">
            <a:noFill/>
          </a:ln>
        </p:spPr>
      </p:pic>
      <p:sp>
        <p:nvSpPr>
          <p:cNvPr id="1230" name="Slide Number Placeholder 5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69E4-BDE9-401D-89DE-BB226621E7C8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y CUSP interventions to CAUTI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barriers/identify steps to successful CAUTI project ini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CUSP to maintain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7F31-7EF6-46F4-8853-F509E8817ADB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ce of Safety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ucatio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e prior to CA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fety survey to identify at-risk depar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science of safety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lide Number Placeholder 5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3721-38F8-4460-9EDB-6B13519981B2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ject Plann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TI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wareness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colle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 start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 for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9" name="Picture 10" descr="Image of green stick figures in a circle surrounding a light bulb holding hands "/>
          <p:cNvPicPr/>
          <p:nvPr/>
        </p:nvPicPr>
        <p:blipFill>
          <a:blip r:embed="rId1"/>
          <a:srcRect l="6963" t="14626" r="6086" b="16065"/>
          <a:stretch/>
        </p:blipFill>
        <p:spPr>
          <a:xfrm>
            <a:off x="5562720" y="1600200"/>
            <a:ext cx="2819160" cy="182880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13" descr="Image of a construction site "/>
          <p:cNvPicPr/>
          <p:nvPr/>
        </p:nvPicPr>
        <p:blipFill>
          <a:blip r:embed="rId2"/>
          <a:stretch/>
        </p:blipFill>
        <p:spPr>
          <a:xfrm>
            <a:off x="5181480" y="3505320"/>
            <a:ext cx="3505320" cy="234000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3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879D-A324-4539-8486-FCBE402BD756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ject Plann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2400" indent="-302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tablish and engage CAUTI tea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volve frontline staff – Respect the wisd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ve a physician champ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charge nurses/staff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gage an executive lea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entify de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ew baseline data – CAUTI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ainstorm safety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termine the scope of your initial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  - Urinary catheter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ew, revise, consoli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policy in toolk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n’t re-create the whe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2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A44C-F9C2-47F1-A280-CA32F18D3AB6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roject Awarenes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76320" y="1599840"/>
            <a:ext cx="3047760" cy="5181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Microsoft Sans Serif"/>
                <a:ea typeface="ＭＳ Ｐゴシック"/>
              </a:rPr>
              <a:t>KEYSTONE H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0"/>
                </a:solidFill>
                <a:latin typeface="Microsoft Sans Serif"/>
                <a:ea typeface="ＭＳ Ｐゴシック"/>
              </a:rPr>
              <a:t>(Hospital Associated Infection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Microsoft Sans Serif"/>
                <a:ea typeface="ＭＳ Ｐゴシック"/>
              </a:rPr>
              <a:t>“</a:t>
            </a:r>
            <a:r>
              <a:rPr b="1" lang="en-US" sz="2800" spc="-1" strike="noStrike">
                <a:solidFill>
                  <a:srgbClr val="000080"/>
                </a:solidFill>
                <a:latin typeface="Microsoft Sans Serif"/>
                <a:ea typeface="ＭＳ Ｐゴシック"/>
              </a:rPr>
              <a:t>Bladder Bundle Projec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Microsoft Sans Serif"/>
                <a:ea typeface="ＭＳ Ｐゴシック"/>
              </a:rPr>
              <a:t>Preventing Catheter-Associated Urinary Tract Inf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3352320" y="2057040"/>
            <a:ext cx="5334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Hospital newslett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li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creen sav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8" name="Picture 2" descr="Cartoon image of a nurse with a patient laying in the bed "/>
          <p:cNvPicPr/>
          <p:nvPr/>
        </p:nvPicPr>
        <p:blipFill>
          <a:blip r:embed="rId1"/>
          <a:stretch/>
        </p:blipFill>
        <p:spPr>
          <a:xfrm>
            <a:off x="1523880" y="5181480"/>
            <a:ext cx="1451160" cy="1524240"/>
          </a:xfrm>
          <a:prstGeom prst="rect">
            <a:avLst/>
          </a:prstGeom>
          <a:ln w="0">
            <a:noFill/>
          </a:ln>
        </p:spPr>
      </p:pic>
      <p:sp>
        <p:nvSpPr>
          <p:cNvPr id="1249" name="Slide Number Placeholder 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67B7-394D-4688-BF10-CB29952AA3F8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ata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-1371960" y="1752120"/>
            <a:ext cx="57913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111400" indent="-282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11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ta coll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11400" indent="-282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11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ta forms – Add qualifiers specific to your hospi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11400" indent="-282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11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sure understanding of project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11400" indent="-282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11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 days week – Monday through Friday  (not weeken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11400" indent="-282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11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ta entry with Web-based program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211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Slide Number Placeholder 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867E-5F4B-4227-8032-10931AF31492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3" name="Picture 2" descr="Square box with text that reads   &#10;&#10;Indications:  Acute urinary retention or obstruction = 1&#10;Perioperative use in selected surgeries = 2&#10;Perineal  and sacral wounds in incontinent patients  = 3 &#10;Hospice / comfort/ palliative care = 4 &#10;Required immobilization for trauma or surgery  = 5&#10;Chronic indwelling urinary catheter on admission = 6&#10;Accurate measurement of urinary output in the critically ill patients = 7 &#10;Not indicated urinary catheters reasons:&#10;Urine output monitoring outside intensive care = 8 &#10;Incontinence without a sacral or perineal pressure score = 9 &#10;Prolonged postoperative use = 10 &#10;Others = 11 (include those transferred from intensive care, morbid obesity, immobility, confusion or dementia, and patient request) &#10;"/>
          <p:cNvPicPr/>
          <p:nvPr/>
        </p:nvPicPr>
        <p:blipFill>
          <a:blip r:embed="rId1"/>
          <a:stretch/>
        </p:blipFill>
        <p:spPr>
          <a:xfrm>
            <a:off x="4343400" y="1663560"/>
            <a:ext cx="441972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lanning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90680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entify Defects -- Plan Ahead to Prevent Roadbl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227160" y="2286000"/>
            <a:ext cx="40399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01920" indent="-27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will be 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920" indent="-27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will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920" indent="-27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ill we tra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920" indent="-27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will w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920" indent="-27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ill we do make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920" indent="-27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much ongoing training  or re-training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4644720" y="2285640"/>
            <a:ext cx="4041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will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ill w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will w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Slide Number Placeholder 6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8F1F-CBFB-4EB8-8F0C-21509FE443E8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ducate on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dac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TI face-to-face inservic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nursing/a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deline for prevention of CAUTI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ysician C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artment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  Demonstration of insertion compe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Slide Number Placeholder 3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7AD0-2A9A-479E-B979-65745C69E9E4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veloping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UTI Education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15228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7040" indent="-339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n’t re-create the wh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other hospitals’ PowerPoint slid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ltiple CAUTI toolk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/revise to 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Slide Number Placeholder 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6530-0647-42C0-B9EE-6A8C74FC58F6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ichigan CUSP Experien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129528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is George, RN 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or of National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higan Health &amp; Hospital Assoc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ystone Center for Patient Safety &amp; 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3" name="Picture 4" descr="Image of the horizon with text that reads Pure Michigan"/>
          <p:cNvPicPr/>
          <p:nvPr/>
        </p:nvPicPr>
        <p:blipFill>
          <a:blip r:embed="rId1"/>
          <a:stretch/>
        </p:blipFill>
        <p:spPr>
          <a:xfrm>
            <a:off x="3252960" y="4038480"/>
            <a:ext cx="2666880" cy="179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Tahoma"/>
              </a:rPr>
              <a:t>CAUTI 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228240" y="23623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ed the trai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aged frontline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7" name="Picture 5" descr="Who let the Bugs in! &#10;How bacterial invasion occurs. &#10;- Up the external surface of catheter UTI early after insertion ? lack of asepsis during insertion    &#10;- Up the internal surface of catheter opening a closed drainage system contaminants due to reflux Improper access for urine specimens &#10;- At the Drainage outlet. Improper drainage of the Foley bag &#10;"/>
          <p:cNvPicPr/>
          <p:nvPr/>
        </p:nvPicPr>
        <p:blipFill>
          <a:blip r:embed="rId1"/>
          <a:srcRect l="1683" t="1214" r="0" b="0"/>
          <a:stretch/>
        </p:blipFill>
        <p:spPr>
          <a:xfrm>
            <a:off x="4419720" y="1600200"/>
            <a:ext cx="3849480" cy="420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rinary Catheter Insertion Compet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veling manneq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 percent of aides and all nurse frequent inserters (ED, OR, WHU, IP rehab, IC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ant remediation and repeat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Slide Number Placeholder 3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D1EE-A4A0-4483-9513-4B2A1E826CFE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valuate - Learn from Defect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2895480" y="1600200"/>
            <a:ext cx="42674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67 Competenc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erage 15 min/staff me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1 aides, 126 nur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456840" y="28191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per clean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per glov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taminated fie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dn’t know needleles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th port for specimens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77DF-1DEB-4163-BF82-87BFE27E0C1B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ecute New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ment plan for compe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 field competency all aides within 2 months, supervised by 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ly hired aides trained by R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arly aide hands-on demo of compe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Slide Number Placeholder 3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4DFA-1006-4D69-A423-ED1B8EC109A0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ther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ths flagged with date of inse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ured to le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men collection for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n’t use first urine drained from cathe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 patients – Prior to collection, change catheter unless known change within 7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atients – If catheter in for 7 days must change prior to specimen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neal hygiene prior to c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hn Door” educational po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0" name="Picture 5" descr="Black and white image of a man sitting on a toilet reading a newspaper  "/>
          <p:cNvPicPr/>
          <p:nvPr/>
        </p:nvPicPr>
        <p:blipFill>
          <a:blip r:embed="rId1"/>
          <a:stretch/>
        </p:blipFill>
        <p:spPr>
          <a:xfrm>
            <a:off x="5638680" y="5486400"/>
            <a:ext cx="984240" cy="911160"/>
          </a:xfrm>
          <a:prstGeom prst="rect">
            <a:avLst/>
          </a:prstGeom>
          <a:ln w="0">
            <a:noFill/>
          </a:ln>
        </p:spPr>
      </p:pic>
      <p:sp>
        <p:nvSpPr>
          <p:cNvPr id="1281" name="Slide Number Placeholder 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CF39-F149-4B11-A56A-500A94DA423F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Outcome = Culture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11"/>
          <p:cNvSpPr/>
          <p:nvPr/>
        </p:nvSpPr>
        <p:spPr>
          <a:xfrm>
            <a:off x="228600" y="990720"/>
            <a:ext cx="19051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25 CAUTI’s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4" name="Picture 8" descr="Line graph showing&#10;&#10;3.25 CAUTI’s/Month&#10;&#10;down to &#10;&#10;1.17 CAUTI’s/Month&#10;&#10;"/>
          <p:cNvPicPr/>
          <p:nvPr/>
        </p:nvPicPr>
        <p:blipFill>
          <a:blip r:embed="rId1"/>
          <a:srcRect l="0" t="16669" r="0" b="0"/>
          <a:stretch/>
        </p:blipFill>
        <p:spPr>
          <a:xfrm>
            <a:off x="228600" y="1798560"/>
            <a:ext cx="8596440" cy="4191120"/>
          </a:xfrm>
          <a:prstGeom prst="rect">
            <a:avLst/>
          </a:prstGeom>
          <a:ln w="0">
            <a:noFill/>
          </a:ln>
        </p:spPr>
      </p:pic>
      <p:sp>
        <p:nvSpPr>
          <p:cNvPr id="1285" name="Text Box 12"/>
          <p:cNvSpPr/>
          <p:nvPr/>
        </p:nvSpPr>
        <p:spPr>
          <a:xfrm>
            <a:off x="7238880" y="1928880"/>
            <a:ext cx="17528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17 CAUTI’s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6" name="Picture 37" descr="Image of a woman with her hand stretched out in the air "/>
          <p:cNvPicPr/>
          <p:nvPr/>
        </p:nvPicPr>
        <p:blipFill>
          <a:blip r:embed="rId2"/>
          <a:srcRect l="22252" t="21755" r="0" b="0"/>
          <a:stretch/>
        </p:blipFill>
        <p:spPr>
          <a:xfrm>
            <a:off x="6248520" y="5867280"/>
            <a:ext cx="72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dentify Why Defects -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U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457200" y="1676520"/>
            <a:ext cx="77724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 competency plan not fo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was on EM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cath patrol not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alence rate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Group 1"/>
          <p:cNvGrpSpPr/>
          <p:nvPr/>
        </p:nvGrpSpPr>
        <p:grpSpPr>
          <a:xfrm>
            <a:off x="382680" y="3429000"/>
            <a:ext cx="7084800" cy="2971800"/>
            <a:chOff x="382680" y="3429000"/>
            <a:chExt cx="7084800" cy="2971800"/>
          </a:xfrm>
        </p:grpSpPr>
        <p:pic>
          <p:nvPicPr>
            <p:cNvPr id="1290" name="Chart 4" descr="Line Chart: No Indicated Reason for Catheter&#10;"/>
            <p:cNvPicPr/>
            <p:nvPr/>
          </p:nvPicPr>
          <p:blipFill>
            <a:blip r:embed="rId1"/>
            <a:stretch/>
          </p:blipFill>
          <p:spPr>
            <a:xfrm>
              <a:off x="382680" y="3498480"/>
              <a:ext cx="6792480" cy="290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1" name="Oval 6"/>
            <p:cNvSpPr/>
            <p:nvPr/>
          </p:nvSpPr>
          <p:spPr>
            <a:xfrm>
              <a:off x="6172920" y="3429000"/>
              <a:ext cx="1294560" cy="1821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Line 8"/>
          <p:cNvSpPr/>
          <p:nvPr/>
        </p:nvSpPr>
        <p:spPr>
          <a:xfrm flipV="1">
            <a:off x="3429000" y="914400"/>
            <a:ext cx="0" cy="325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Execute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New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457200" y="190512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nual competency aide and ED/OR nur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bedded competency orientation/annual skill eval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da item every leadership/staff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ge nurse daily cath pa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monthly staff and phys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Slide Number Placeholder 3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0FA5-5FF4-45FB-AD2D-BE0E48B96F61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Execute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New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cath necessity into EM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ider decrease size standard cath - #16 to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D data capture of cath neces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5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F481-1DA6-4D98-A084-1E7003E4345C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CUSP - Not a Linear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might have to fight the battle more than once in order to win it.”  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(Margaret Thatc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worry alone. CUSP is a team s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ot for the moon. Even if you miss, you'll land among the stars.”   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(Les Brow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mjskiba@agh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6873-BBEC-45CB-83C2-95E0583AD1A1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t is not just a simple checkli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Picture 2" descr="Image of an article titled Annals of medicine The check list by Atul Gawande"/>
          <p:cNvPicPr/>
          <p:nvPr/>
        </p:nvPicPr>
        <p:blipFill>
          <a:blip r:embed="rId1"/>
          <a:stretch/>
        </p:blipFill>
        <p:spPr>
          <a:xfrm>
            <a:off x="0" y="1676520"/>
            <a:ext cx="4589640" cy="426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16" name="Picture 3" descr="Image of an article titled the art of medicine Reality check for checklist "/>
          <p:cNvPicPr/>
          <p:nvPr/>
        </p:nvPicPr>
        <p:blipFill>
          <a:blip r:embed="rId2"/>
          <a:stretch/>
        </p:blipFill>
        <p:spPr>
          <a:xfrm>
            <a:off x="4027320" y="3657600"/>
            <a:ext cx="5116680" cy="29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l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ve you ever heard of the Comprehensive Unit-based Safety Program (CUSP) befo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have never heard of CU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have heard of CUSP, but have not implemented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have heard of CUSP, but have not successfully implemented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ve implemented CUSP successfully and actively using it in my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My senior executive regularly attends safety meetings on my unit, and can identify the top three safety issues that our safety team is currently working 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y rarely attends and is out of touch with our unit safety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mittently attends, and is somewhat aware of our unit safety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ends whenever possible, and is aware of our unit’s top three safety iss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) By ensuring that your senior executive is a part of your safety team, meeting monthly with your unit team, and holding your unit team accountable for improving risks surrounding a hospital inquired condition, my unit will be successfully utilizing the executive partnership component of CUSP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, not at 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s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, those are the main elements of the executive partnership component of CU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5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99D8-1653-4F15-8BB6-0B1FBC02A909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SP – The Michigan Experien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457200" y="19807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CUSP tied with a technical intervention, such as central line-associated blood stream infection prevention “checklist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404040"/>
                </a:solidFill>
                <a:latin typeface="Calibri"/>
              </a:rPr>
              <a:t>Knowing the difference between adaptive and technical challenges is one of the key tasks of leadership.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</a:rPr>
              <a:t>Ronald A. Heifetz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10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CU Safety Clima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0" name="Picture 7" descr="Chart titled Effect of CUSP on safety Climate that shows percent “Needs Improvement” (pre-CUSP 2004) vs. (Post CUSP 2006)"/>
          <p:cNvPicPr/>
          <p:nvPr/>
        </p:nvPicPr>
        <p:blipFill>
          <a:blip r:embed="rId1"/>
          <a:srcRect l="2479" t="2073" r="2393" b="2154"/>
          <a:stretch/>
        </p:blipFill>
        <p:spPr>
          <a:xfrm>
            <a:off x="1523880" y="1676520"/>
            <a:ext cx="6019920" cy="44258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 txBox="1"/>
          <p:nvPr/>
        </p:nvSpPr>
        <p:spPr>
          <a:xfrm>
            <a:off x="0" y="624852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“Needs Improvement” - Safety Climate Score  &lt;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796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lture / Climate and Outcom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3" name="Group 6"/>
          <p:cNvGrpSpPr/>
          <p:nvPr/>
        </p:nvGrpSpPr>
        <p:grpSpPr>
          <a:xfrm>
            <a:off x="304920" y="1600200"/>
            <a:ext cx="8229600" cy="4495680"/>
            <a:chOff x="304920" y="1600200"/>
            <a:chExt cx="8229600" cy="4495680"/>
          </a:xfrm>
        </p:grpSpPr>
        <p:pic>
          <p:nvPicPr>
            <p:cNvPr id="1124" name="AutoShape 8" descr=""/>
            <p:cNvPicPr/>
            <p:nvPr/>
          </p:nvPicPr>
          <p:blipFill>
            <a:blip r:embed="rId1"/>
            <a:stretch/>
          </p:blipFill>
          <p:spPr>
            <a:xfrm>
              <a:off x="987480" y="5547960"/>
              <a:ext cx="2450520" cy="5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5" name="AutoShape 8" descr=""/>
            <p:cNvPicPr/>
            <p:nvPr/>
          </p:nvPicPr>
          <p:blipFill>
            <a:blip r:embed="rId2"/>
            <a:stretch/>
          </p:blipFill>
          <p:spPr>
            <a:xfrm>
              <a:off x="3426120" y="5554080"/>
              <a:ext cx="2298240" cy="54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AutoShape 8" descr=""/>
            <p:cNvPicPr/>
            <p:nvPr/>
          </p:nvPicPr>
          <p:blipFill>
            <a:blip r:embed="rId3"/>
            <a:stretch/>
          </p:blipFill>
          <p:spPr>
            <a:xfrm>
              <a:off x="5407200" y="5547960"/>
              <a:ext cx="2298240" cy="5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Object 3" descr="Graph that shows % of Respondents Within An ICU Reporting Good Teamwork Climate, No BSI = 5 months or more w/ zero with the caption The strongest predictor of clinical excellence: caregivers feel comfortable speaking up if they perceive a problem with patient care in the middle of the graph. "/>
            <p:cNvPicPr/>
            <p:nvPr/>
          </p:nvPicPr>
          <p:blipFill>
            <a:blip r:embed="rId4"/>
            <a:stretch/>
          </p:blipFill>
          <p:spPr>
            <a:xfrm>
              <a:off x="304920" y="1600200"/>
              <a:ext cx="8229600" cy="412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8" name="Rounded Rectangle 10"/>
            <p:cNvGrpSpPr/>
            <p:nvPr/>
          </p:nvGrpSpPr>
          <p:grpSpPr>
            <a:xfrm>
              <a:off x="2584800" y="2205720"/>
              <a:ext cx="3822120" cy="620640"/>
              <a:chOff x="2584800" y="2205720"/>
              <a:chExt cx="3822120" cy="620640"/>
            </a:xfrm>
          </p:grpSpPr>
          <p:pic>
            <p:nvPicPr>
              <p:cNvPr id="1129" name="Rounded Rectangl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2584800" y="2205720"/>
                <a:ext cx="382212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0" name=""/>
              <p:cNvSpPr/>
              <p:nvPr/>
            </p:nvSpPr>
            <p:spPr>
              <a:xfrm>
                <a:off x="2620440" y="2238480"/>
                <a:ext cx="37504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No BSI = 5 months or more w/ zer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Rounded Rectangular Callout 16"/>
            <p:cNvGrpSpPr/>
            <p:nvPr/>
          </p:nvGrpSpPr>
          <p:grpSpPr>
            <a:xfrm>
              <a:off x="2225160" y="3447720"/>
              <a:ext cx="5010840" cy="2075760"/>
              <a:chOff x="2225160" y="3447720"/>
              <a:chExt cx="5010840" cy="2075760"/>
            </a:xfrm>
          </p:grpSpPr>
          <p:pic>
            <p:nvPicPr>
              <p:cNvPr id="1132" name="Rounded Rectangular Callout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2225160" y="3447720"/>
                <a:ext cx="5010840" cy="207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3" name=""/>
              <p:cNvSpPr/>
              <p:nvPr/>
            </p:nvSpPr>
            <p:spPr>
              <a:xfrm>
                <a:off x="2346480" y="3561840"/>
                <a:ext cx="4300560" cy="10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rebuchet MS"/>
                  </a:rPr>
                  <a:t>The strongest predictor of clinical excellence: Caregivers feel comfortable speaking up if they perceive a problem with patient c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4" name=""/>
          <p:cNvSpPr txBox="1"/>
          <p:nvPr/>
        </p:nvSpPr>
        <p:spPr>
          <a:xfrm>
            <a:off x="3428640" y="65527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Attribution: J. Bryan Sext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9:33:12Z</dcterms:created>
  <dc:creator>Heon-Jae Jeong, MD, MPH, MBA</dc:creator>
  <dc:description/>
  <dc:language>en-US</dc:language>
  <cp:lastModifiedBy>Karen Fleming-Michael</cp:lastModifiedBy>
  <dcterms:modified xsi:type="dcterms:W3CDTF">2013-01-10T15:54:30Z</dcterms:modified>
  <cp:revision>509</cp:revision>
  <dc:subject/>
  <dc:title>Project Report - Lean Sig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Id">
    <vt:lpwstr>0x010100C9DD924C0397EB4AA26B65D1B8E62784</vt:lpwstr>
  </property>
  <property fmtid="{D5CDD505-2E9C-101B-9397-08002B2CF9AE}" pid="6" name="Keywords">
    <vt:lpwstr/>
  </property>
  <property fmtid="{D5CDD505-2E9C-101B-9397-08002B2CF9AE}" pid="7" name="Slides">
    <vt:lpwstr>25</vt:lpwstr>
  </property>
  <property fmtid="{D5CDD505-2E9C-101B-9397-08002B2CF9AE}" pid="8" name="Subject">
    <vt:lpwstr/>
  </property>
  <property fmtid="{D5CDD505-2E9C-101B-9397-08002B2CF9AE}" pid="9" name="_Author">
    <vt:lpwstr>Heon-Jae Jeong, MD, MPH, MBA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