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3.wmf" ContentType="image/x-wmf"/>
  <Override PartName="/ppt/media/image18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  <p:sldId id="278" r:id="rId50"/>
    <p:sldId id="279" r:id="rId51"/>
    <p:sldId id="280" r:id="rId52"/>
    <p:sldId id="281" r:id="rId53"/>
    <p:sldId id="282" r:id="rId54"/>
    <p:sldId id="283" r:id="rId55"/>
    <p:sldId id="284" r:id="rId56"/>
    <p:sldId id="285" r:id="rId57"/>
    <p:sldId id="286" r:id="rId58"/>
    <p:sldId id="287" r:id="rId59"/>
    <p:sldId id="288" r:id="rId60"/>
    <p:sldId id="289" r:id="rId61"/>
    <p:sldId id="290" r:id="rId62"/>
    <p:sldId id="291" r:id="rId63"/>
    <p:sldId id="292" r:id="rId64"/>
    <p:sldId id="293" r:id="rId65"/>
    <p:sldId id="294" r:id="rId66"/>
    <p:sldId id="295" r:id="rId67"/>
    <p:sldId id="296" r:id="rId68"/>
    <p:sldId id="297" r:id="rId69"/>
    <p:sldId id="298" r:id="rId70"/>
    <p:sldId id="299" r:id="rId71"/>
    <p:sldId id="300" r:id="rId72"/>
    <p:sldId id="301" r:id="rId73"/>
    <p:sldId id="302" r:id="rId74"/>
    <p:sldId id="303" r:id="rId75"/>
    <p:sldId id="304" r:id="rId76"/>
    <p:sldId id="305" r:id="rId77"/>
    <p:sldId id="306" r:id="rId78"/>
    <p:sldId id="307" r:id="rId79"/>
    <p:sldId id="308" r:id="rId80"/>
    <p:sldId id="309" r:id="rId81"/>
    <p:sldId id="310" r:id="rId82"/>
    <p:sldId id="311" r:id="rId83"/>
    <p:sldId id="312" r:id="rId84"/>
    <p:sldId id="313" r:id="rId85"/>
    <p:sldId id="314" r:id="rId86"/>
    <p:sldId id="315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slide" Target="slides/slide23.xml"/><Relationship Id="rId51" Type="http://schemas.openxmlformats.org/officeDocument/2006/relationships/slide" Target="slides/slide24.xml"/><Relationship Id="rId52" Type="http://schemas.openxmlformats.org/officeDocument/2006/relationships/slide" Target="slides/slide25.xml"/><Relationship Id="rId53" Type="http://schemas.openxmlformats.org/officeDocument/2006/relationships/slide" Target="slides/slide26.xml"/><Relationship Id="rId54" Type="http://schemas.openxmlformats.org/officeDocument/2006/relationships/slide" Target="slides/slide27.xml"/><Relationship Id="rId55" Type="http://schemas.openxmlformats.org/officeDocument/2006/relationships/slide" Target="slides/slide28.xml"/><Relationship Id="rId56" Type="http://schemas.openxmlformats.org/officeDocument/2006/relationships/slide" Target="slides/slide29.xml"/><Relationship Id="rId57" Type="http://schemas.openxmlformats.org/officeDocument/2006/relationships/slide" Target="slides/slide30.xml"/><Relationship Id="rId58" Type="http://schemas.openxmlformats.org/officeDocument/2006/relationships/slide" Target="slides/slide31.xml"/><Relationship Id="rId59" Type="http://schemas.openxmlformats.org/officeDocument/2006/relationships/slide" Target="slides/slide32.xml"/><Relationship Id="rId60" Type="http://schemas.openxmlformats.org/officeDocument/2006/relationships/slide" Target="slides/slide33.xml"/><Relationship Id="rId61" Type="http://schemas.openxmlformats.org/officeDocument/2006/relationships/slide" Target="slides/slide34.xml"/><Relationship Id="rId62" Type="http://schemas.openxmlformats.org/officeDocument/2006/relationships/slide" Target="slides/slide35.xml"/><Relationship Id="rId63" Type="http://schemas.openxmlformats.org/officeDocument/2006/relationships/slide" Target="slides/slide36.xml"/><Relationship Id="rId64" Type="http://schemas.openxmlformats.org/officeDocument/2006/relationships/slide" Target="slides/slide37.xml"/><Relationship Id="rId65" Type="http://schemas.openxmlformats.org/officeDocument/2006/relationships/slide" Target="slides/slide38.xml"/><Relationship Id="rId66" Type="http://schemas.openxmlformats.org/officeDocument/2006/relationships/slide" Target="slides/slide39.xml"/><Relationship Id="rId67" Type="http://schemas.openxmlformats.org/officeDocument/2006/relationships/slide" Target="slides/slide40.xml"/><Relationship Id="rId68" Type="http://schemas.openxmlformats.org/officeDocument/2006/relationships/slide" Target="slides/slide41.xml"/><Relationship Id="rId69" Type="http://schemas.openxmlformats.org/officeDocument/2006/relationships/slide" Target="slides/slide42.xml"/><Relationship Id="rId70" Type="http://schemas.openxmlformats.org/officeDocument/2006/relationships/slide" Target="slides/slide43.xml"/><Relationship Id="rId71" Type="http://schemas.openxmlformats.org/officeDocument/2006/relationships/slide" Target="slides/slide44.xml"/><Relationship Id="rId72" Type="http://schemas.openxmlformats.org/officeDocument/2006/relationships/slide" Target="slides/slide45.xml"/><Relationship Id="rId73" Type="http://schemas.openxmlformats.org/officeDocument/2006/relationships/slide" Target="slides/slide46.xml"/><Relationship Id="rId74" Type="http://schemas.openxmlformats.org/officeDocument/2006/relationships/slide" Target="slides/slide47.xml"/><Relationship Id="rId75" Type="http://schemas.openxmlformats.org/officeDocument/2006/relationships/slide" Target="slides/slide48.xml"/><Relationship Id="rId76" Type="http://schemas.openxmlformats.org/officeDocument/2006/relationships/slide" Target="slides/slide49.xml"/><Relationship Id="rId77" Type="http://schemas.openxmlformats.org/officeDocument/2006/relationships/slide" Target="slides/slide50.xml"/><Relationship Id="rId78" Type="http://schemas.openxmlformats.org/officeDocument/2006/relationships/slide" Target="slides/slide51.xml"/><Relationship Id="rId79" Type="http://schemas.openxmlformats.org/officeDocument/2006/relationships/slide" Target="slides/slide52.xml"/><Relationship Id="rId80" Type="http://schemas.openxmlformats.org/officeDocument/2006/relationships/slide" Target="slides/slide53.xml"/><Relationship Id="rId81" Type="http://schemas.openxmlformats.org/officeDocument/2006/relationships/slide" Target="slides/slide54.xml"/><Relationship Id="rId82" Type="http://schemas.openxmlformats.org/officeDocument/2006/relationships/slide" Target="slides/slide55.xml"/><Relationship Id="rId83" Type="http://schemas.openxmlformats.org/officeDocument/2006/relationships/slide" Target="slides/slide56.xml"/><Relationship Id="rId84" Type="http://schemas.openxmlformats.org/officeDocument/2006/relationships/slide" Target="slides/slide57.xml"/><Relationship Id="rId85" Type="http://schemas.openxmlformats.org/officeDocument/2006/relationships/slide" Target="slides/slide58.xml"/><Relationship Id="rId86" Type="http://schemas.openxmlformats.org/officeDocument/2006/relationships/slide" Target="slides/slide59.xml"/><Relationship Id="rId87" Type="http://schemas.openxmlformats.org/officeDocument/2006/relationships/slide" Target="slides/slide60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9266-1DB0-4B8D-8F03-4F39392F9E5D}" type="datetime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5939-04C7-4532-B506-D9B6CD9F62D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B436-9C11-453F-9FDA-E39852E07C7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8553-14FE-4FD3-9F84-B672F8DB9F2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6963-F9DE-4647-A8D1-E5936CED7F5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AEE7-9034-46C5-845D-F6EE34A1DA3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446E-D2B7-44E8-A0B2-9D44BDB4A74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3278-5BD9-416C-ACFB-BD82A11E0F6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6838-FDF2-4318-91C1-65FDB244640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2440-E7AD-4969-A546-68AF84605D3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5AA1-805C-4050-9203-BE7BDFA3205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2CF1-679D-493B-9AC5-B21B2716ADD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3D0D-4A0A-41E2-A17B-0BC9785CB91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CECF-1E30-4160-A2DB-E77F4AA0C61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9254-199F-484B-89F2-A830EEC7857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468D-5812-42DE-AEA8-007A6286FC8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7F27-73BC-41B1-ADCA-11CB90D939B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AF5D-FD6A-40FA-BF63-39FA2EDEBF3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2D7F-777E-48F0-B6D3-0E49A3C1487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2B93-95B5-4022-A92E-C9A53DCE26C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FFCDD-71A6-43D7-AC07-D521ABD6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A447F-246D-46A3-94FC-FAE37EDF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1F96C-EFBE-4E3D-8E1B-87FD4465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7BE92-A87E-46EA-8891-18EEC903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BC65F-8F92-4DD3-A058-1B39638A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2EB21-D7B1-43C3-BA4F-F055EEEE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3278B-BA41-4F71-9203-D183B2BA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F13E0-6C60-49F9-A0EA-A0E0D6E9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1E8BD-47E8-42D6-B616-D0855685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A6D0F-D83F-42C9-A8B5-20A7B653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000F2-30D3-4FE5-A0A4-FFE1C15F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3BC97-19E6-4694-BF69-BDABFEB1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AF11B-D999-42AA-8112-50393858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DD1C9-B773-4035-8B20-D7BB5B7E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D808C-3F02-45CF-8205-96ABFE30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D869F-7532-43F0-A2BF-CA9E8AD6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E8299-C0BA-4BD3-AE84-A9354D35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3C16A-0CEA-4AF8-B7FA-A28140ED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4DF70-671D-40C0-BC79-DFBD8169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1F4DB-BAE8-425A-835C-A66D2468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1EC05-B0BA-4B82-ADBB-F0F906E5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EFE73-D760-443B-A918-380E7CFA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FB23D-B927-4986-9D43-D1117191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67FDC-EF22-4BB1-A1F9-615BB6D7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06F75-1AFB-4482-9846-9286DB82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A6DC7-86E9-441A-9E81-D555E17E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C205C-57E7-48D4-A9A1-C37D7A7D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8C6DB-AA41-41EA-9645-33CB2B8E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27188-0397-4EDF-BEB0-28BE5539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D3C3B-9A4E-4B4C-BD45-8F14FF5C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39981-BE4B-4542-9B1E-FA925444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3BB3C-B219-4F72-8C49-F23271DD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0096D-43B7-4B01-A942-0C5BD6D2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4F485-5563-42A0-8581-8622D4DC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40B47-F1B0-4B4E-9574-77662F81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B0498-5576-46AF-B318-EA1A3798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F5FEF-2F2B-4E2E-8C33-A7D38E7A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1F41C-FABD-4563-B801-459A9A45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3BC78-5136-4792-B9BD-083FDBE7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9A8A3-0D94-4201-AEBA-78403E46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922B6-8D4C-4DED-9AE7-320D5D18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40C3C-49A6-479E-8C36-2D1C5E34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B0A87-6083-4B48-8B26-F150E578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E2BCB-3391-4B76-92BD-AA0B92CB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3544F-0591-44B2-A0E4-F9861F1D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735CB-772C-45B5-AC44-B8FEB182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23A47-96B0-46D6-8FEB-EEF38D09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D33EA-C120-4F0A-9530-B0E56970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9B710-C712-49C6-9B5D-8CD97914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A04BB-064C-405A-B6CB-5DFAB0BA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D433D-74C9-4F99-B9D9-6BFFE511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6363D-5B09-4291-A83B-353925ECF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7E182-4415-4A8C-AB05-A865DEF6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4367C-82B3-4FED-ADEA-1A88C2E7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6CDF0-4381-4B89-B053-3F7F0B2C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CFCDE-055D-4E92-8206-F55DC73D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49DFD-4E2B-40F2-9112-B40F9A98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B5FB2-1E25-4EA3-9A04-EB309F25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EE194-3B41-4E55-A013-792D43B8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58E90-D616-482F-9469-A7307C3C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F33DF-DC20-41C3-9925-AC546194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81359-B684-4DCA-A07D-B9AC5488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37C7F-D4DE-42EB-A723-BD4C4565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F0589-685A-4DA7-ABF7-F45D6F66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8D89A-F6BF-4960-A2F7-A0AFD233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555B2-C953-442F-AA42-62CFE201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CD924-862F-4D95-8122-ABFC5214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44034-9C51-4EA1-962A-E404B068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04D93-BAA6-4DA5-8102-EFFA8EE3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5516C-CF02-45C4-BF68-E4C0D2DE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F19B1-D2CE-4CD2-99E9-7520CED3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51D22-3A66-4CE9-AAD3-0BC7AC86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DBB51-C3A0-4A01-9A11-46B0674F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E150F-519B-47DE-9324-0A8EF588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4AC6A-58ED-4543-A40A-0E3A781C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5D319-5806-4267-AE72-FBB18163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707CB-6DEB-457F-A024-2E508973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1F116-5E17-4BC7-B6C2-19A8EF30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DD5F1-7D6E-4EB3-8EC4-21488BA9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FA223-F90D-4C9E-B551-12C4238D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11738-9B27-4032-9C8E-990AAEFD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D9D96-6AC1-4935-8E2D-F8B5AA8B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D99D3-5D5D-4A46-8F52-845980D4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58499-E945-44CF-A1F7-C1B0B433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958B1-3AB0-44D5-BB39-1567B933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E973C-9A7A-42B5-AAC8-43BE5792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17F07-5455-4F3C-93C3-68AC1433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0637B-1A07-4269-AAAC-38F25D84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0F45E-AF69-4357-A87B-22785CF6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31FC6-919D-42D1-9880-F6F8AB33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EF1FA-C13D-40EE-BAC5-CDA9F19D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9F4D8-C887-4E9A-B917-869611E2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99372-09B6-491B-9A69-943FEDF2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572D2-A2AC-4456-8636-7D5B4459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2DF60-4D0C-4A9B-8EDC-41AF4020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175B6-90C7-45AD-978E-E7C83B6C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C10C5-6FDC-4BA2-B88A-44F7D0A1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4E766-4185-45EB-9DAC-2C514E7B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0EC49-104A-462D-8542-B2E5CAAC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31379-9664-4915-AD48-538608D3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EA82C-A3D0-404E-89A7-247645FD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AA1CC-5D71-41B5-8DA3-DD442137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B3EAD-AE40-49C2-9D08-E44FDAFE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6AD82-0ECC-4ECC-823D-CBCFCF88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A4715-74E1-4C8E-9CA1-98E11CC2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6C871-E2B8-4D60-8969-BD2A5655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F2187-B1F3-457D-992E-05DD52F2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21B59-7370-489B-8263-190A0EAB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AC89C-CBA3-469C-9DD2-464293DE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58DD2-0FC4-4442-BB05-26DE5FA4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53770-CFA2-4826-BC87-F9026588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E3A3C-91C6-4FC1-896B-73FEC596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86674-897C-408C-84C8-FD4C66C6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7746F-6E4F-45E9-8C8C-B186117C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8E0F6-6711-4647-8441-1213FA59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610D8-1747-466E-B85C-56ADB254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C82FE-25D8-49C9-979B-D0878ED2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5D7A0-BAD2-4CA1-BB00-4979105A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AC2090-5EE8-4D67-B74C-126A4F26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3D090-4204-43A6-BAAA-73B4EC98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4B9862-9E91-4547-ACBE-8651F49E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1C7092-1FD7-4DEA-8E26-2612C0CB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80EEFF-51D0-4605-9AFE-347A5243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693C92-F7B6-4C34-A18D-6D5083BC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E604B6-454E-45BD-A310-D0F8F51F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5B310D-158E-4239-8A52-A789270D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DF616A-3C5F-4A48-88AC-EC87F5FA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ED71F5-25CE-43B2-903D-302F5285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BA853-D472-41FB-BC4A-BA23BE08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7BEFF-B50B-4176-8BC8-56ACD132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6ABE4-8824-4906-92D2-59DF957B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97D0E4-F0D4-4D56-8C0D-FDF675AA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142D58-B559-4564-8F06-1320D536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AE96F8-A858-4983-97E5-7A68FACC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899521-A96D-4D09-80E8-15AE8551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B1E994-2AAA-4D26-81F8-60555C52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D89AE1-22CD-45F1-82D7-47894BAA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C5B2F4-2213-4CD4-B550-34AEF57E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4BCED3-CDD3-4B45-9A1C-AF263A21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0576DB-AF60-42EF-9F39-49CFCE23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4D7082-C3E7-4EA1-8929-7976984E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7CC846-787A-4A29-8686-081CE51C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78DC20-E5F0-4398-AACA-FE4AE15C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5FEA87-FB23-4DC5-9238-AFC61699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BE99A6-CF44-4D74-B569-D9701249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0CEDA0-4A73-4A31-9AEE-AC84E925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BB5F0C-C383-43FD-BE43-A1B74843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4B6F90-053A-4257-87D1-98216A8A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1995B1-437B-4680-98B6-061A5374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A8EF85-DF7D-42D1-840D-04176820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2CE298-92B8-448C-9717-2283234D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EEEF3B-FAFC-43E6-B7CC-CA6431BA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F13760-7F21-4298-AC0F-02E776FA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29374B-5DF2-45DC-902D-7BD2D8A4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58171E-3221-4E58-A052-5E52344A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951481-4C50-4695-A396-C0C08B4D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06369D-0D21-4F56-9646-441C745E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700A40-D5BB-4262-B2A9-4D3BE397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F90BBB-49DF-4D93-982A-002FF05D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FC6CE1-BBFE-4408-BA83-5463B990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E6E4E4-EA9D-4125-8414-61192F88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7CDACF-9FD0-4EEC-9E45-54F642B3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BAB0AA-A55B-44EA-89D1-3D8BCF51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AED108-BF1C-411B-988D-0112858C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97052-71F4-4A0C-9894-A772E21E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054C40-9DBD-438C-833D-79EDDD96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D7B375-A140-4427-95F8-17A5CC30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B555EC-116E-40C9-87E7-23FC7728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E659D7-7B9E-40B7-9F2C-78126A48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836AE5-7C42-4E19-A228-5F8B1290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9FB038-7025-45A6-988D-EB0550AD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74B5AE-688E-43B0-8D08-84ECE7E4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E4B910-DAF9-4321-A37D-94AD6DD9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FA0867-FEE8-43D6-B0B7-15ABE9A4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F7ACB1-AF1B-42B6-BF6F-D22303BF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98479B-A3D8-41A7-9CE2-5483EF56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84A946-2A7E-4153-84C9-98D6459D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22DC64-20D9-4F71-A827-EC6AA23D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B2C741-BD94-48AB-99F8-F3E31C60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589901-257A-4072-B700-B59F17D5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AC6D2C-C481-4671-B6F1-907C9600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D5E2B0-771D-4005-8C42-BB2F6444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24EFA9-B82A-4C89-81F0-5DCF9E46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B5CE99-7244-4C76-92D6-17263769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D7201B-4C2C-4BFA-B05E-C5E46EB1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2314C7-7535-4B0B-B627-D487396F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7AE985-C1F1-4FDA-871F-4FA7B596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E5825D-4E89-401F-A7E7-F69E2F04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CC150F-FED8-4AC4-A767-F07B37AF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4D8B89-7D54-4097-9F4D-4E845BCB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602BAD-AC9B-4C1D-A13E-26D465B1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CBE7BF-1BAB-4FED-BC22-577E68DE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1E65A7-900A-41BE-947D-952FE438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12A1F-774E-44FF-A8EA-0385C9DA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A33B0-32FD-45C6-8CDC-34A27405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CCA01-C832-4CE3-8BFA-D3118CC0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C046F-2B0F-4629-A678-116942BD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167220-129D-4E91-BA20-ABC33FAD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EDE32F-9212-48C6-B43C-DD16F46C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BAE5F-6ADC-44E3-8B46-FBB293C6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28D626-4717-4142-A5B5-9D595134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D60075-5851-4BEE-AFFD-40C8EAD0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B09975-41E0-4964-B27B-D348C27E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F8AFF-760D-4FB1-8DBC-18A53F95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ftr" idx="9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12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CDAE-A122-416D-B8C6-9C13B49AB515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15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C6CB-4CD3-4D52-A288-7FC80177AE93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18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897C-E9DD-4817-974D-7C59D0A1D733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1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13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21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AEC7-E749-4128-85B5-03ADA120666E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24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A00E-885F-4872-B85B-21ACF62FB062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27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4541-36EC-4A12-BABB-DEFAED16441E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0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51D1-00AD-41D8-901F-1E892A842E96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33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6089-4587-43F3-8FC7-1808B45EF01B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36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BBD2-355F-456B-8FF4-F1DA9EDA7E08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D885-1460-4AC4-89D4-899F92DD51E9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39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B97C-0385-4C8D-91EE-8A2B031311F5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42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A6C1-DBBE-46A2-954D-8B706A2A55A7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45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566A-1106-4AB9-88DD-D39892ECE4E2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48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4853-D803-41ED-91C3-8B0B638BFAD4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sldNum" idx="51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A51C-CA5A-41F1-9857-590B4471BECB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3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sldNum" idx="54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B0F6-465E-4006-9217-6FE975EB71D4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0" y="6324480"/>
            <a:ext cx="899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6F66-7EBE-4736-8FB5-CA2AA7F257B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0" y="6324480"/>
            <a:ext cx="899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888E-31CB-4F2E-887B-140B1111E14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0" y="6324480"/>
            <a:ext cx="899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F9E2-E94E-4665-B6B8-074DB6C55F5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A80F-AEC7-4FB1-BAF2-F950EA1B85E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Rounded Rectangle 5"/>
          <p:cNvGrpSpPr/>
          <p:nvPr/>
        </p:nvGrpSpPr>
        <p:grpSpPr>
          <a:xfrm>
            <a:off x="-6480" y="-6480"/>
            <a:ext cx="9156960" cy="1158840"/>
            <a:chOff x="-6480" y="-6480"/>
            <a:chExt cx="9156960" cy="1158840"/>
          </a:xfrm>
        </p:grpSpPr>
        <p:pic>
          <p:nvPicPr>
            <p:cNvPr id="298" name="Rounded Rectangle 5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ounded Rectangle 5"/>
          <p:cNvGrpSpPr/>
          <p:nvPr/>
        </p:nvGrpSpPr>
        <p:grpSpPr>
          <a:xfrm>
            <a:off x="-6480" y="-6480"/>
            <a:ext cx="9156960" cy="1158840"/>
            <a:chOff x="-6480" y="-6480"/>
            <a:chExt cx="9156960" cy="1158840"/>
          </a:xfrm>
        </p:grpSpPr>
        <p:pic>
          <p:nvPicPr>
            <p:cNvPr id="339" name="Rounded Rectangle 5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nthecuspstophai.org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onthecuspstophai.org/" TargetMode="External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5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mailto:mjskiba@agh.org" TargetMode="External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National Content Web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  <a:ea typeface="Tahoma"/>
              </a:rPr>
              <a:t>CUSP: A Framework for Succes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March 7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10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CU Safety Clima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6" name="Picture 7" descr="Chart titled Effect of CUSP on safety Climate that shows percent “Needs Improvement” (pre-CUSP 2004) vs. (Post CUSP 2006)"/>
          <p:cNvPicPr/>
          <p:nvPr/>
        </p:nvPicPr>
        <p:blipFill>
          <a:blip r:embed="rId1"/>
          <a:srcRect l="2479" t="2073" r="2393" b="2154"/>
          <a:stretch/>
        </p:blipFill>
        <p:spPr>
          <a:xfrm>
            <a:off x="1523880" y="1676520"/>
            <a:ext cx="6019920" cy="4425840"/>
          </a:xfrm>
          <a:prstGeom prst="rect">
            <a:avLst/>
          </a:prstGeom>
          <a:ln w="0">
            <a:noFill/>
          </a:ln>
        </p:spPr>
      </p:pic>
      <p:sp>
        <p:nvSpPr>
          <p:cNvPr id="1137" name=""/>
          <p:cNvSpPr txBox="1"/>
          <p:nvPr/>
        </p:nvSpPr>
        <p:spPr>
          <a:xfrm>
            <a:off x="0" y="624852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“Needs Improvement” - Safety Climate Score &lt;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2"/>
          <p:cNvSpPr/>
          <p:nvPr/>
        </p:nvSpPr>
        <p:spPr>
          <a:xfrm>
            <a:off x="-304920" y="0"/>
            <a:ext cx="990612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3"/>
          <p:cNvSpPr/>
          <p:nvPr/>
        </p:nvSpPr>
        <p:spPr>
          <a:xfrm>
            <a:off x="0" y="22636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4"/>
          <p:cNvSpPr/>
          <p:nvPr/>
        </p:nvSpPr>
        <p:spPr>
          <a:xfrm>
            <a:off x="13240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1" name="Object 5"/>
          <p:cNvGraphicFramePr/>
          <p:nvPr/>
        </p:nvGraphicFramePr>
        <p:xfrm>
          <a:off x="-152280" y="0"/>
          <a:ext cx="9129600" cy="67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2" name="Object 5" descr="chart showing % reporting positive teamwork climate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0"/>
                    <a:ext cx="912960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b0b0b"/>
                </a:solidFill>
                <a:latin typeface="Calibri"/>
              </a:rPr>
              <a:t>Teamwork Climate &amp;</a:t>
            </a:r>
            <a:br>
              <a:rPr sz="4100"/>
            </a:br>
            <a:r>
              <a:rPr b="1" lang="en-US" sz="4100" spc="-1" strike="noStrike">
                <a:solidFill>
                  <a:srgbClr val="0b0b0b"/>
                </a:solidFill>
                <a:latin typeface="Calibri"/>
              </a:rPr>
              <a:t>Annual Nurse Turnover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7"/>
          <p:cNvSpPr/>
          <p:nvPr/>
        </p:nvSpPr>
        <p:spPr>
          <a:xfrm rot="16200000">
            <a:off x="-1889640" y="3261600"/>
            <a:ext cx="4651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b0b0b"/>
                </a:solidFill>
                <a:latin typeface="Arial Narrow"/>
              </a:rPr>
              <a:t>% reporting positive teamwork clim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5" name="Group 8"/>
          <p:cNvGrpSpPr/>
          <p:nvPr/>
        </p:nvGrpSpPr>
        <p:grpSpPr>
          <a:xfrm>
            <a:off x="914400" y="4690800"/>
            <a:ext cx="8076960" cy="851400"/>
            <a:chOff x="914400" y="4690800"/>
            <a:chExt cx="8076960" cy="851400"/>
          </a:xfrm>
        </p:grpSpPr>
        <p:sp>
          <p:nvSpPr>
            <p:cNvPr id="1146" name="AutoShape 9"/>
            <p:cNvSpPr/>
            <p:nvPr/>
          </p:nvSpPr>
          <p:spPr>
            <a:xfrm flipV="1" rot="16200000">
              <a:off x="2129760" y="3752280"/>
              <a:ext cx="718920" cy="2594880"/>
            </a:xfrm>
            <a:prstGeom prst="flowChartOnlineStorage">
              <a:avLst/>
            </a:prstGeom>
            <a:gradFill rotWithShape="0">
              <a:gsLst>
                <a:gs pos="0">
                  <a:srgbClr val="761800"/>
                </a:gs>
                <a:gs pos="50000">
                  <a:srgbClr val="ff3300"/>
                </a:gs>
                <a:gs pos="100000">
                  <a:srgbClr val="76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AutoShape 10"/>
            <p:cNvSpPr/>
            <p:nvPr/>
          </p:nvSpPr>
          <p:spPr>
            <a:xfrm flipV="1" rot="16200000">
              <a:off x="4728960" y="3748320"/>
              <a:ext cx="718920" cy="2602800"/>
            </a:xfrm>
            <a:prstGeom prst="flowChartOnlineStorag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AutoShape 11"/>
            <p:cNvSpPr/>
            <p:nvPr/>
          </p:nvSpPr>
          <p:spPr>
            <a:xfrm flipV="1" rot="16200000">
              <a:off x="7331040" y="3749040"/>
              <a:ext cx="718920" cy="2601360"/>
            </a:xfrm>
            <a:prstGeom prst="flowChartOnlineStorage">
              <a:avLst/>
            </a:prstGeom>
            <a:gradFill rotWithShape="0">
              <a:gsLst>
                <a:gs pos="0">
                  <a:srgbClr val="185e18"/>
                </a:gs>
                <a:gs pos="50000">
                  <a:srgbClr val="33cc33"/>
                </a:gs>
                <a:gs pos="100000">
                  <a:srgbClr val="185e18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Text Box 12"/>
            <p:cNvSpPr/>
            <p:nvPr/>
          </p:nvSpPr>
          <p:spPr>
            <a:xfrm>
              <a:off x="914400" y="4838400"/>
              <a:ext cx="287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High Turnover  16.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Text Box 13"/>
            <p:cNvSpPr/>
            <p:nvPr/>
          </p:nvSpPr>
          <p:spPr>
            <a:xfrm>
              <a:off x="6297480" y="4838400"/>
              <a:ext cx="254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    </a:t>
              </a: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Low Turnover 7.9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Text Box 14"/>
            <p:cNvSpPr/>
            <p:nvPr/>
          </p:nvSpPr>
          <p:spPr>
            <a:xfrm>
              <a:off x="3566520" y="4838400"/>
              <a:ext cx="268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Mid Turnover 10.8%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asonable man adapts himself to the world; the unreasonable one persists in trying to adapt the world to himself. Therefore all progress depends on the unreasonable man.”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n and Superm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orge Bernard Sha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185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The Comprehensive Unit-based Safety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377640" y="1904760"/>
            <a:ext cx="8461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Comprehensive Unit-based Safety Program (CUSP): A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terven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ar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take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prov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fet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ltur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hris Goeschel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D MPA MPS RN FAA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or, Strategic Development and Research Initiatives 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mstrong Institute for Patient Safety and Qual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Johns Hopkins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Tahoma"/>
              </a:rPr>
              <a:t>Ideas for Ensuring Patients Receiv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Tahoma"/>
              </a:rPr>
              <a:t>the Interventions: the 4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Engage: Stories, show baselin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Educate staff on evide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Execu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Standardize: Create line car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Create independent checks: Create BSI checklis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Empower nurses to stop takeoff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Learn from mistak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Evalua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Feedback performan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View infections as def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nsure Patients Reliably Receiv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8" name=""/>
          <p:cNvGraphicFramePr/>
          <p:nvPr/>
        </p:nvGraphicFramePr>
        <p:xfrm>
          <a:off x="304920" y="1905120"/>
          <a:ext cx="8534160" cy="3922560"/>
        </p:xfrm>
        <a:graphic>
          <a:graphicData uri="http://schemas.openxmlformats.org/drawingml/2006/table">
            <a:tbl>
              <a:tblPr/>
              <a:tblGrid>
                <a:gridCol w="2009520"/>
                <a:gridCol w="2175120"/>
                <a:gridCol w="2174760"/>
                <a:gridCol w="2174760"/>
              </a:tblGrid>
              <a:tr h="460080">
                <a:tc rowSpan="2">
                  <a:txBody>
                    <a:bodyPr lIns="4680" rIns="468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80" rIns="468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enio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80" rIns="468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ea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taff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leader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80" rIns="468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leader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520">
                <a:tc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Engag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 gridSpan="3">
                  <a:txBody>
                    <a:bodyPr lIns="4212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How does this make the world a better place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6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520">
                <a:tc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Educat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 gridSpan="3">
                  <a:txBody>
                    <a:bodyPr lIns="4212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What do we need to do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6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560">
                <a:tc rowSpan="2"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Execut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 gridSpan="3">
                  <a:txBody>
                    <a:bodyPr lIns="4212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What keeps me from doing i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6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212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How can we do it with my resources and culture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6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Evaluat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 gridSpan="3">
                  <a:txBody>
                    <a:bodyPr lIns="4212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How do we know we improved safety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6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59" name=""/>
          <p:cNvSpPr txBox="1"/>
          <p:nvPr/>
        </p:nvSpPr>
        <p:spPr>
          <a:xfrm>
            <a:off x="3504960" y="59130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4061"/>
                </a:solidFill>
                <a:latin typeface="Arial"/>
                <a:ea typeface="ＭＳ Ｐゴシック"/>
              </a:rPr>
              <a:t>Pronovost: Health Services Research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Slide Number Placeholder 6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9BAE-EBEB-4371-AAE7-97A7EB94B34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Down Arrow 27"/>
          <p:cNvSpPr/>
          <p:nvPr/>
        </p:nvSpPr>
        <p:spPr>
          <a:xfrm>
            <a:off x="2362320" y="1066680"/>
            <a:ext cx="53316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Down Arrow 28"/>
          <p:cNvSpPr/>
          <p:nvPr/>
        </p:nvSpPr>
        <p:spPr>
          <a:xfrm flipV="1" rot="10800000">
            <a:off x="6400800" y="1065600"/>
            <a:ext cx="53352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Down Arrow 31"/>
          <p:cNvSpPr/>
          <p:nvPr/>
        </p:nvSpPr>
        <p:spPr>
          <a:xfrm flipV="1" rot="10800000">
            <a:off x="2057400" y="5715000"/>
            <a:ext cx="53352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Down Arrow 32"/>
          <p:cNvSpPr/>
          <p:nvPr/>
        </p:nvSpPr>
        <p:spPr>
          <a:xfrm flipV="1" rot="10800000">
            <a:off x="6324480" y="5637600"/>
            <a:ext cx="6098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03356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SimSun"/>
              </a:rPr>
              <a:t>Mea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609120" y="1447920"/>
            <a:ext cx="3429000" cy="914400"/>
          </a:xfrm>
          <a:prstGeom prst="rect">
            <a:avLst/>
          </a:prstGeom>
          <a:solidFill>
            <a:srgbClr val="9bbb59"/>
          </a:solidFill>
          <a:ln w="255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Have We Created a Safe Cultu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How Do We Know We Lear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From Mistak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533520" y="2514240"/>
            <a:ext cx="3504960" cy="1219320"/>
          </a:xfrm>
          <a:prstGeom prst="rect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CUS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Comprehensive Unit-based Safety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533520" y="3733560"/>
            <a:ext cx="3504960" cy="190476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ducate staff on science of safe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dentify defe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ssign executive to adopt un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arn from one defect per quar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lement teamwork tool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4952880" y="1447920"/>
            <a:ext cx="3810240" cy="914400"/>
          </a:xfrm>
          <a:prstGeom prst="rect">
            <a:avLst/>
          </a:prstGeom>
          <a:solidFill>
            <a:srgbClr val="9bbb59"/>
          </a:solidFill>
          <a:ln w="255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How Often Do We Har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Are Patient Outcom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Improving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4952880" y="2590560"/>
            <a:ext cx="373392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  <a:ea typeface="SimSun"/>
              </a:rPr>
              <a:t>(TRiP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  <a:ea typeface="SimSun"/>
              </a:rPr>
              <a:t>Translating Evidence Into Practi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4952880" y="3733560"/>
            <a:ext cx="3733920" cy="190476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mmarize the evidence in a checkl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dentify local barriers to implemen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e  perform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sure all patients get the evid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990720" y="6081840"/>
            <a:ext cx="7619760" cy="699840"/>
          </a:xfrm>
          <a:prstGeom prst="rect">
            <a:avLst/>
          </a:prstGeom>
          <a:solidFill>
            <a:srgbClr val="9bbb59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SimSun"/>
              </a:rPr>
              <a:t>Impro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33520" y="185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What is CUS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609480" y="21337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Comprehensive Unit-based Safety Progr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An intervention to learn from mistakes and improve safety cultu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www.onthecuspstophai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Line 9"/>
          <p:cNvSpPr/>
          <p:nvPr/>
        </p:nvSpPr>
        <p:spPr>
          <a:xfrm flipH="1">
            <a:off x="2819520" y="1905120"/>
            <a:ext cx="380880" cy="761760"/>
          </a:xfrm>
          <a:prstGeom prst="line">
            <a:avLst/>
          </a:prstGeom>
          <a:ln w="255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10"/>
          <p:cNvSpPr/>
          <p:nvPr/>
        </p:nvSpPr>
        <p:spPr>
          <a:xfrm>
            <a:off x="5638680" y="1905120"/>
            <a:ext cx="533520" cy="761760"/>
          </a:xfrm>
          <a:prstGeom prst="line">
            <a:avLst/>
          </a:prstGeom>
          <a:ln w="255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11"/>
          <p:cNvSpPr/>
          <p:nvPr/>
        </p:nvSpPr>
        <p:spPr>
          <a:xfrm>
            <a:off x="1371600" y="35053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4800240" y="2666880"/>
            <a:ext cx="3886200" cy="3733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BSI-Reduction Protoc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-Best-evidence supplies, organization of suppl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12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Ensuring all patients receive the best practic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12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Checklist to ensure consistent application of eviden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/>
          </p:nvPr>
        </p:nvSpPr>
        <p:spPr>
          <a:xfrm>
            <a:off x="533520" y="2666880"/>
            <a:ext cx="4038480" cy="3733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mprehensive Unit-based Safety Program (CUS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-Improve or reinforce good cross-disciplinary communication and teamwor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-Enhance coordination of ca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-Address overall patient safe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-Work towards healthy unit cultu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title"/>
          </p:nvPr>
        </p:nvSpPr>
        <p:spPr>
          <a:xfrm>
            <a:off x="1170000" y="533520"/>
            <a:ext cx="66024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On the CUSP: Stop BSI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nterv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1" name="Group 1"/>
          <p:cNvGrpSpPr/>
          <p:nvPr/>
        </p:nvGrpSpPr>
        <p:grpSpPr>
          <a:xfrm>
            <a:off x="-15840" y="0"/>
            <a:ext cx="9159840" cy="6994080"/>
            <a:chOff x="-15840" y="0"/>
            <a:chExt cx="9159840" cy="6994080"/>
          </a:xfrm>
        </p:grpSpPr>
        <p:pic>
          <p:nvPicPr>
            <p:cNvPr id="1182" name="Picture 3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9159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3" name="TextBox 2"/>
            <p:cNvSpPr/>
            <p:nvPr/>
          </p:nvSpPr>
          <p:spPr>
            <a:xfrm>
              <a:off x="75960" y="6473880"/>
              <a:ext cx="3657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0253f"/>
                  </a:solidFill>
                  <a:latin typeface="Arial"/>
                  <a:ea typeface="Arial"/>
                </a:rPr>
                <a:t>Pronovost, Berenholtz, Needham BMJ 2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Today’s Spea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Marge Cannon, Medical Officer, C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Minet Javellana, Health Insurance Specialist, C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Barb Edson, Vice President of Clinical Quality, HR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Chris George, Director of National Projects, MHA Keystone Cen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Chris Goeschel, Director of Strategic Development and Research Initiatives at Armstrong Institute for Patient Safety and Quality, John Hopkins Un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Mary Jo Skiba, Project Manager QI/Research, Alpena Regional Medical Cen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afety Score Car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Keystone ICU Safety Dashbo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5" name=""/>
          <p:cNvGraphicFramePr/>
          <p:nvPr/>
        </p:nvGraphicFramePr>
        <p:xfrm>
          <a:off x="457200" y="1828800"/>
          <a:ext cx="7772400" cy="2889360"/>
        </p:xfrm>
        <a:graphic>
          <a:graphicData uri="http://schemas.openxmlformats.org/drawingml/2006/table">
            <a:tbl>
              <a:tblPr/>
              <a:tblGrid>
                <a:gridCol w="4984920"/>
                <a:gridCol w="1450800"/>
                <a:gridCol w="1336680"/>
              </a:tblGrid>
              <a:tr h="418680">
                <a:tc>
                  <a:txBody>
                    <a:bodyPr lIns="7560" rIns="756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418680">
                <a:tc>
                  <a:txBody>
                    <a:bodyPr lIns="68400" rIns="756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ow often did we harm (BSI)?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median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/10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19040">
                <a:tc>
                  <a:txBody>
                    <a:bodyPr lIns="68400" rIns="756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ow often do we do what we should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18680">
                <a:tc>
                  <a:txBody>
                    <a:bodyPr lIns="68400" rIns="756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ow often did we learn from mistakes?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0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0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26680">
                <a:tc>
                  <a:txBody>
                    <a:bodyPr lIns="68400" rIns="756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ave we created a safe culture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hat areas need improvement?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344520">
                <a:tc>
                  <a:txBody>
                    <a:bodyPr lIns="7560" rIns="756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         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afety climate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343440">
                <a:tc>
                  <a:txBody>
                    <a:bodyPr lIns="7560" rIns="756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         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eamwork climate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186" name=""/>
          <p:cNvSpPr txBox="1"/>
          <p:nvPr/>
        </p:nvSpPr>
        <p:spPr>
          <a:xfrm>
            <a:off x="2384280" y="5280120"/>
            <a:ext cx="5060520" cy="4125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ctr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* CUSP is intervention to improve the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Pre CUSP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Tahoma"/>
              </a:rPr>
              <a:t>Create a CUSP tea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ahoma"/>
              </a:rPr>
              <a:t>Nurses, physician, support staff, infection prevention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ahoma"/>
              </a:rPr>
              <a:t>Assign a team lead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Tahoma"/>
              </a:rPr>
              <a:t>Measure culture in the uni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Tahoma"/>
              </a:rPr>
              <a:t>Work with hospital quality leader or hospital management to have a senior executive assigned to CUSP tea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s of CU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457200" y="18288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-493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Educate staff on science of safety </a:t>
            </a:r>
            <a:br>
              <a:rPr sz="2500"/>
            </a:br>
            <a:r>
              <a:rPr b="0" lang="en-US" sz="2500" spc="-1" strike="noStrike" u="sng">
                <a:solidFill>
                  <a:srgbClr val="558ed5"/>
                </a:solidFill>
                <a:uFillTx/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dentify defects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Assign executive to adopt unit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Learn from one defect per quarter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mplement teamwork tool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802440" indent="-432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802440" indent="-432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75960" y="6552720"/>
            <a:ext cx="515124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novost J,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Patient Safety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, 200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185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1: Science of Saf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ahoma"/>
              </a:rPr>
              <a:t>Understand system determines perform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ahoma"/>
              </a:rPr>
              <a:t>Use strategies to improve system perform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Standard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Create independent checks for key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Learn from mistak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ahoma"/>
              </a:rPr>
              <a:t>Apply strategies to both technical work and team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ahoma"/>
              </a:rPr>
              <a:t>Recognize teams make wise decisions with diverse and independent input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185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2: Identify De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Tahoma"/>
              </a:rPr>
              <a:t>Administer the staff safety assessment and ask staff, “How will the next patient be harmed?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Tahoma"/>
              </a:rPr>
              <a:t>Review error reports, liability claims, sentinel events,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Tahoma"/>
              </a:rPr>
              <a:t>or M and M conferen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Prioritize De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457200" y="19047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Tahoma"/>
              </a:rPr>
              <a:t>List all defec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Tahoma"/>
              </a:rPr>
              <a:t>Discuss with staff what are the three greatest risks and what you should work on fir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3: Executive Partne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Executive should become a member of unit t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Executive should meet monthly with unit t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Executive should –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Review def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Ensure unit team has resources to reduce ris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Hold team accountable for improving risks and central line-associated blood steam infection ra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4: Learning from Mistak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685800" y="1752120"/>
            <a:ext cx="9067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What happened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Why did it happen (system lenses)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What could you do to reduce risk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How do you know risk was reduced 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Create policy,  process, or proced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Ensure staff know poli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Evaluate if policy is used correc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60480" y="6552720"/>
            <a:ext cx="40543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novost 2005 JCJQ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4 cont</a:t>
            </a:r>
            <a:r>
              <a:rPr b="0" lang="ja-JP" sz="4400" spc="-1" strike="noStrike">
                <a:solidFill>
                  <a:srgbClr val="ffffff"/>
                </a:solidFill>
                <a:latin typeface="Calibri"/>
                <a:ea typeface="Tahoma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d: Identify Most Important Contributing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609480" y="19810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Rate each contributing fact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mportance of the problem and contributing fac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n causing the accident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n future acciden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4 cont</a:t>
            </a:r>
            <a:r>
              <a:rPr b="0" lang="ja-JP" sz="4400" spc="-1" strike="noStrike">
                <a:solidFill>
                  <a:srgbClr val="ffffff"/>
                </a:solidFill>
                <a:latin typeface="Calibri"/>
                <a:ea typeface="Tahoma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d: Identify Most Effective Interven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4572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Rate each interven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39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How well the intervention solves the problem or mitigates the contributing factors for the accid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39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Rate the team belief that the intervention will be implemented and executed as intend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Working Together – The Player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304560" y="18284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Centers for Medicare &amp; Medicaid Services Quality Improvement Organization (CMS QI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Agency for Health Care Research and Quality (AHRQ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76120" indent="-276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On the CUSP: Stop HAI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www.onthecuspstophai.or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76120" indent="-276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CLABSI National Project Tea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76120" indent="-2761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Michigan Health &amp; Hospital Association - Michigan  Keystone Center for Patient Safety &amp; Quality (MHA Keyston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76120" indent="-2761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ahoma"/>
              </a:rPr>
              <a:t>Armstrong Institute for Patient Safety and Quality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Johns Hopkins University (JHU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76120" indent="-2761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Health Research &amp; Educational Trust (HRET), research affiliate of the American Hospital Associ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8" name="Picture 4" descr=" Image of four figures each holding a puzzle piece in place making the puzzle"/>
          <p:cNvPicPr/>
          <p:nvPr/>
        </p:nvPicPr>
        <p:blipFill>
          <a:blip r:embed="rId2"/>
          <a:stretch/>
        </p:blipFill>
        <p:spPr>
          <a:xfrm>
            <a:off x="7315200" y="2209680"/>
            <a:ext cx="1547640" cy="154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4 cont</a:t>
            </a:r>
            <a:r>
              <a:rPr b="0" lang="ja-JP" sz="4400" spc="-1" strike="noStrike">
                <a:solidFill>
                  <a:srgbClr val="ffffff"/>
                </a:solidFill>
                <a:latin typeface="Calibri"/>
                <a:ea typeface="Tahoma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d: Evaluate Whether Risks Were Reduc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295280" y="205740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Did you create a policy or procedu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Do staff know about the polic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Are staff using it as intend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Do staff believe risks have been reduc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5: Teamwork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1371240" y="175212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Call li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Daily go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Morning brief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Shadow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Culture check u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-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novost JCC, JCJQ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5 cont</a:t>
            </a:r>
            <a:r>
              <a:rPr b="0" lang="ja-JP" sz="4400" spc="-1" strike="noStrike">
                <a:solidFill>
                  <a:srgbClr val="ffffff"/>
                </a:solidFill>
                <a:latin typeface="Calibri"/>
                <a:ea typeface="Tahoma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d: Call 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Ensure your unit</a:t>
            </a:r>
            <a:r>
              <a:rPr b="0" lang="en-US" sz="2500" spc="-1" strike="noStrike">
                <a:solidFill>
                  <a:srgbClr val="ff0000"/>
                </a:solidFill>
                <a:latin typeface="Calibri"/>
                <a:ea typeface="Tahom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has a process to identify which physician to page or call for each pati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Make sure call list is easily accessible and updat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5 cont</a:t>
            </a:r>
            <a:r>
              <a:rPr b="0" lang="ja-JP" sz="4400" spc="-1" strike="noStrike">
                <a:solidFill>
                  <a:srgbClr val="ffffff"/>
                </a:solidFill>
                <a:latin typeface="Calibri"/>
                <a:ea typeface="Tahoma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d: Morning Brief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457200" y="2057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Have a morning meeting with charge nurse and unit attending(s) about the unit-level plan for the da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Discuss work for the da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287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What happened during the ev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287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Who is being admitted and discharged to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287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What are potential risks during the day; how can we reduce these ri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5 cont</a:t>
            </a:r>
            <a:r>
              <a:rPr b="0" lang="ja-JP" sz="4400" spc="-1" strike="noStrike">
                <a:solidFill>
                  <a:srgbClr val="ffffff"/>
                </a:solidFill>
                <a:latin typeface="Calibri"/>
                <a:ea typeface="Tahoma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d: Shadow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457200" y="2133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Follow another type of clinician doing his or her job for between 2 and 4 hou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Have the shadower discuss with staff what he or she will do differently now that he or she has walked in another person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Tahoma"/>
              </a:rPr>
              <a:t>’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s sho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CUSP is a Continuous Eff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45720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Add science of safety education to orient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Learn from one defect per quarter; share or post lesson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mplement teamwork tools that best meet the unit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Tahoma"/>
              </a:rPr>
              <a:t>’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s need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Review details in the CUSP man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Action Items -- CU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Look over the CUSP manual with team member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Brainstorm potential hazards with team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Assess team composition with respect to CUSP element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Review pre-implementation checklist — where are you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Action 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304560" y="129492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Review content of Web site at </a:t>
            </a: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ea typeface="Tahoma"/>
                <a:hlinkClick r:id="rId1"/>
              </a:rPr>
              <a:t>www.onthecuspstophai.or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24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Toolki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24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Slidese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24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Manual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24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Project Management Checklist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Pre-Implementation Checklis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CEO/Senior Leader Checklis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Infection Preventionist Checklis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Pronovost P, Weast B, Rosenstein B, et al. Implementing and validating a comprehensive unit-based safety program. J Pat Safety. 2005; 1(1):33-40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Pronovost P, Berenholtz S, Dorman T,  et al. Improving communication in the ICU using daily goals. J Crit Care. 2003; 18(2):71-7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Pronovost PJ, Weast B, Bishop K, et al. Senior executive adopt-a-work unit: A model for safety improvement. Jt Comm J Qual Saf. 2004; 30(2):59-6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Thompson DA, Holzmueller CG, Cafeo CL, et al. A morning briefing: Setting the stage for a clinically and operationally good day. Jt Comm J Qual and Saf. 2005; 31(8):476-479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6" name="Picture 2" descr="Picture of a child, Josie King, playing in the sand "/>
          <p:cNvPicPr/>
          <p:nvPr/>
        </p:nvPicPr>
        <p:blipFill>
          <a:blip r:embed="rId1"/>
          <a:stretch/>
        </p:blipFill>
        <p:spPr>
          <a:xfrm>
            <a:off x="2252520" y="762120"/>
            <a:ext cx="4529160" cy="5553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762120" y="18288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Understand CUSP impact on saf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List CUSP compon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Describe how a hospital implemented CU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SP + CAUTI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cess and Pre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5333760" y="1599840"/>
            <a:ext cx="354636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ry Jo Skiba, RN BS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ject Manager QI/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Picture 14" descr="Image of Catheter Bag"/>
          <p:cNvPicPr/>
          <p:nvPr/>
        </p:nvPicPr>
        <p:blipFill>
          <a:blip r:embed="rId1"/>
          <a:stretch/>
        </p:blipFill>
        <p:spPr>
          <a:xfrm>
            <a:off x="1600200" y="2438280"/>
            <a:ext cx="5283360" cy="3962520"/>
          </a:xfrm>
          <a:prstGeom prst="rect">
            <a:avLst/>
          </a:prstGeom>
          <a:ln w="0">
            <a:noFill/>
          </a:ln>
        </p:spPr>
      </p:pic>
      <p:sp>
        <p:nvSpPr>
          <p:cNvPr id="1230" name="Slide Number Placeholder 5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DC11-72EA-47C6-A1B1-BECF4B8F9830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y CUSP interventions to CAUTI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barriers/identify steps to successful CAUTI project ini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CUSP to maintain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8635-A1C7-4B5D-902E-801A48F4B57F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ce of Safety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ucatio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e prior to CA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fety survey to identify at-risk depar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science of safety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lide Number Placeholder 5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6DA2-F4F2-4E41-A01A-81608056E293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ject Plann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TI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wareness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colle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 start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 for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9" name="Picture 10" descr="Image of green stick figures in a circle surrounding a light bulb holding hands "/>
          <p:cNvPicPr/>
          <p:nvPr/>
        </p:nvPicPr>
        <p:blipFill>
          <a:blip r:embed="rId1"/>
          <a:srcRect l="6963" t="14626" r="6086" b="16065"/>
          <a:stretch/>
        </p:blipFill>
        <p:spPr>
          <a:xfrm>
            <a:off x="5562720" y="1600200"/>
            <a:ext cx="2819160" cy="182880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13" descr="Image of a construction site "/>
          <p:cNvPicPr/>
          <p:nvPr/>
        </p:nvPicPr>
        <p:blipFill>
          <a:blip r:embed="rId2"/>
          <a:stretch/>
        </p:blipFill>
        <p:spPr>
          <a:xfrm>
            <a:off x="5181480" y="3505320"/>
            <a:ext cx="3505320" cy="234000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3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CCFB-89ED-4E47-989F-43D84CC0E7C1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ject Plann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2400" indent="-302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tablish and engage CAUTI tea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volve frontline staff – Respect the wisd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ve a physician champ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charge nurses/staff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gage an executive lea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entify de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ew baseline data – CAUTI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ainstorm safety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termine the scope of your initial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  - Urinary catheter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ew, revise, consoli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policy in toolk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n’t re-create the whe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2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EAC8-03A2-4E86-A790-2668DA553DD5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roject Awarenes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76320" y="1599840"/>
            <a:ext cx="3047760" cy="5181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Microsoft Sans Serif"/>
                <a:ea typeface="ＭＳ Ｐゴシック"/>
              </a:rPr>
              <a:t>KEYSTONE H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0"/>
                </a:solidFill>
                <a:latin typeface="Microsoft Sans Serif"/>
                <a:ea typeface="ＭＳ Ｐゴシック"/>
              </a:rPr>
              <a:t>(Hospital Associated Infection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Microsoft Sans Serif"/>
                <a:ea typeface="ＭＳ Ｐゴシック"/>
              </a:rPr>
              <a:t>“</a:t>
            </a:r>
            <a:r>
              <a:rPr b="1" lang="en-US" sz="2800" spc="-1" strike="noStrike">
                <a:solidFill>
                  <a:srgbClr val="000080"/>
                </a:solidFill>
                <a:latin typeface="Microsoft Sans Serif"/>
                <a:ea typeface="ＭＳ Ｐゴシック"/>
              </a:rPr>
              <a:t>Bladder Bundle Projec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Microsoft Sans Serif"/>
                <a:ea typeface="ＭＳ Ｐゴシック"/>
              </a:rPr>
              <a:t>Preventing Catheter-Associated Urinary Tract Inf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3352320" y="2057040"/>
            <a:ext cx="5334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Hospital newslett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li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creen sav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8" name="Picture 2" descr="Cartoon image of a nurse with a patient laying in the bed "/>
          <p:cNvPicPr/>
          <p:nvPr/>
        </p:nvPicPr>
        <p:blipFill>
          <a:blip r:embed="rId1"/>
          <a:stretch/>
        </p:blipFill>
        <p:spPr>
          <a:xfrm>
            <a:off x="1523880" y="5181480"/>
            <a:ext cx="1451160" cy="1524240"/>
          </a:xfrm>
          <a:prstGeom prst="rect">
            <a:avLst/>
          </a:prstGeom>
          <a:ln w="0">
            <a:noFill/>
          </a:ln>
        </p:spPr>
      </p:pic>
      <p:sp>
        <p:nvSpPr>
          <p:cNvPr id="1249" name="Slide Number Placeholder 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A230-47C8-4BF9-B1AC-72590E7AEA0F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ata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-1371960" y="1752120"/>
            <a:ext cx="57913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111400" indent="-282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11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ta coll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11400" indent="-282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11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ta forms – Add qualifiers specific to your hospi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11400" indent="-282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11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sure understanding of project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11400" indent="-282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11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 days week – Monday through Friday  (not weeken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11400" indent="-282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11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ta entry with Web-based program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211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Slide Number Placeholder 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00D0-7885-40F5-BAD2-E50417A5762D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3" name="Picture 2" descr="Square box with text that reads   &#10;&#10;Indications:  Acute urinary retention or obstruction = 1&#10;Perioperative use in selected surgeries = 2&#10;Perineal  and sacral wounds in incontinent patients  = 3 &#10;Hospice / comfort/ palliative care = 4 &#10;Required immobilization for trauma or surgery  = 5&#10;Chronic indwelling urinary catheter on admission = 6&#10;Accurate measurement of urinary output in the critically ill patients = 7 &#10;Not indicated urinary catheters reasons:&#10;Urine output monitoring outside intensive care = 8 &#10;Incontinence without a sacral or perineal pressure score = 9 &#10;Prolonged postoperative use = 10 &#10;Others = 11 (include those transferred from intensive care, morbid obesity, immobility, confusion or dementia, and patient request) &#10;"/>
          <p:cNvPicPr/>
          <p:nvPr/>
        </p:nvPicPr>
        <p:blipFill>
          <a:blip r:embed="rId1"/>
          <a:stretch/>
        </p:blipFill>
        <p:spPr>
          <a:xfrm>
            <a:off x="4343400" y="1663560"/>
            <a:ext cx="441972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lanning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90680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entify Defects -- Plan Ahead to Prevent Roadbl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227160" y="2286000"/>
            <a:ext cx="40399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01920" indent="-27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will be 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920" indent="-27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will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920" indent="-27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ill we tra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920" indent="-27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will w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920" indent="-27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ill we do make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920" indent="-27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much ongoing training  or re-training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4644720" y="2285640"/>
            <a:ext cx="4041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will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ill w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will w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Slide Number Placeholder 6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AE31-5E79-45C5-A5DE-3DE5B2AD166B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ducate on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dac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TI face-to-face inservic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nursing/a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deline for prevention of CAUTI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ysician C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artment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  Demonstration of insertion compe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Slide Number Placeholder 3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7E85-D4B3-4C35-AA4B-A49632B38162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veloping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UTI Education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15228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7040" indent="-339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n’t re-create the wh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other hospitals’ PowerPoint slid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ltiple CAUTI toolk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/revise to 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Slide Number Placeholder 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0528-F7DB-40B8-9D99-0AA46CB5E2C3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ichigan CUSP Experien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129528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is George, RN 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or of National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higan Health &amp; Hospital Assoc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ystone Center for Patient Safety &amp; 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3" name="Picture 4" descr="Image of the horizon with text that reads Pure Michigan"/>
          <p:cNvPicPr/>
          <p:nvPr/>
        </p:nvPicPr>
        <p:blipFill>
          <a:blip r:embed="rId1"/>
          <a:stretch/>
        </p:blipFill>
        <p:spPr>
          <a:xfrm>
            <a:off x="3252960" y="4038480"/>
            <a:ext cx="2666880" cy="179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Tahoma"/>
              </a:rPr>
              <a:t>CAUTI 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228240" y="23623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ed the trai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aged frontline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7" name="Picture 5" descr="Who let the Bugs in! &#10;How bacterial invasion occurs. &#10;- Up the external surface of catheter UTI early after insertion ? lack of asepsis during insertion    &#10;- Up the internal surface of catheter opening a closed drainage system contaminants due to reflux Improper access for urine specimens &#10;- At the Drainage outlet. Improper drainage of the Foley bag &#10;"/>
          <p:cNvPicPr/>
          <p:nvPr/>
        </p:nvPicPr>
        <p:blipFill>
          <a:blip r:embed="rId1"/>
          <a:srcRect l="1683" t="1214" r="0" b="0"/>
          <a:stretch/>
        </p:blipFill>
        <p:spPr>
          <a:xfrm>
            <a:off x="4419720" y="1600200"/>
            <a:ext cx="3849480" cy="420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rinary Catheter Insertion Compet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veling manneq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 percent of aides and all nurse frequent inserters (ED, OR, WHU, IP rehab, IC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ant remediation and repeat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Slide Number Placeholder 3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38BE-7616-4CA4-A4ED-8DFCB2AE26F4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valuate - Learn from Defect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2895480" y="1600200"/>
            <a:ext cx="42674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67 Competenc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erage 15 min/staff me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1 aides, 126 nur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456840" y="28191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per clean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per glov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taminated fie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dn’t know needleles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th port for specimens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4156-F594-4293-BEF5-4F548D034D12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ecute New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ment plan for compe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 field competency all aides within 2 months, supervised by 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ly hired aides trained by R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arly aide hands-on demo of compe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Slide Number Placeholder 3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473E-A400-4760-A4C4-BC50FFA3A208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ther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ths flagged with date of inse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ured to le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men collection for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n’t use first urine drained from cathe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 patients – Prior to collection, change catheter unless known change within 7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atients – If catheter in for 7 days must change prior to specimen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neal hygiene prior to c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hn Door” educational po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0" name="Picture 5" descr="Black and white image of a man sitting on a toilet reading a newspaper  "/>
          <p:cNvPicPr/>
          <p:nvPr/>
        </p:nvPicPr>
        <p:blipFill>
          <a:blip r:embed="rId1"/>
          <a:stretch/>
        </p:blipFill>
        <p:spPr>
          <a:xfrm>
            <a:off x="5638680" y="5486400"/>
            <a:ext cx="984240" cy="911160"/>
          </a:xfrm>
          <a:prstGeom prst="rect">
            <a:avLst/>
          </a:prstGeom>
          <a:ln w="0">
            <a:noFill/>
          </a:ln>
        </p:spPr>
      </p:pic>
      <p:sp>
        <p:nvSpPr>
          <p:cNvPr id="1281" name="Slide Number Placeholder 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A5C6-4996-4509-B0A0-6D090860811B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Outcome = Culture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11"/>
          <p:cNvSpPr/>
          <p:nvPr/>
        </p:nvSpPr>
        <p:spPr>
          <a:xfrm>
            <a:off x="228600" y="990720"/>
            <a:ext cx="19051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25 CAUTI’s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4" name="Picture 8" descr="Line graph showing&#10;&#10;3.25 CAUTI’s/Month&#10;&#10;down to &#10;&#10;1.17 CAUTI’s/Month&#10;&#10;"/>
          <p:cNvPicPr/>
          <p:nvPr/>
        </p:nvPicPr>
        <p:blipFill>
          <a:blip r:embed="rId1"/>
          <a:srcRect l="0" t="16669" r="0" b="0"/>
          <a:stretch/>
        </p:blipFill>
        <p:spPr>
          <a:xfrm>
            <a:off x="228600" y="1798560"/>
            <a:ext cx="8596440" cy="4191120"/>
          </a:xfrm>
          <a:prstGeom prst="rect">
            <a:avLst/>
          </a:prstGeom>
          <a:ln w="0">
            <a:noFill/>
          </a:ln>
        </p:spPr>
      </p:pic>
      <p:sp>
        <p:nvSpPr>
          <p:cNvPr id="1285" name="Text Box 12"/>
          <p:cNvSpPr/>
          <p:nvPr/>
        </p:nvSpPr>
        <p:spPr>
          <a:xfrm>
            <a:off x="7238880" y="1928880"/>
            <a:ext cx="17528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17 CAUTI’s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6" name="Picture 37" descr="Image of a woman with her hand stretched out in the air "/>
          <p:cNvPicPr/>
          <p:nvPr/>
        </p:nvPicPr>
        <p:blipFill>
          <a:blip r:embed="rId2"/>
          <a:srcRect l="22252" t="21755" r="0" b="0"/>
          <a:stretch/>
        </p:blipFill>
        <p:spPr>
          <a:xfrm>
            <a:off x="6248520" y="5867280"/>
            <a:ext cx="72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dentify Why Defects -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U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457200" y="1676520"/>
            <a:ext cx="77724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 competency plan not fo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was on EM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cath patrol not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alence rate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Group 1"/>
          <p:cNvGrpSpPr/>
          <p:nvPr/>
        </p:nvGrpSpPr>
        <p:grpSpPr>
          <a:xfrm>
            <a:off x="382680" y="3429000"/>
            <a:ext cx="7084800" cy="2971800"/>
            <a:chOff x="382680" y="3429000"/>
            <a:chExt cx="7084800" cy="2971800"/>
          </a:xfrm>
        </p:grpSpPr>
        <p:pic>
          <p:nvPicPr>
            <p:cNvPr id="1290" name="Chart 4" descr="Line Chart: No Indicated Reason for Catheter&#10;"/>
            <p:cNvPicPr/>
            <p:nvPr/>
          </p:nvPicPr>
          <p:blipFill>
            <a:blip r:embed="rId1"/>
            <a:stretch/>
          </p:blipFill>
          <p:spPr>
            <a:xfrm>
              <a:off x="382680" y="3498480"/>
              <a:ext cx="6792480" cy="290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1" name="Oval 6"/>
            <p:cNvSpPr/>
            <p:nvPr/>
          </p:nvSpPr>
          <p:spPr>
            <a:xfrm>
              <a:off x="6172920" y="3429000"/>
              <a:ext cx="1294560" cy="1821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Line 8"/>
          <p:cNvSpPr/>
          <p:nvPr/>
        </p:nvSpPr>
        <p:spPr>
          <a:xfrm flipV="1">
            <a:off x="3429000" y="914400"/>
            <a:ext cx="0" cy="325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Execute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New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457200" y="190512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nual competency aide and ED/OR nur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bedded competency orientation/annual skill eval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da item every leadership/staff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ge nurse daily cath pa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monthly staff and phys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Slide Number Placeholder 3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F2CA-BD8C-499D-A88E-B70CD0DEFC40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Execute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New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cath necessity into EM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ider decrease size standard cath - #16 to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D data capture of cath neces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5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B69F-EFF5-4F74-A73E-9D6B33FFE8A9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CUSP - Not a Linear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might have to fight the battle more than once in order to win it.”  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(Margaret Thatc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worry alone. CUSP is a team s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ot for the moon. Even if you miss, you'll land among the stars.”   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(Les Brow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mjskiba@agh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7DDA-C431-4AB6-B6FE-E3DF284865DD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t is not just a simple checkli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Picture 2" descr="Image of an article titled Annals of medicine The check list by Atul Gawande"/>
          <p:cNvPicPr/>
          <p:nvPr/>
        </p:nvPicPr>
        <p:blipFill>
          <a:blip r:embed="rId1"/>
          <a:stretch/>
        </p:blipFill>
        <p:spPr>
          <a:xfrm>
            <a:off x="0" y="1676520"/>
            <a:ext cx="4589640" cy="426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16" name="Picture 3" descr="Image of an article titled the art of medicine Reality check for checklist "/>
          <p:cNvPicPr/>
          <p:nvPr/>
        </p:nvPicPr>
        <p:blipFill>
          <a:blip r:embed="rId2"/>
          <a:stretch/>
        </p:blipFill>
        <p:spPr>
          <a:xfrm>
            <a:off x="4027320" y="3657600"/>
            <a:ext cx="5116680" cy="29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l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ve you ever heard of the Comprehensive Unit-based Safety Program (CUSP) befo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have never heard of CU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have heard of CUSP, but have not implemented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have heard of CUSP, but have not successfully implemented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ve implemented CUSP successfully and actively using it in my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My senior executive regularly attends safety meetings on my unit, and can identify the top three safety issues that our safety team is currently working 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y rarely attends and is out of touch with our unit safety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mittently attends, and is somewhat aware of our unit safety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ends whenever possible, and is aware of our unit’s top three safety iss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) By ensuring that your senior executive is a part of your safety team, meeting monthly with your unit team, and holding your unit team accountable for improving risks surrounding a hospital inquired condition, my unit will be successfully utilizing the executive partnership component of CUSP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, not at 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s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, those are the main elements of the executive partnership component of CU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5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282C-2DFD-4B4E-BD14-4A2F7AD190DF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SP – The Michigan Experien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457200" y="19807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CUSP tied with a technical intervention, such as central line-associated blood stream infection prevention “checklist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404040"/>
                </a:solidFill>
                <a:latin typeface="Calibri"/>
              </a:rPr>
              <a:t>Knowing the difference between adaptive and technical challenges is one of the key tasks of leadership.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</a:rPr>
              <a:t>Ronald A. Heifetz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10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CU Safety Clima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0" name="Picture 7" descr="Chart titled Effect of CUSP on safety Climate that shows percent “Needs Improvement” (pre-CUSP 2004) vs. (Post CUSP 2006)"/>
          <p:cNvPicPr/>
          <p:nvPr/>
        </p:nvPicPr>
        <p:blipFill>
          <a:blip r:embed="rId1"/>
          <a:srcRect l="2479" t="2073" r="2393" b="2154"/>
          <a:stretch/>
        </p:blipFill>
        <p:spPr>
          <a:xfrm>
            <a:off x="1523880" y="1676520"/>
            <a:ext cx="6019920" cy="44258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 txBox="1"/>
          <p:nvPr/>
        </p:nvSpPr>
        <p:spPr>
          <a:xfrm>
            <a:off x="0" y="624852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“Needs Improvement” - Safety Climate Score  &lt;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796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lture / Climate and Outcom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3" name="Group 6"/>
          <p:cNvGrpSpPr/>
          <p:nvPr/>
        </p:nvGrpSpPr>
        <p:grpSpPr>
          <a:xfrm>
            <a:off x="304920" y="1600200"/>
            <a:ext cx="8229600" cy="4495680"/>
            <a:chOff x="304920" y="1600200"/>
            <a:chExt cx="8229600" cy="4495680"/>
          </a:xfrm>
        </p:grpSpPr>
        <p:pic>
          <p:nvPicPr>
            <p:cNvPr id="1124" name="AutoShape 8" descr=""/>
            <p:cNvPicPr/>
            <p:nvPr/>
          </p:nvPicPr>
          <p:blipFill>
            <a:blip r:embed="rId1"/>
            <a:stretch/>
          </p:blipFill>
          <p:spPr>
            <a:xfrm>
              <a:off x="987480" y="5547960"/>
              <a:ext cx="2450520" cy="5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5" name="AutoShape 8" descr=""/>
            <p:cNvPicPr/>
            <p:nvPr/>
          </p:nvPicPr>
          <p:blipFill>
            <a:blip r:embed="rId2"/>
            <a:stretch/>
          </p:blipFill>
          <p:spPr>
            <a:xfrm>
              <a:off x="3426120" y="5554080"/>
              <a:ext cx="2298240" cy="54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AutoShape 8" descr=""/>
            <p:cNvPicPr/>
            <p:nvPr/>
          </p:nvPicPr>
          <p:blipFill>
            <a:blip r:embed="rId3"/>
            <a:stretch/>
          </p:blipFill>
          <p:spPr>
            <a:xfrm>
              <a:off x="5407200" y="5547960"/>
              <a:ext cx="2298240" cy="5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Object 3" descr="Graph that shows % of Respondents Within An ICU Reporting Good Teamwork Climate, No BSI = 5 months or more w/ zero with the caption The strongest predictor of clinical excellence: caregivers feel comfortable speaking up if they perceive a problem with patient care in the middle of the graph. "/>
            <p:cNvPicPr/>
            <p:nvPr/>
          </p:nvPicPr>
          <p:blipFill>
            <a:blip r:embed="rId4"/>
            <a:stretch/>
          </p:blipFill>
          <p:spPr>
            <a:xfrm>
              <a:off x="304920" y="1600200"/>
              <a:ext cx="8229600" cy="412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8" name="Rounded Rectangle 10"/>
            <p:cNvGrpSpPr/>
            <p:nvPr/>
          </p:nvGrpSpPr>
          <p:grpSpPr>
            <a:xfrm>
              <a:off x="2584800" y="2205720"/>
              <a:ext cx="3822120" cy="620640"/>
              <a:chOff x="2584800" y="2205720"/>
              <a:chExt cx="3822120" cy="620640"/>
            </a:xfrm>
          </p:grpSpPr>
          <p:pic>
            <p:nvPicPr>
              <p:cNvPr id="1129" name="Rounded Rectangl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2584800" y="2205720"/>
                <a:ext cx="382212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0" name=""/>
              <p:cNvSpPr/>
              <p:nvPr/>
            </p:nvSpPr>
            <p:spPr>
              <a:xfrm>
                <a:off x="2620440" y="2238480"/>
                <a:ext cx="37504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No BSI = 5 months or more w/ zer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Rounded Rectangular Callout 16"/>
            <p:cNvGrpSpPr/>
            <p:nvPr/>
          </p:nvGrpSpPr>
          <p:grpSpPr>
            <a:xfrm>
              <a:off x="2225160" y="3447720"/>
              <a:ext cx="5010840" cy="2075760"/>
              <a:chOff x="2225160" y="3447720"/>
              <a:chExt cx="5010840" cy="2075760"/>
            </a:xfrm>
          </p:grpSpPr>
          <p:pic>
            <p:nvPicPr>
              <p:cNvPr id="1132" name="Rounded Rectangular Callout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2225160" y="3447720"/>
                <a:ext cx="5010840" cy="207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3" name=""/>
              <p:cNvSpPr/>
              <p:nvPr/>
            </p:nvSpPr>
            <p:spPr>
              <a:xfrm>
                <a:off x="2346480" y="3561840"/>
                <a:ext cx="4300560" cy="10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rebuchet MS"/>
                  </a:rPr>
                  <a:t>The strongest predictor of clinical excellence: Caregivers feel comfortable speaking up if they perceive a problem with patient c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4" name=""/>
          <p:cNvSpPr txBox="1"/>
          <p:nvPr/>
        </p:nvSpPr>
        <p:spPr>
          <a:xfrm>
            <a:off x="3428640" y="65527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Attribution: J. Bryan Sext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9:33:12Z</dcterms:created>
  <dc:creator>Heon-Jae Jeong, MD, MPH, MBA</dc:creator>
  <dc:description/>
  <dc:language>en-US</dc:language>
  <cp:lastModifiedBy>Karen Fleming-Michael</cp:lastModifiedBy>
  <dcterms:modified xsi:type="dcterms:W3CDTF">2013-01-10T15:54:30Z</dcterms:modified>
  <cp:revision>509</cp:revision>
  <dc:subject/>
  <dc:title>Project Report - Lean Sig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Id">
    <vt:lpwstr>0x010100C9DD924C0397EB4AA26B65D1B8E62784</vt:lpwstr>
  </property>
  <property fmtid="{D5CDD505-2E9C-101B-9397-08002B2CF9AE}" pid="6" name="Keywords">
    <vt:lpwstr/>
  </property>
  <property fmtid="{D5CDD505-2E9C-101B-9397-08002B2CF9AE}" pid="7" name="Slides">
    <vt:lpwstr>25</vt:lpwstr>
  </property>
  <property fmtid="{D5CDD505-2E9C-101B-9397-08002B2CF9AE}" pid="8" name="Subject">
    <vt:lpwstr/>
  </property>
  <property fmtid="{D5CDD505-2E9C-101B-9397-08002B2CF9AE}" pid="9" name="_Author">
    <vt:lpwstr>Heon-Jae Jeong, MD, MPH, MBA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