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6298-E76F-4934-8305-0F1E65334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 tex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agram of CUSP#3 Senior Executiv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eral Director &amp;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Medic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dical Staff Organ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Quality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Accred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Credential &amp; Privilidge Re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Office of Clinical Practice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Re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Quality Assu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Safe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Operat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Hospital Pro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&amp; Clinical Suppor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Financi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venue &amp; Reimburs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Medical Reco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Financial Repor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Nursing Officer &amp; Associate Vice Presi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Nursing Practi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spiratory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1EF-392B-4AC2-87F7-9D895039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57B8-9B17-4023-8730-9BFBC4987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575-E421-4B48-8577-6698BD64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of CLABSI Opportunity Estim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BE0-98E0-43D4-BE1F-527E15D1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Opportunity Estimator Conceptual Framework and case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5D1-2987-4DC5-9C69-499F1274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 CLABSI Opportunity Estimator 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147-B16C-4536-93AC-757FCD3E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how the CLABSI Opportunity Estimator 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617-D846-497C-9378-CCB26E5D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04A3-F8D8-48AD-9872-3FED046D7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29E9-B559-47C7-BF59-ADE45B11C6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47AE-E823-427B-BA30-3759156997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47F5-CF53-435A-8742-96E7D122FB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7FFC-50BE-4B40-9F9D-DD2261DE9F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9CD6-7BA7-4D4D-A17E-995515CF8B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4664-7450-4A3F-BA52-C1E23DD90A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AEB2-37D3-47CB-9877-2341E870AF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1585-A196-4755-B4D3-5A93C6AF6A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8068-DAC9-4AE8-95AF-AB926A1148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8D9B-D835-4D56-BA25-BEED0E6A9E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E51D3-5057-4B7A-B592-B3563F6EC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5725-A83A-44D2-B028-9F2869AC28C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FD8D6-67F9-41F4-BB73-B3F544EC80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0CE19-D00B-44E3-A2E3-5A38101452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7CC72-0225-422E-B3ED-AE0CAC7D08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D2072-314A-4D60-A0FE-5CC02A9AE4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06490-65FF-45F6-83B2-0D23917637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113C8-5194-41DD-B399-492E7BA06D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97DEE-F17F-4C92-BE76-BA8EEEE833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E33A86-7CAF-4CD4-9AD5-657C66A26B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DD33F-3F35-4C72-BE9E-5EF8D9D15F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C1887-F293-4D62-AC36-4D2F9FB9F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1E49-9624-4FC0-A319-87F72DC127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4CB3A-1A1C-4562-9B9B-7FF667CD98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73FC-8492-499E-8CD1-B977E617F10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DFF4C-9324-42AF-9C3D-4E0BB77496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961A9-A8BF-426C-B4BF-B459E0F2945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D8C37-753B-4D75-A09F-4BD00F726E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082CE-13EA-4662-82D4-EC0A5F2D87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7884B-5778-46FA-A3F7-FCF3312FC8C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B6C86-BB13-476E-A19F-A7290F98E3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50C78-0822-4622-B675-F8B7AC7EB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321E-F3F5-4536-A4C9-A8223326D3E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90182-C6DF-4883-A41B-83B4B5F1B5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B5E67-4CA2-4504-8340-DC412F9A67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33A07-2C71-4338-B00C-927782781B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BB3AA-338E-4B06-BDDC-E0D67ECADF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23608-2898-47C1-8287-258C2AF348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C768-4A37-43C2-9F62-1C75C05F4F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928D-1604-4265-B863-C2B96C0C38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650A-91B9-4B84-80B6-E0FE4CD07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E0C1-A33C-4405-AF6F-C74D845069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70DC-B22B-4494-83F3-0652917D5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FD4A-9BD2-4E99-BB9B-512F2C42C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FD49-B386-4FBF-9FC2-16C94505C7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EB63-57D8-4E49-B69C-5A25C3A758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18FA-E8D6-4B46-882D-BB978E296F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F5BF-8131-4CF7-9E5D-1EC29B2825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751B-B14C-4B72-AA20-BB994E5282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12A-C489-448E-B792-8118AF7B8B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50D-74A9-4DF1-804D-BF2EB743B3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9D5-0830-42D5-8B6C-8C5B2CD2D6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416-B2EB-42DF-A98F-267092A8F1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D49-65C9-4D83-B686-0EBB2B634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D76F-37E7-4EDB-9E06-2D3A330AEB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CCC-D8C9-40C4-B288-D01E434236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FD5-DCF7-4336-A008-FCF6E8DDD5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4F2-88DE-41B4-9730-A7F2A5CD0A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C29-91CB-4B2C-B1EA-93EF5ECF18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DBB-6C9D-41BB-99AC-DF4FCF6765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27E-9CB2-4B94-B3E2-50A8DAF7F1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C43-26B6-4366-BF5A-3B9050A0F4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1AE95-4093-49C0-A987-07EF1ABDDF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4AAEE-436A-4775-9583-0DBC9CE7F3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D67AB-863C-4176-ADE3-B5436C540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07A6-A6AF-4A39-B329-9A12D86F37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CA619-F6BA-4542-9190-D8E9E6AE3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7E53-1C01-45B4-BB22-469CB6F0C5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F5F4E-CDB7-4562-A6CA-4FC2677E5F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B664-37D3-4ACF-80F2-C9AD2CCBED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DE644-36C7-4850-9702-4C6D0A464C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3C8A5-DAFA-447B-BEF6-6A25B41EBD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B37B-33AA-4B52-AB4D-4A55327897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ECF3A-0028-4EA5-814C-475211014B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FFCE1-7F32-46CD-B442-398E9B7680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0075B-9BCA-4BED-A97C-D9CC4C521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2EC9-60AA-4BA8-9F11-0071EA008A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432C-A178-45B2-AB3F-EC118E6BC1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71D8F-BE36-48DD-8DFF-B4E36EB82C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80343-0C87-486E-A3A6-3CE19C54BD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21202-D376-4B4B-9333-FEB4A591F1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976D0-8F01-44EB-8175-222C93B3B9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EA6CF-7A62-4B8F-A08A-B3C9C9702C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BFB9-3986-4DAE-AFFB-1A095C9D75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DFAC-D38C-4D40-B272-0180878BD4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27FA3-9170-44C1-8B3D-7246429EB4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B0022-3105-4B11-BDA3-B0D931C0B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8ABD-6251-43CF-9FF8-D9B6B95991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7740-2DDD-4EA7-9ACD-87EBFAA8AA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5BB-91C7-414A-9243-7D2DEB998A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87C-50B2-477A-8F50-5F085D1191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34A6-2629-4DFC-A7EF-3F2C4944E7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6E80-8BBF-44B5-8D36-7C5EF5C297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5905-3571-43D1-BCF2-CA40167B8E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FAD4-C0E2-4AD8-9CAA-6E8527C487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348C-D1E2-4137-A7B8-3FF6E0F31A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9BE-22AE-402E-8982-90984D6241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6FE-DB48-469E-B8F1-411B2411B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B372-E7FD-46A7-B5E9-CF27895E76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A437-32F9-435D-AEFB-2C41A42AC4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5F5-4BAD-455F-B1B9-241A02A139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937D-FEEC-488F-B451-11C01F7FB4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22A9A-8BCB-493E-AEBF-21AD209B85F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0CB33-DF4A-4EC3-8940-1EE74F8D19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4B745-9AB8-4887-B3E7-DE7A5E2CFD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88803-60B4-4B40-B47D-A00C6AEF43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2E5A0-1C71-4D8B-8676-6E37D0BA4E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29B24-50AD-4599-BAB5-87FC9DB13B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7F2AE-8434-476B-A2CE-ABECB2E67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891-C47E-439B-A959-956A7614C1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9671A-3C7E-4618-A99C-5D0AC9AC67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CCBD6-7F3C-412F-AB1C-815486573C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961D3-A517-4417-8F1E-2D7D9C59AD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25C59-DE98-4970-B47F-D93927918E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D792D-1BD8-4F43-993F-9717850D0A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10709-ED57-49C6-9D6B-6C248B2B1A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DEB5E-0506-4771-83EE-46CC30851A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FAA0A-375E-4219-B0CB-D387373129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FFDE6-0E9C-41A7-B0AA-85253BC227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2F8C9-EA4E-4ABB-9A04-270776133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EB8B-A845-4535-8272-FB57467465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C715F-F8BB-4826-A2C1-4302C46A07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B6B9F-A122-4E21-A882-38109121D4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694B6-ED1D-4AF4-9800-87B05ECB6D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959EF-CA21-4312-AEDE-E89BB97B20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B4A70-A502-4FDB-B25B-FB8B9BC83D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7F146-D893-4E2C-B3DA-A2B447DDBB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BEE27-8E4E-4BFC-B55E-A24F3D7091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802C-91D0-40E7-8170-EB8A8A8FF8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C91D-661F-443E-961A-3C8571C1BD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4E16-0CEF-4032-8D61-C7C6CF02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3D58-0CFD-4D5E-98A4-745BCB538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DB5-C206-4C94-9A9E-A3FC8E59C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DEE-225E-4DB8-85E4-F4FD30ADD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BB7-E4EC-4CDF-91A3-A5EF07A1D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7F3-BFCB-44F7-873A-1F0D25858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980-0B54-4D15-97DF-09954A5EC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9F1-9BA0-40D4-9CD1-32B1E273B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9E2-6378-4C99-9D77-F41427788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FD56-0685-4551-8CC2-47EEA81F5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85B-9E7D-4423-BF94-6CC8313DA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6FAB-7684-4B7A-90A0-91BE14FA3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pkinsmedicine.org/quality_safety_research_group/our_projects/stop_bsi/toolkits_resources/clabsi_estimator.html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828440" y="43434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ing the CLABSI Opportunity Estimator to Educate, Engage, and Evaluat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Driving Your CLABSI Rate to Zero</a:t>
            </a:r>
            <a:br>
              <a:rPr sz="3500"/>
            </a:br>
            <a:br>
              <a:rPr sz="35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: Jordan Duval-Arnould, M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,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599840"/>
            <a:ext cx="7767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ation st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2240" y="15242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business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s = Lives= Money = Beds = Missed Opportunities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to improve &amp; O/E to evaluat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d into monthly CUS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past perform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current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futur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Content Placeholder 2"/>
          <p:cNvSpPr/>
          <p:nvPr/>
        </p:nvSpPr>
        <p:spPr>
          <a:xfrm>
            <a:off x="19080" y="175248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improve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worsen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160" y="175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iscussing current performance, 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we shoot for next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this mean in tangible terms -- “I think we can save 10 lives in the next month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/E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ata are the infections and central-line days for the baseline period for the collaborative of those that have sub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0 preventable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5 million dollars needlessly sp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,312 additional days in the hos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pportunity Estimator (O/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ng O/E into CUSP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ce of saf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e you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ior executive part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gage senior lea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ols to impr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aluate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/E in 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ion/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Sample of STOP BSI - CLABSI Opportunity Estimator "/>
          <p:cNvPicPr/>
          <p:nvPr/>
        </p:nvPicPr>
        <p:blipFill>
          <a:blip r:embed="rId1"/>
          <a:stretch/>
        </p:blipFill>
        <p:spPr>
          <a:xfrm>
            <a:off x="1447920" y="220968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600200"/>
            <a:ext cx="81532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Diagram of Opportunity Estimator Conceptual Framework and case Example"/>
          <p:cNvPicPr/>
          <p:nvPr/>
        </p:nvPicPr>
        <p:blipFill>
          <a:blip r:embed="rId1"/>
          <a:stretch/>
        </p:blipFill>
        <p:spPr>
          <a:xfrm>
            <a:off x="838080" y="2048040"/>
            <a:ext cx="60422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99840"/>
            <a:ext cx="815328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Sample of  STOP BSI CLABSI Opportunity Estimator References "/>
          <p:cNvPicPr/>
          <p:nvPr/>
        </p:nvPicPr>
        <p:blipFill>
          <a:blip r:embed="rId1"/>
          <a:stretch/>
        </p:blipFill>
        <p:spPr>
          <a:xfrm>
            <a:off x="533520" y="2286000"/>
            <a:ext cx="62118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1"/>
          <p:cNvGrpSpPr/>
          <p:nvPr/>
        </p:nvGrpSpPr>
        <p:grpSpPr>
          <a:xfrm>
            <a:off x="609480" y="2438280"/>
            <a:ext cx="6247080" cy="4006800"/>
            <a:chOff x="609480" y="2438280"/>
            <a:chExt cx="6247080" cy="4006800"/>
          </a:xfrm>
        </p:grpSpPr>
        <p:pic>
          <p:nvPicPr>
            <p:cNvPr id="576" name="Picture 4" descr="C:\dropbox\coe_baseline.jpg"/>
            <p:cNvPicPr/>
            <p:nvPr/>
          </p:nvPicPr>
          <p:blipFill>
            <a:blip r:embed="rId1"/>
            <a:stretch/>
          </p:blipFill>
          <p:spPr>
            <a:xfrm>
              <a:off x="609480" y="2438280"/>
              <a:ext cx="6247080" cy="40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ounded Rectangle 8"/>
            <p:cNvSpPr/>
            <p:nvPr/>
          </p:nvSpPr>
          <p:spPr>
            <a:xfrm>
              <a:off x="4648320" y="31683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ounded Rectangle 9"/>
            <p:cNvSpPr/>
            <p:nvPr/>
          </p:nvSpPr>
          <p:spPr>
            <a:xfrm>
              <a:off x="4648320" y="38541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ounded Rectangle 10"/>
            <p:cNvSpPr/>
            <p:nvPr/>
          </p:nvSpPr>
          <p:spPr>
            <a:xfrm>
              <a:off x="2666880" y="5454720"/>
              <a:ext cx="914400" cy="7617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7521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7720" y="259056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opkinsmedicine.org/quality_safety_research_group/our_projects/stop_bsi/toolkits_resources/clabsi_estimator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47400" y="1599840"/>
            <a:ext cx="8762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of safety &amp; O/E to educate staf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CUSP teams or new hire/staff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before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after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8:06:50Z</dcterms:created>
  <dc:creator>jduvala1</dc:creator>
  <dc:description/>
  <dc:language>en-US</dc:language>
  <cp:lastModifiedBy>Karen Fleming-Michael</cp:lastModifiedBy>
  <dcterms:modified xsi:type="dcterms:W3CDTF">2013-03-01T13:19:49Z</dcterms:modified>
  <cp:revision>81</cp:revision>
  <dc:subject/>
  <dc:title>Slide 1</dc:title>
</cp:coreProperties>
</file>