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6A2-90A1-4A69-9FAC-5FBDE709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 tex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agram of CUSP#3 Senior Executiv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eral Director &amp;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Medic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dical Staff Organ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Quality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Accred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Credential &amp; Privilidge Re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Office of Clinical Practice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Re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Quality Assu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Safe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Operat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Hospital Pro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&amp; Clinical Suppor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Financi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venue &amp; Reimburs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Medical Reco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Financial Repor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Nursing Officer &amp; Associate Vice Presi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Nursing Practi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spiratory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9A6-CD7B-494F-8D56-9DE029E7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999-5EB2-4650-9341-D587F9D0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B691-D5A8-455F-950A-D301620F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of CLABSI Opportunity Estim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0034-137E-4DB3-9277-120D354F6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Opportunity Estimator Conceptual Framework and case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9F5-070E-4F93-B427-C2434C2C7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 CLABSI Opportunity Estimator 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2EC-EC2E-4CDB-B3BB-8F24CC4F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how the CLABSI Opportunity Estimator 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FB3C-E719-44F7-8935-BC4484A4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11F2-1B19-4282-B49E-B0190AAF6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B7DD-926F-458C-8A22-69B594977B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805E-4C79-499D-B6B8-AB3781326E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3773-32B4-4F30-A3CD-5551460E1B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8EDC-1696-4D35-A3BD-2A07203271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621A-A93E-4CE4-A9D2-1ABFD558EB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058A-E850-4941-B84D-3C72A8823F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624E-3C82-40A1-BB0E-B8F35972AD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FB04-0FED-40C2-A761-95FA362D2B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1411-BBEC-41B1-A9AB-5A29D76A28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75E9-29A2-4702-B4D0-B8410ED13D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032F4-1B11-4FFA-92B2-EC6550E7C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C8FE-DC29-48FD-9261-DD396ED7CD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33AB5-3020-4EFA-8761-D2C4028D79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58082-EE6B-4B8A-8C37-4ED51B6820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61B56-11C8-4FDE-9483-EC9301887D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10B0A-C012-4C80-A1A0-C51315F5FB2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29CF0-879F-4BF3-86E2-F1AB8F2B33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1831F-4763-4D9F-BECA-6FF33A5593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3BB02-0AD5-44A9-8DE2-83D78ACE5B3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0B9CF-CEBA-43DA-90C6-F2D3D17B45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1169D-579E-40B4-B837-1C6E6B653E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2A165-DA74-4219-B7E8-F7F2BF2C4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E20C-A686-4814-B791-49D8AE3C4A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ACAAF-6430-42F8-8902-F092B0F2BCD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7B40-FA3B-4870-AEE0-A201FC3E92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17B7A-DF03-4C3C-82B5-A42BF489DE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40066-527F-4929-82DF-D766639874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6F87F-2623-4462-BC91-B175B018E5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0BACE-1AE2-440F-A926-49A1EFFA669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95104-DF85-497F-800B-AF0299CFC35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1644F-9FF9-43E2-AF23-19CC82819D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70283-3220-45DF-9B34-3FC438DC45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6794-72BE-431E-AED2-6C9D666EA2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E698E-CCE7-4A14-B43E-5E5BFCFDFE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91401-8998-4045-B29C-C0285E8997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81A86-20E2-4AD9-80AE-A14B7DC81B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58473-C6C6-47F9-92D5-025AD837E1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D0CD3-9ED0-401B-A111-512C4FA413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1DBB-5114-4421-BC2C-05C61F94875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4740-9C92-4BBD-AF5F-2D1CA97566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4CD5-4290-40F9-8B83-337A89C9F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68F9-14BA-48FA-AC2C-EBC77CF2C7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CFDE-62E3-4DC6-B007-EF417A0BB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257F-5D98-44F8-B9FC-B19DE1BDE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F29F-D69B-435F-B23C-E5E381320C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D999-ECC8-4F59-B5EF-D4857BE2CC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DF7C-9D98-4ECD-87EB-6CAB0CAE9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EE6E-C4C4-451F-96A9-E01004CC7D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C2E7-B163-4892-A013-52BF0E82CC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F02-704D-4420-B2EE-E54A219655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4AE-F360-42DC-9855-E7DB03A447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644-BFE7-4843-A73B-B289F2AFA5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531-495D-443B-BDD7-C59EC98FE3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C48-7E25-4B4B-A3FE-AD2141788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035D-614F-479A-B4C2-12A393AD44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263-CBFD-4A95-BFCD-B769ACA9AC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6F7-5503-42E2-83D2-3241832285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31D-19C4-4973-97EE-0D985D78F0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4AB-5B88-46F6-AF15-38D0908F72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23A-856C-4E9F-8EE7-40EA6D3D57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4F0-EEB8-44EE-AD29-5EEAE21ABE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117-36D9-4B04-AC9F-2A715C6A34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1286-EF68-4699-AB10-B52F2BCEA1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6499C-C916-4AFD-A19B-04C81AC94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3FF1-A7E2-4587-8459-1CF5BFC3B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CAF9-B8CE-4D6E-BD1F-EB5E1D5138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D9F23-3A79-458B-B8E1-A07BAD0D55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9142-11A2-459B-9C4D-563CF03BD7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D588-D658-49A3-8714-612D0B0344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0F90C-23E2-4651-9F3F-B8D798C268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7B50-06FF-4F05-BC03-19626CE1EF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0BA6E-0252-4172-B812-66249B219F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47BAB-24DF-4F63-98D1-4E9E28C39A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41FE3-3C95-4528-B407-BE65704050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FE56-061D-4C18-8927-2E55715426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E6088-CBAA-4479-9D25-433ABEDFB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5866-D8CC-43FE-A199-4AB2C302F6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8AF65-F374-421F-84D2-8379684B61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4362-5253-410E-AF1B-DC887BF8B1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46B8-87D5-40AD-9775-77F9A36B69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5267-BD16-4ECC-B649-EB1B1F7022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C1867-7859-42EC-B951-63200659CD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6D905-1A0D-4BC1-8EB9-228A96063E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7502-56F6-476F-9FAE-D2FEEEA543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0E684-D2D7-4F35-8110-4893F206DB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8036-5C6C-4609-A3C0-8FEAE1EDD6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A6364-6CB6-401A-B112-DA46761A3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098E-5691-441A-84A9-0EDB4D0D3A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87C00-0848-4198-9CF2-17BFE801DE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7C3-53E8-45DF-807F-479AA90807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99B-5CBC-4CA8-9E8A-1C51FCE88B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A95-E913-41D5-AFCE-50CB65190C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CCF1-AE1A-4B54-B44D-F31193EE27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181-B8D3-4BE8-AF83-58BE3B649B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E25-8582-49FB-85D6-69AAE2F885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A217-9545-4FF9-AE31-A508EBE807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DBDE-34B3-49A3-B666-9C94962BF5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5B85-DFB7-4CF8-A3BA-02B5603F9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7A8A-CA74-4801-BC79-7CB9FE86B2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60E-E29A-4CE9-A16D-AD4ED63305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910-39F2-4660-831D-E4063FB9FE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A517-0606-456A-92AE-4E73089A9C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CD1E2-C3B3-4A24-AB87-A85E0EBB71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9A349-7AA6-40EC-8967-97A5A58E25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5DDE9-923F-433D-94EE-45E9B339C0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86651-A3F9-4175-9049-84B3992E17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AC63A-5B7F-48ED-89A8-B747F45E30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6C979-BB82-4D60-A338-3FBBD885B5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F7586-7E5D-4B20-8FD6-1F70369B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32D7-ABEC-4206-ABCA-76F3332668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8E9B3-164F-4CFF-8664-731253026B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79209-6B07-4289-9DCA-2C7D41CB51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F3A61-EA46-4DA7-9C95-954286BA06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A88DD-F57D-4805-A430-436A6420A3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522EF5-3623-4F76-BBC6-30022761A9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27646-0B85-4EBB-8CED-747E658827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68D3-315A-4C03-8652-6629224A22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558EA-2E30-4679-A8F3-6108E1895F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7B2F6-5F67-41F6-90F4-E280D83F62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A3E12-C640-468B-9161-ADB4605AB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1C48-7C84-4A40-8FC9-620F4A6C4F6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C66A6-72D6-4C9D-8F46-49971ECE33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0421D-320A-415A-9F1E-16808AC075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DC92D-1657-4FA9-9332-F554710E47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3D97C-F8C2-4F9D-9750-20BCF7D2AF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64C22-A359-4857-ABE6-963C3D37EA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D4E83-2791-4447-B489-50A966C320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E272E-D0F8-44DD-B71F-346D106B7F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E916-40A9-4B17-8935-18890DCD12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6831-1C65-452E-937D-FA8BFAA2C7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F940-5812-4394-8DCE-20180EBF4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211-B098-40D6-B4FC-67AE76E5A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2227-618B-4C98-8520-D23A3E2BB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E70-7110-4FAF-963B-4A1A0FCEF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BBE-5566-494F-9D76-E67C6534A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D59-A393-4EAE-8BA5-F9556962C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039-9333-4751-9591-4858064ED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1F8-1EF3-4BB2-9E28-8E46B3C5D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C10-A297-4694-A8F0-10B40C336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B3D-2B23-4CA6-9670-9A4E47AD6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56B7-B200-4050-A9CC-B82739A06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1033-EDA8-4C8C-A2DD-0557A3E43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pkinsmedicine.org/quality_safety_research_group/our_projects/stop_bsi/toolkits_resources/clabsi_estimator.html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828440" y="43434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ing the CLABSI Opportunity Estimator to Educate, Engage, and Evaluat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Driving Your CLABSI Rate to Zero</a:t>
            </a:r>
            <a:br>
              <a:rPr sz="3500"/>
            </a:br>
            <a:br>
              <a:rPr sz="35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: Jordan Duval-Arnould, M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,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599840"/>
            <a:ext cx="7767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ation st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2240" y="15242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business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s = Lives= Money = Beds = Missed Opportunities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to improve &amp; O/E to evaluat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d into monthly CUS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past perform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current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futur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Content Placeholder 2"/>
          <p:cNvSpPr/>
          <p:nvPr/>
        </p:nvSpPr>
        <p:spPr>
          <a:xfrm>
            <a:off x="19080" y="175248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improve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worsen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160" y="175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iscussing current performance, 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we shoot for next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this mean in tangible terms -- “I think we can save 10 lives in the next month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/E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ata are the infections and central-line days for the baseline period for the collaborative of those that have sub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0 preventable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5 million dollars needlessly sp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,312 additional days in the hos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pportunity Estimator (O/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ng O/E into CUSP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ce of saf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e you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ior executive part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gage senior lea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ols to impr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aluate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/E in 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ion/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Sample of STOP BSI - CLABSI Opportunity Estimator "/>
          <p:cNvPicPr/>
          <p:nvPr/>
        </p:nvPicPr>
        <p:blipFill>
          <a:blip r:embed="rId1"/>
          <a:stretch/>
        </p:blipFill>
        <p:spPr>
          <a:xfrm>
            <a:off x="1447920" y="220968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600200"/>
            <a:ext cx="81532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Diagram of Opportunity Estimator Conceptual Framework and case Example"/>
          <p:cNvPicPr/>
          <p:nvPr/>
        </p:nvPicPr>
        <p:blipFill>
          <a:blip r:embed="rId1"/>
          <a:stretch/>
        </p:blipFill>
        <p:spPr>
          <a:xfrm>
            <a:off x="838080" y="2048040"/>
            <a:ext cx="60422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99840"/>
            <a:ext cx="815328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Sample of  STOP BSI CLABSI Opportunity Estimator References "/>
          <p:cNvPicPr/>
          <p:nvPr/>
        </p:nvPicPr>
        <p:blipFill>
          <a:blip r:embed="rId1"/>
          <a:stretch/>
        </p:blipFill>
        <p:spPr>
          <a:xfrm>
            <a:off x="533520" y="2286000"/>
            <a:ext cx="62118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1"/>
          <p:cNvGrpSpPr/>
          <p:nvPr/>
        </p:nvGrpSpPr>
        <p:grpSpPr>
          <a:xfrm>
            <a:off x="609480" y="2438280"/>
            <a:ext cx="6247080" cy="4006800"/>
            <a:chOff x="609480" y="2438280"/>
            <a:chExt cx="6247080" cy="4006800"/>
          </a:xfrm>
        </p:grpSpPr>
        <p:pic>
          <p:nvPicPr>
            <p:cNvPr id="576" name="Picture 4" descr="C:\dropbox\coe_baseline.jpg"/>
            <p:cNvPicPr/>
            <p:nvPr/>
          </p:nvPicPr>
          <p:blipFill>
            <a:blip r:embed="rId1"/>
            <a:stretch/>
          </p:blipFill>
          <p:spPr>
            <a:xfrm>
              <a:off x="609480" y="2438280"/>
              <a:ext cx="6247080" cy="40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ounded Rectangle 8"/>
            <p:cNvSpPr/>
            <p:nvPr/>
          </p:nvSpPr>
          <p:spPr>
            <a:xfrm>
              <a:off x="4648320" y="31683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ounded Rectangle 9"/>
            <p:cNvSpPr/>
            <p:nvPr/>
          </p:nvSpPr>
          <p:spPr>
            <a:xfrm>
              <a:off x="4648320" y="38541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ounded Rectangle 10"/>
            <p:cNvSpPr/>
            <p:nvPr/>
          </p:nvSpPr>
          <p:spPr>
            <a:xfrm>
              <a:off x="2666880" y="5454720"/>
              <a:ext cx="914400" cy="7617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7521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7720" y="259056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opkinsmedicine.org/quality_safety_research_group/our_projects/stop_bsi/toolkits_resources/clabsi_estimator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47400" y="1599840"/>
            <a:ext cx="8762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of safety &amp; O/E to educate staf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CUSP teams or new hire/staff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before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after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8:06:50Z</dcterms:created>
  <dc:creator>jduvala1</dc:creator>
  <dc:description/>
  <dc:language>en-US</dc:language>
  <cp:lastModifiedBy>Karen Fleming-Michael</cp:lastModifiedBy>
  <dcterms:modified xsi:type="dcterms:W3CDTF">2013-03-01T13:19:49Z</dcterms:modified>
  <cp:revision>81</cp:revision>
  <dc:subject/>
  <dc:title>Slide 1</dc:title>
</cp:coreProperties>
</file>