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DCC8-DFC5-45B5-B5F8-14F4DA146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t tex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agram of CUSP#3 Senior Executiv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neral Director &amp; C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Medical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dical Staff Organiz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Quality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Accredi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Credential &amp; Privilidge Re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Office of Clinical Practice Eval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Patient Rel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Quality Assu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Safe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Operating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Hospital Pro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Patient &amp; Clinical Support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Financial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Revenue &amp; Reimburs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Medical Recor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Financial Repor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Patient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ef Nursing Officer &amp; Associate Vice Presi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Nursing Practic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Respiratory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C05F-0DF6-489C-AA0A-D2D69E08F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70C7-A5EA-41AF-8CF2-C813487F0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9101-829C-4AC7-8FA8-499567DCD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of CLABSI Opportunity Estim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F00F-A1E6-47DE-BD37-214E68831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of Opportunity Estimator Conceptual Framework and case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DE74-9F66-44B3-AA06-AC746CDA0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of  CLABSI Opportunity Estimator Refere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CCEC-3253-4D4B-80D2-CCBD714F8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of how the CLABSI Opportunity Estimator 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3FD2-2A89-46B3-BABD-BE9BE28DF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A657-30BA-423C-8062-9F36FEA29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850C-7FE0-4CE1-90AC-62C5F88FB5F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B1C0-21A6-413E-A3B5-39D82EB6838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144C-5D15-4686-B814-F9410D2BFB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1683-3CE2-4A04-8425-A32DA4868CE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2092-1595-4401-914A-023C1CA5C8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E57A-F04C-4EF6-9C78-37AF258D95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E621-FDAA-4B76-BC5C-0F370B70B68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D31F-7098-47C5-8CD7-9A6BF97692A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E4B7-E5A8-4453-B99A-5EAE457E82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9B9F-7D3F-498B-A48D-5AA0D0AC1F4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F35E3-463F-483E-B610-3D001758F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01E4-0C8B-4CDE-BB62-55F1FE4896E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B0E7A-E5E6-40FF-80D4-A8310885071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A390C-7C8E-452E-A73C-10CC8A0D4BC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6E057-A96C-490F-87B0-625E411B04F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07F26-304F-4FCB-AD12-F17C06B7FCB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0C1C1-AE8E-45D5-B74F-10FE31A3A1F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C1509-F870-4FD0-9854-7255C6B0AB7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EF8B66-35AC-4171-BF79-85FEBC73550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CDE3F-33AC-42DB-8B92-06E9B68E7AC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52F0A-D512-4A8F-9D6F-FBAABC7061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54B54-F693-4E0E-BFDD-9B4C3E1FA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4987-1A99-49B7-AEDD-5532AE08E32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F3504-F4CA-435A-9BAB-F26AAE207CF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D2CA-7A9D-4D0C-AEAF-82257E5ED23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6E784-66BD-45A5-84B6-9ABC59EF95C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36003-2915-49F6-8E13-C93CCC358F9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31983-1969-4EC5-B737-30AF0961185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9F4ED-0A25-4BAA-A451-DFD6E3BE257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9C087-514E-46B2-9F36-B29EC6B346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AF218-30B0-47BB-B922-49F4A9C9F8A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94988-EEA9-4276-926C-F5325D86B7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D42F-8439-4BCA-9DD8-636ABCF64C6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C02AE-02F4-45C6-8005-6F3AE0F21BA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A640E-450E-41F6-952C-1FEE2DAC5BD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C29B2-C2B1-4E27-B6CE-26C7BDA7606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DA77E-E7D9-41DE-9C2B-CBCD69CD091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84F7B9-C0DA-4E68-9C23-1BADE796666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E28E-80D0-4DA8-9A74-0D232913394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9F2C-79BB-43D2-9D84-72FF1F4AC6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1A3C-36AA-438D-869A-8CE93CEDBE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6D0E-79C5-41CB-A6C1-61816E9A72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1180-8037-4D54-86EB-949D29D72D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8BF4-D1D1-42F5-8C66-446810793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72F4-25A0-4122-93E4-123B358E30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CAFE-237A-4F9A-81F5-43E9522681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AD17-44A3-4154-B65C-2820BAE07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E270-338F-4DA4-BF30-0AD04E3ABD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05FE-7DBB-4528-B9C3-915C0EE514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509-C424-4DD8-B3AA-50535048C3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116-8B91-490D-B9FC-2C7A462ACA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621-22DD-47E3-B101-84E50A0DEB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A50-99FB-4599-A2C4-FE4E8DD0C1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1BA-B9A1-457E-BEDD-451ADA17B0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9ED2-0D0A-421A-B1FB-9E1DE4B0B5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5CA-C939-4976-B365-89A4DF0280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01E-8470-4667-A79C-89DC7DD828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906-49BC-4CB6-B9CF-01F664C498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961-BF35-4731-A667-F37106C1CA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FF1-B496-404F-B3CE-986F022CAE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44F-8A89-4A1D-B8FB-95E45DE422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DD8-9C2E-45A6-AA73-DDA56EAC7C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D3560-AEC3-4043-92F1-7721FB33F1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75FA0-AE74-4C02-8B25-E287C81DE5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F5233-9E5C-4862-9F16-56B6AE422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0AE0-1538-4E34-A70E-C3560D542A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866CB-4919-425F-A738-0B20182BDD2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BFE78-3C61-4E27-BEC7-BD587AB953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0461B-66B2-490E-9086-57A25AC50D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242FF-741D-4A8F-AEB1-3EC07A924A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9B53B-0EF6-417B-9824-F5D40214DD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31E97-8E16-4EC2-BBC4-CC1ADF33C8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672C6-9E69-4D24-8856-7AEC8E24C3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E49E9-D42D-4C44-88C8-0FD73AF6BD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709A0-7078-4DCF-9564-086CCC312A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1A23C-D0F6-468C-A1B4-9CEA5E041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B505-276B-41B1-A359-57DD8FBBD6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9F400-8B52-4479-BE36-7DF9EBD5BF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67355-C616-42A7-A98F-A7354C05321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2CA40-2BE5-4AC4-B15B-9F465AECA4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55FAA-5984-49DC-A154-BE15719FFC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ACF44-7A38-4B0F-9E92-0E609C799F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E08C8-A14F-48A1-8C7C-B625E0CE8D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E2E4E-4E7B-44D3-8AC2-E39DACE99B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779A2-7261-4B8A-B99C-9F48BE144A6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C80E0-0E9C-4E12-94F9-784973DE80D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7BB4F-7CED-46D2-8D6D-FCB64D2F7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15A7-7C4C-451C-8F15-89FB89919A2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7646D-2491-49D4-89FF-4972950E7B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8A93-7115-4141-85E4-33E4307A40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5FAA-60E1-403C-AC7C-BBCEF77AEA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8570-C35F-4625-BB0F-83D50731349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034D-9F9C-4B39-85F9-FF4F1881AC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2973-9E8A-4F05-90BD-F426889430B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839C-F146-4394-B9B3-55D67BD0B28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871-B83F-4690-8F52-5E3DD95F6F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EEFC-D4C8-4C11-9722-386F1719EF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D05E-8AD4-4FAE-B5C7-41E57BE37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21DD-938C-4896-9D2C-1411B311AE5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78C5-E2E9-4066-AAC5-C81F63FF0A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62C7-A4D6-43E0-8C83-458C3218A2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3056-2B78-4CEC-BC51-3423D6E9BA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6FEA2-4304-4AAD-AE60-6CFFD43916F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E0D07-8AF6-40C1-A2CD-1728079BC55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510BA-3C11-41C3-96C3-F82EC30368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F26EF-364A-4645-B9A4-7ACAB8DD54F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6E3F10-C174-405B-BFF9-21AE918958C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A912C-98EB-4D40-915F-3F11A4B6A58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7EE56-6BAB-432B-AAD2-77F5B48AA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5B72-2F91-4473-8B15-D35A07BC27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5037B-7695-4278-9FCF-DF35B05D8A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6A431-E7AD-4AF2-B7F7-408455034AD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034F1-A89F-4058-9C2C-06D5C83A16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50E04-9CEA-4E84-BD37-4D3F8FAE7D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208BC-8425-45C4-B48C-E3163FC6EB2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F6F70-A558-4DD0-8B56-ACF5ECFF1E7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76242-A731-415A-8904-B9DF67CBAEA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A0555-6C92-4C55-A87D-67A1C7334E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D5236-7FF6-4002-8CE4-0432765CF60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876F5-8D63-46DA-83AE-93B36681A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D673-EADD-4BEF-86B5-4829B32B61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BFEB7-4197-41A3-AEF1-9CFECFE82A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53A55-A660-4D83-9D88-7F9F9A7BC76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7138F-8043-4D14-8888-187F40D0D6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6D183-6BC6-4B42-942A-A7A091A059E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84F50-6860-4A44-B0B5-D44D220E0A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A81F2-A5C9-40EB-9294-5FCEA859FD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A6E70-BD65-4E9D-8033-7F36A8C46FE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9513-8B45-4A03-8A20-8A95F7DCDBB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87FF-8234-4FFA-8C17-52303040599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CB76-8F47-48BD-A8CF-D261AA3F5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6C81-2109-4BE8-B8AE-A4E009D63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BDE2-76A6-47A6-B63F-D8AC352E8C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1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7438-1CAF-42DB-B483-A89035870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AF1E-127D-4AE4-889D-F7509F67D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F0C7-DC35-4F42-8E8A-D3804DA87B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4104-4B1B-45BE-B76F-9674FFB49B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FE55-B694-4E15-BF1B-0141B42FD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B8C0-D15E-417D-95A1-E495FCDC5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C9A9-5974-47CE-A73B-44DBC2942D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95B5-059C-476A-8DE2-9A9E258A7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F2B8-9DD2-4313-A467-BEE94D2F0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pkinsmedicine.org/quality_safety_research_group/our_projects/stop_bsi/toolkits_resources/clabsi_estimator.html" TargetMode="Externa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828440" y="43434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ing the CLABSI Opportunity Estimator to Educate, Engage, and Evaluat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990360" y="18288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Driving Your CLABSI Rate to Zero</a:t>
            </a:r>
            <a:br>
              <a:rPr sz="3500"/>
            </a:br>
            <a:br>
              <a:rPr sz="35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: Jordan Duval-Arnould, M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,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599840"/>
            <a:ext cx="77673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ior executive partnership &amp; O/E to engage leader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ation sta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62240" y="152424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ior executive partnership &amp; O/E to engage leader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business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ctions = Lives= Money = Beds = Missed Opportunities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6002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ls to improve &amp; O/E to evaluate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ed into monthly CUSP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past perform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goals for current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goals for future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Content Placeholder 2"/>
          <p:cNvSpPr/>
          <p:nvPr/>
        </p:nvSpPr>
        <p:spPr>
          <a:xfrm>
            <a:off x="19080" y="1752480"/>
            <a:ext cx="9144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 performance improve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 performance worsen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33160" y="175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iscussing current performance, 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n we shoot for next mont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this mean in tangible terms -- “I think we can save 10 lives in the next months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/E in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ata are the infections and central-line days for the baseline period for the collaborative of those that have submit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0 preventable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5 million dollars needlessly sp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,312 additional days in the hos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cussion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pportunity Estimator (O/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grating O/E into CUSP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ience of saf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e your sta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ior executive part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gage senior lea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ols to impro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aluate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/E in a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ussion/ques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Sample of STOP BSI - CLABSI Opportunity Estimator "/>
          <p:cNvPicPr/>
          <p:nvPr/>
        </p:nvPicPr>
        <p:blipFill>
          <a:blip r:embed="rId1"/>
          <a:stretch/>
        </p:blipFill>
        <p:spPr>
          <a:xfrm>
            <a:off x="1447920" y="2209680"/>
            <a:ext cx="5715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8360" y="1600200"/>
            <a:ext cx="815328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" descr="Diagram of Opportunity Estimator Conceptual Framework and case Example"/>
          <p:cNvPicPr/>
          <p:nvPr/>
        </p:nvPicPr>
        <p:blipFill>
          <a:blip r:embed="rId1"/>
          <a:stretch/>
        </p:blipFill>
        <p:spPr>
          <a:xfrm>
            <a:off x="838080" y="2048040"/>
            <a:ext cx="60422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99840"/>
            <a:ext cx="815328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Sample of  STOP BSI CLABSI Opportunity Estimator References "/>
          <p:cNvPicPr/>
          <p:nvPr/>
        </p:nvPicPr>
        <p:blipFill>
          <a:blip r:embed="rId1"/>
          <a:stretch/>
        </p:blipFill>
        <p:spPr>
          <a:xfrm>
            <a:off x="533520" y="2286000"/>
            <a:ext cx="62118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28600" y="16002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1"/>
          <p:cNvGrpSpPr/>
          <p:nvPr/>
        </p:nvGrpSpPr>
        <p:grpSpPr>
          <a:xfrm>
            <a:off x="609480" y="2438280"/>
            <a:ext cx="6247080" cy="4006800"/>
            <a:chOff x="609480" y="2438280"/>
            <a:chExt cx="6247080" cy="4006800"/>
          </a:xfrm>
        </p:grpSpPr>
        <p:pic>
          <p:nvPicPr>
            <p:cNvPr id="576" name="Picture 4" descr="C:\dropbox\coe_baseline.jpg"/>
            <p:cNvPicPr/>
            <p:nvPr/>
          </p:nvPicPr>
          <p:blipFill>
            <a:blip r:embed="rId1"/>
            <a:stretch/>
          </p:blipFill>
          <p:spPr>
            <a:xfrm>
              <a:off x="609480" y="2438280"/>
              <a:ext cx="6247080" cy="40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ounded Rectangle 8"/>
            <p:cNvSpPr/>
            <p:nvPr/>
          </p:nvSpPr>
          <p:spPr>
            <a:xfrm>
              <a:off x="4648320" y="3168360"/>
              <a:ext cx="1523880" cy="30456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ounded Rectangle 9"/>
            <p:cNvSpPr/>
            <p:nvPr/>
          </p:nvSpPr>
          <p:spPr>
            <a:xfrm>
              <a:off x="4648320" y="3854160"/>
              <a:ext cx="1523880" cy="30456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ounded Rectangle 10"/>
            <p:cNvSpPr/>
            <p:nvPr/>
          </p:nvSpPr>
          <p:spPr>
            <a:xfrm>
              <a:off x="2666880" y="5454720"/>
              <a:ext cx="914400" cy="76176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Opportunity Estim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75212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7720" y="259056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opkinsmedicine.org/quality_safety_research_group/our_projects/stop_bsi/toolkits_resources/clabsi_estimator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ing Into CUSP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47400" y="1599840"/>
            <a:ext cx="8762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ce of safety &amp; O/E to educate staf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CUSP teams or new hire/staff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/E before watching vid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/E after watching vid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8:06:50Z</dcterms:created>
  <dc:creator>jduvala1</dc:creator>
  <dc:description/>
  <dc:language>en-US</dc:language>
  <cp:lastModifiedBy>Karen Fleming-Michael</cp:lastModifiedBy>
  <dcterms:modified xsi:type="dcterms:W3CDTF">2013-03-01T13:19:49Z</dcterms:modified>
  <cp:revision>81</cp:revision>
  <dc:subject/>
  <dc:title>Slide 1</dc:title>
</cp:coreProperties>
</file>