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E99A-3EE5-4ABA-B6C2-9D7333085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5A3-C439-4EC8-B26C-567432E51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2274-1742-4ADC-A969-A20E1F096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8E4D-3EE3-4A54-8972-44CFD35B8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D8E9-8312-4A0C-84BC-D6DDC84A5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800C-6990-4557-A349-82F52E4DC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F78B-9244-4F66-AD3F-91422A576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9B2-BD9E-44A3-82E4-16742816E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C0A-ACC2-486C-96A1-5108A71CE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CDB8-2052-4646-A100-1C24991DE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044-01F2-49E9-A320-32C6EF044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430-B8D4-4879-A0DD-3198354A3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249-7997-4643-8DD3-7091BF0D6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188-995C-46D6-B7BC-30B551849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55A-5597-45A8-98DE-30230C7FB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2AD-2A95-4BC1-AAE5-70A25420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323-1B97-44FC-9042-82B8885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726-AA99-4771-B4D1-9B83338C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967-3673-498F-81E0-7CB2A9C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7B8F-018F-4B12-A27E-154549E8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363A-D73F-4E34-A120-D2C9AB71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7C05-D5C4-4DB9-88E0-FF834FF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E25F-CD39-43E5-822E-4998622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1267-BCB2-4C86-971C-5C7A60C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78B1-4337-4C28-9045-CB40676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77EA-963B-4FCF-BFC3-A70F9BC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4DF-7F9B-4689-A929-A29F597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F497-9B30-4CF8-BB4A-DA116455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7862-19B2-48B6-AE28-1B3F220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7769-D26B-4F7D-A4BA-38A73E1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CF60-A284-44B7-9B78-24B00935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EAF3-DCAC-4603-AE4C-A663703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1E8-707C-4A78-8D95-CF6860A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32C-FDC9-463F-ABE6-5B051699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ECF-B163-45EE-AF36-A337D36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3C4-5E36-4F01-BE52-A7864766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39D-7B67-4651-BC0B-4D606B9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261-5E06-43B1-9714-19DA651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D88-19B2-4907-B40F-9878553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FC5F-9312-410E-BC8C-2AEFBE03F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F7DA-3251-4069-908C-A2C78347F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USP-LOGO-no-tagline.gif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D3A0-C7E0-4A0F-85E3-C4CD9E9FB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10B5-F673-4764-8C58-776420A21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685800" y="388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rganizational Emb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USP to Improve Patient Safety 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8994-F124-4C4B-BD15-8D2FE9F6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local processes and “defects of ca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line patient safety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ian champ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key personnel (e.g., RT in IC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7F19-D261-4189-A8A7-09C4EB99B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ecting CUSP T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BSI-CUSP Collabo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U and ICU/C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perception of safety sc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rmacy, Gen Surg, OR, Medicine, PCU, 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C/CIC and HRP/L&amp;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significant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al Rad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atient units without CUSP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&amp; Spine, Women’s Surgery, Oncology, AS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nity, NICU, Peds,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54D-BB73-4341-AABD-5D3419C25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ril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Picture of Dr. Bryan Sexton.  "/>
          <p:cNvPicPr/>
          <p:nvPr/>
        </p:nvPicPr>
        <p:blipFill>
          <a:blip r:embed="rId1"/>
          <a:stretch/>
        </p:blipFill>
        <p:spPr>
          <a:xfrm>
            <a:off x="5178600" y="2170080"/>
            <a:ext cx="3279600" cy="3543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50532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-day patient safety training – 94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ve one-hour frontline staff patient safety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d rounds on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xecutive Committee di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ty as a System” video at orientation and on HCH 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0DB-F3E1-4CDB-94B1-EFC987952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T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43200" y="19051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CUSP Teams represen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 units and 68% of 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228600" y="685800"/>
            <a:ext cx="8582040" cy="5867280"/>
            <a:chOff x="228600" y="685800"/>
            <a:chExt cx="8582040" cy="5867280"/>
          </a:xfrm>
        </p:grpSpPr>
        <p:sp>
          <p:nvSpPr>
            <p:cNvPr id="141" name="WordArt 4"/>
            <p:cNvSpPr txBox="1"/>
            <p:nvPr/>
          </p:nvSpPr>
          <p:spPr>
            <a:xfrm>
              <a:off x="457200" y="3504960"/>
              <a:ext cx="1247760" cy="99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SIC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142" name="WordArt 5"/>
            <p:cNvSpPr txBox="1"/>
            <p:nvPr/>
          </p:nvSpPr>
          <p:spPr>
            <a:xfrm>
              <a:off x="6477120" y="4952880"/>
              <a:ext cx="15811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CU/CCU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6"/>
            <p:cNvSpPr txBox="1"/>
            <p:nvPr/>
          </p:nvSpPr>
          <p:spPr>
            <a:xfrm>
              <a:off x="3505320" y="4648320"/>
              <a:ext cx="22860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L&amp;D and HR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44" name="WordArt 7"/>
            <p:cNvSpPr txBox="1"/>
            <p:nvPr/>
          </p:nvSpPr>
          <p:spPr>
            <a:xfrm>
              <a:off x="6629400" y="2133360"/>
              <a:ext cx="20764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5 Medicin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5" name="WordArt 8"/>
            <p:cNvSpPr txBox="1"/>
            <p:nvPr/>
          </p:nvSpPr>
          <p:spPr>
            <a:xfrm>
              <a:off x="228600" y="4572000"/>
              <a:ext cx="229536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Emer Center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WordArt 9"/>
            <p:cNvSpPr txBox="1"/>
            <p:nvPr/>
          </p:nvSpPr>
          <p:spPr>
            <a:xfrm>
              <a:off x="6324840" y="3200400"/>
              <a:ext cx="2485800" cy="10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harmacy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7" name="WordArt 10"/>
            <p:cNvSpPr txBox="1"/>
            <p:nvPr/>
          </p:nvSpPr>
          <p:spPr>
            <a:xfrm>
              <a:off x="7010640" y="685800"/>
              <a:ext cx="16761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 Surg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1"/>
            <p:cNvSpPr txBox="1"/>
            <p:nvPr/>
          </p:nvSpPr>
          <p:spPr>
            <a:xfrm>
              <a:off x="4876920" y="5638680"/>
              <a:ext cx="13046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Int Ra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49" name="WordArt 12"/>
            <p:cNvSpPr txBox="1"/>
            <p:nvPr/>
          </p:nvSpPr>
          <p:spPr>
            <a:xfrm>
              <a:off x="1066680" y="1981080"/>
              <a:ext cx="154296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2700000"/>
                  </a:gradFill>
                  <a:latin typeface="Impact"/>
                </a:rPr>
                <a:t>IMC/CI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  <p:sp>
          <p:nvSpPr>
            <p:cNvPr id="150" name="WordArt 13"/>
            <p:cNvSpPr txBox="1"/>
            <p:nvPr/>
          </p:nvSpPr>
          <p:spPr>
            <a:xfrm>
              <a:off x="2590560" y="5638680"/>
              <a:ext cx="733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61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SimSun"/>
                </a:rPr>
                <a:t>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  <a:ea typeface="SimSun"/>
              </a:endParaRPr>
            </a:p>
          </p:txBody>
        </p:sp>
        <p:sp>
          <p:nvSpPr>
            <p:cNvPr id="151" name="WordArt 14"/>
            <p:cNvSpPr txBox="1"/>
            <p:nvPr/>
          </p:nvSpPr>
          <p:spPr>
            <a:xfrm>
              <a:off x="685800" y="685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Arial Black"/>
                </a:rPr>
                <a:t>PC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EF25-ABA6-4796-BBF7-F5F741CC2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457200" y="685800"/>
            <a:ext cx="7812000" cy="5334120"/>
            <a:chOff x="457200" y="685800"/>
            <a:chExt cx="7812000" cy="5334120"/>
          </a:xfrm>
        </p:grpSpPr>
        <p:pic>
          <p:nvPicPr>
            <p:cNvPr id="154" name="Object 50" descr=""/>
            <p:cNvPicPr/>
            <p:nvPr/>
          </p:nvPicPr>
          <p:blipFill>
            <a:blip r:embed="rId1"/>
            <a:stretch/>
          </p:blipFill>
          <p:spPr>
            <a:xfrm>
              <a:off x="3962520" y="685800"/>
              <a:ext cx="430668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51" descr=""/>
            <p:cNvPicPr/>
            <p:nvPr/>
          </p:nvPicPr>
          <p:blipFill>
            <a:blip r:embed="rId2"/>
            <a:stretch/>
          </p:blipFill>
          <p:spPr>
            <a:xfrm>
              <a:off x="457200" y="1447560"/>
              <a:ext cx="3505320" cy="457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B1E-640D-4B96-99ED-6E5749D9B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Team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meets 1-2 times per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Executive Rounds with patient safety leader (PS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on a few defects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hygi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offs and transitions i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ization of care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s and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s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time for patient safety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P All Team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C32-1346-4FA4-B720-710F9A27D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From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 defec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ctors; e.g., staffing, workload, equipment, production pressure, training, fatigue, physical environ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we do to reduce the risk of it recurring with different caregiv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we know the risk was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whom should we share our lear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C70-3476-4507-8E9D-C7B1F65A1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rected Defect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hour per month “secret shopper” from each patient safety leader for three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BSI — Critical car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TI — Med/surg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BSI/VAP/CAUTI defects tool — 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F51-EE24-44D0-B002-B85860133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ed Time for PS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ed up to 12 hours per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d to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 with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plan for th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ing 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ing off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ects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summary of day’s activity to Dr. Phill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hart depicting the number of patient safety leader hours dedicated to CUSP teams.  &#10;&#10;During the first quarter of fiscal year 2012 patient safety leaders were devoting 45.6 hours to the CUSP teams.  &#10;&#10;During the second quarter of fiscal year 2012, patient safety leaders were devoting 164.9 hours to the CUSP teams.  "/>
          <p:cNvPicPr/>
          <p:nvPr/>
        </p:nvPicPr>
        <p:blipFill>
          <a:blip r:embed="rId1"/>
          <a:stretch/>
        </p:blipFill>
        <p:spPr>
          <a:xfrm>
            <a:off x="5029200" y="22860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7C44-4491-4E6D-8D7D-5692D9B7A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All Teams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monthly at two different times and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Ls, managers, and phys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ools and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protected tim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experiences and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182E-EF17-4301-85D0-E9C802065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late an organization’s approach to implementing CUSP in multiple areas of the hospital to reduce harm beyond CLABSI and CAUTI and to improve the overall culture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scuss the mechanics at the hospital level of standing up and supporting 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E56-201C-4348-9D70-F2CE102AC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ventional Radiology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tion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hasize double ve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lerts meds J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dated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ory label al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96B-2704-4833-B0B7-267667565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staining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uring Patient Safety Leaders (PS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protect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ing the CUSP ch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ing physicians and execu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tools without a CUSP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ering new 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new team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ing organizational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373-3094-4173-8B5C-45362C3F2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cusing Our Organizational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utco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ly engaged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perception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driv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open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bur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244F-4591-41FB-8D08-6FFE7B66E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ganizational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retention and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 structure and clinical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d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error repor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Culture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lience Resourc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A04B-533E-47EB-BF81-60AE2269F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il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ility to recover from or adjust easily to misfortune or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ility to become strong, healthy, or successful again after something bad happ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4 F’s: friends, family, faith, 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ilience Resourc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, organize, and communicate about existing resources to combat burn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new initiatives that increase resili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DFA9-678E-478C-BEEF-081CE3119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838080" y="1752480"/>
            <a:ext cx="6324840" cy="4879440"/>
            <a:chOff x="838080" y="1752480"/>
            <a:chExt cx="6324840" cy="4879440"/>
          </a:xfrm>
        </p:grpSpPr>
        <p:sp>
          <p:nvSpPr>
            <p:cNvPr id="190" name="Text Box 2"/>
            <p:cNvSpPr/>
            <p:nvPr/>
          </p:nvSpPr>
          <p:spPr>
            <a:xfrm>
              <a:off x="838080" y="2998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il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"/>
            <p:cNvSpPr/>
            <p:nvPr/>
          </p:nvSpPr>
          <p:spPr>
            <a:xfrm>
              <a:off x="2895480" y="393264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ely Engaged 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3128040" y="218844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 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3200400" y="48668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ff Ret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2743200" y="60505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tient Safe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5334120" y="318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P T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8"/>
            <p:cNvSpPr/>
            <p:nvPr/>
          </p:nvSpPr>
          <p:spPr>
            <a:xfrm flipH="1">
              <a:off x="2133000" y="2499840"/>
              <a:ext cx="114300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4038480" y="2499840"/>
              <a:ext cx="0" cy="14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 flipH="1" flipV="1">
              <a:off x="5181840" y="2499840"/>
              <a:ext cx="91440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 flipH="1">
              <a:off x="4648320" y="3496320"/>
              <a:ext cx="83808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1523880" y="3309480"/>
              <a:ext cx="1828800" cy="15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>
              <a:off x="2133360" y="3309480"/>
              <a:ext cx="99036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4038480" y="4244040"/>
              <a:ext cx="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572000" y="3496320"/>
              <a:ext cx="1905120" cy="24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3962520" y="517824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1066680" y="1752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st 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2438280" y="2001600"/>
              <a:ext cx="6858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1447560" y="2063880"/>
              <a:ext cx="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9BBC-10FC-4836-B542-F6EA3C9C6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per Chesapeake Health, Mary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828800"/>
            <a:ext cx="8305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im Hursey, MBA, Sr. VP, C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udi Webster, RN, BSN, PI Patient Saf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Alt= &quot;&quot;"/>
          <p:cNvPicPr/>
          <p:nvPr/>
        </p:nvPicPr>
        <p:blipFill>
          <a:blip r:embed="rId1"/>
          <a:stretch/>
        </p:blipFill>
        <p:spPr>
          <a:xfrm>
            <a:off x="441360" y="4038480"/>
            <a:ext cx="8261280" cy="23227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2170-6E91-409D-BF8F-7FF12F3E8188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per Chesapeake Heal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y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cute care, not-for-profit hospitals -- Upper Chesapeake Medical Center in Bel Air and Harford Memorial Hospital in Havre de Grace, 30-40 miles northeast of Balti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iliated with the University of Maryland  Medic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f 272 licensed beds and combined total of over 90,000 ED visits and 1,400 deliveries 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3,000 team members and over 600 medical staff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2E9-C84E-4010-AB0D-98761B5B3A21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nior Leadership Commit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371520" y="1395360"/>
            <a:ext cx="8364600" cy="50785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BC4-BA46-4F75-8C76-C1D04296D7EB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nior Leadership Commit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228600" y="1752480"/>
            <a:ext cx="876312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improvements by providing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nonproductive time for participation in collaborative meetings, conference calls, education, and data gathering for frontline TM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behaviors important to the culture of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speak-up and provide nonthreatening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patient safety walkabouts and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executive ro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to T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909-3E44-4691-9F92-0011BFEAFB3F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ly Cross Hospital Silver Spring,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cy Phillips, MD, MACP, Vice President Qual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n Maxwell, Lead Angiography Technicia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Chesapeake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re de Grace and Bel Air,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im Hursey, MBA, Sr. VP, CO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udi Webster, RN, BSN, PI Patient Saf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F9C-FFD9-4A68-AADA-3510AB273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ed biannual patient safety “walkabouts” in the summer of 2010 in all departments and nursing units as part of the evidenced-based Patient Safety Initi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the concept of patient safety walkabouts and presented short agenda of “hot topic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imulate open discussion, we used the results of AHRQ Patient Safety Culture Survey completed in December 200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6D02-9B8B-49E8-AEA0-39CF1A7A2912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:CLABSI Collaborative Project started November 2010, calling for monthly rounds in 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staff safety assessment as the basis for initial talking points for senior leadership to create a less threaten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orum for discussion of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04A2-1D37-4C23-9BA5-9D55CC5D94A3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lexibility is a Neces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5" hidden="1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228600" y="18288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an by scheduling one hour in each ICU, at each facility, every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Difficult for senior leaders’ schedu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chedule-keeper” needs to understand the importance of making walkabouts a pri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60 minutes is too long for all involved – Clinical TM could not be away from patients that long, senior leaders running to next meeting – very stressful for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FB2-5204-4FB1-AF9C-213A728C2A85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ICU r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30-minute sessions; can accomplish everything in about 20 minutes on the I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Quarterly rounds to remainder of departments/nurs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vite all TM to participate – EVS, Dietary, Rehab, Respiratory and Vascular Access Team, etc., are encouraged to participate in walkabouts on the nursing units when they are there – dates and times advertised and sent to managers and directors for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All levels of leadership and PI Patient Safety Coordinator  particip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Use a grid to track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896-CD76-4E9B-851E-EB6F2F7D77DD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ountability- The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7352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d a spreadsheet for each unit/depar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 Patient Safety Coordinator records all issues presented and maintains the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hip is assigned to follow up on the item, their VP no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Target completion dates are assig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preadsheet is emailed to all leaders for their follow up and posting in each unit/department TM common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ome issues (process) are referred to Unit-Based Nurse Practice Councils or the larger Nurse Practice Council for re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 send updates for the spreadsheet as items/issues are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 responsible for communicating grid to 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F54D-E277-4B8C-91A1-A53033A7CE6D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Walkabout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0" y="1752480"/>
            <a:ext cx="9144000" cy="3581640"/>
            <a:chOff x="0" y="1752480"/>
            <a:chExt cx="9144000" cy="358164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Slide Number Placeholder 1"/>
          <p:cNvSpPr/>
          <p:nvPr/>
        </p:nvSpPr>
        <p:spPr>
          <a:xfrm>
            <a:off x="0" y="64231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10D-5F86-4BCB-9919-481404D85797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lkabout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rt agendas are go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art with a topic that is a patient safety go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t topic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e st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view status of open issues from previous vis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Discussion of TM patient safety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sten to all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k for solu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arge nurse phones &amp; alarm fatig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RT Responders Medication Ac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A9A2-2D94-497B-B336-2A0ACDB7B89E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It’s a marathon, not a s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Find what works for you and your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Involve physician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Value team members – they have lots of great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F44-6345-4C78-A428-7DFA723B10DD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Alt= &quot;&quot;"/>
          <p:cNvPicPr/>
          <p:nvPr/>
        </p:nvPicPr>
        <p:blipFill>
          <a:blip r:embed="rId1"/>
          <a:stretch/>
        </p:blipFill>
        <p:spPr>
          <a:xfrm>
            <a:off x="2666880" y="2362320"/>
            <a:ext cx="3505320" cy="3435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19D-385F-4F0A-91F5-7A3BE4000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609480" y="380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ly Cross Hos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P Beyond the ICU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y Cross Hospi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ver Spring, Marylan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cy Phillips, MD, MACP, Vice President Quality and Car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n Maxwell, Lead Angiography Technic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3D9-DA89-4B16-BAFC-4DE8F8FF4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ttle 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 teams as the 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H CUSP team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al radiology C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the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C07F-FC3F-46F5-94C5-AD20EB569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ly Cross Hos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of Trinity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hospital in MD-DC subur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ed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serves Montgomery and Prince George’s coun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gomery County’s only teaching hospital for medical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5 licensed beds, including 46 in the NI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,321 medical staff and 3,062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Y11 annual discharges: 33,2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atient registrations: 170,3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geries: 13,2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ergency center: 88,12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334120" y="0"/>
            <a:ext cx="3809880" cy="6858000"/>
            <a:chOff x="5334120" y="0"/>
            <a:chExt cx="3809880" cy="685800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rcRect l="749" t="2871" r="749" b="2871"/>
            <a:stretch/>
          </p:blipFill>
          <p:spPr>
            <a:xfrm>
              <a:off x="5334120" y="4936680"/>
              <a:ext cx="3809880" cy="19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" descr="top perf key set 2 resized"/>
            <p:cNvPicPr/>
            <p:nvPr/>
          </p:nvPicPr>
          <p:blipFill>
            <a:blip r:embed="rId2"/>
            <a:stretch/>
          </p:blipFill>
          <p:spPr>
            <a:xfrm>
              <a:off x="6934320" y="0"/>
              <a:ext cx="2209680" cy="28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4792-19E7-40AC-B81C-45BA25C50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CH Patient Safety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natal Patient Safety Initi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p Out Sepsis campa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ring experienced n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U multidisciplinary 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influenza immu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universa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Safety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cause analysis, FM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pre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, etc.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B60-EED3-49FF-A8E4-230E937E5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cember 2010 AHRQ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458640" y="1365120"/>
            <a:ext cx="8539200" cy="5511960"/>
            <a:chOff x="458640" y="1365120"/>
            <a:chExt cx="8539200" cy="5511960"/>
          </a:xfrm>
        </p:grpSpPr>
        <p:pic>
          <p:nvPicPr>
            <p:cNvPr id="121" name="Object 50" descr=""/>
            <p:cNvPicPr/>
            <p:nvPr/>
          </p:nvPicPr>
          <p:blipFill>
            <a:blip r:embed="rId1"/>
            <a:stretch/>
          </p:blipFill>
          <p:spPr>
            <a:xfrm>
              <a:off x="3278160" y="1365120"/>
              <a:ext cx="1497600" cy="55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ject 51" descr=""/>
            <p:cNvPicPr/>
            <p:nvPr/>
          </p:nvPicPr>
          <p:blipFill>
            <a:blip r:embed="rId2"/>
            <a:stretch/>
          </p:blipFill>
          <p:spPr>
            <a:xfrm>
              <a:off x="458640" y="2152440"/>
              <a:ext cx="291348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3"/>
            <a:stretch/>
          </p:blipFill>
          <p:spPr>
            <a:xfrm>
              <a:off x="4726080" y="2667960"/>
              <a:ext cx="4271760" cy="29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E2C8-7195-4ECD-9A04-D89DB3D2E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ll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ke Patient Safety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mber 2010 AHRQ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yland Hospital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BSI-CUSP Collabo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CUSP teams the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ite Bryan Sexton to Holy 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F663-3F38-4EDD-86C7-C1A84D7C4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6:22Z</dcterms:created>
  <dc:creator>ptedrick</dc:creator>
  <dc:description/>
  <dc:language>en-US</dc:language>
  <cp:lastModifiedBy>Karen Fleming-Michael</cp:lastModifiedBy>
  <dcterms:modified xsi:type="dcterms:W3CDTF">2013-01-29T18:09:05Z</dcterms:modified>
  <cp:revision>54</cp:revision>
  <dc:subject/>
  <dc:title>Slide 1</dc:title>
</cp:coreProperties>
</file>