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1.jpeg" ContentType="image/jpeg"/>
  <Override PartName="/ppt/media/image13.wmf" ContentType="image/x-wmf"/>
  <Override PartName="/ppt/media/image8.jpeg" ContentType="image/jpeg"/>
  <Override PartName="/ppt/media/image18.wmf" ContentType="image/x-wmf"/>
  <Override PartName="/ppt/media/image1.png" ContentType="image/png"/>
  <Override PartName="/ppt/media/image16.wmf" ContentType="image/x-wmf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9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EB1E-8BD2-4347-BB0F-3876B0241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F3FC-1DED-4CB4-9C4D-9F15FA97A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CA1A-830B-4A41-B239-1CFD1683F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301A-7476-4309-A18F-C6B71A660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7798-D944-4192-8589-A93FF9DF9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AB94-8910-48E0-9069-1CA953801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E7B1-0594-4851-8C08-9F3B2C814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7A77-EF88-4364-9BC8-799A43FD4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6591-4F00-491B-B274-631FD021C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7620-519C-4C2B-B482-8ABE2428C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8A2D-A1C4-4258-A415-E931A310B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B2B3-CBC5-46C7-BD95-34D2B36D9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8DB7-A290-48AD-8146-13EFE8610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B523-93A7-4D7B-AACF-9044FD2E4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4516-348A-43BB-AF2D-72C9D9EA0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C66-3496-4A6A-B33C-778190D6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52FC-52C9-43EB-B2CC-D5AFF1AC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30E-63FE-417F-8D76-4BAA54A5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5E1-3F76-4CEF-BC4F-461D06AE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4942-AEE9-4097-A1BC-77CB4388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E65C-A2BD-483B-BF65-DC48FE8D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4445-C3DB-4F9E-862B-2919E743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601A-6878-414F-803B-3D1A7664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57F9-F716-43DD-82B1-A6F034F7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76AE-85B1-426B-A750-E092BD51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9CDD-67D2-4940-A8D2-748C55CD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58B-3087-4ED9-B9A0-D11CB336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2640-C027-4B90-91CA-8C5916D3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57C2-54A3-4B2B-B5A9-42E8D7B2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6573-0B61-41F4-BF4C-955A1314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B417-6BAA-4E65-9BEA-7D04919B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D71D-F4A7-4FFE-A686-02E9F729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EBEC-E248-4CBA-B395-6306A87B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E4F-AD39-400F-93CD-7CA92E51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8DD-92A5-47CD-8429-F722612A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B4BC-E2BC-47F1-9462-DC6A65B4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442-6144-4645-A16C-CB5639BB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E1A-F8C2-47A5-89CA-605CE509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396-6AE2-491A-B207-A00594CE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BB66-4808-47D7-AB2C-CD4B4F4247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86CE-BB72-4A90-BC98-FBFFFDB79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CUSP-LOGO-no-tagline.gif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7067-DF80-4CEF-BC27-AFC6209B7A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7F27-0567-4BE8-BC9B-72EE95B0E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685800" y="3888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BSI Supplemental Call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rganizational Emb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 CUSP to Improve Patient Safety </a:t>
            </a:r>
            <a:br>
              <a:rPr sz="4400"/>
            </a:b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ch 20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89E8-84EE-4365-A51E-20680B62A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local processes and “defects of car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ntline patient safety l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ian champ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ive part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ntline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key personnel (e.g., RT in IC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8B60-40F7-4282-8A2A-9819AFC90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lecting CUSP Te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001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BSI-CUSP Collabor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CU and ICU/CC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perception of safety sc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armacy, Gen Surg, OR, Medicine, PCU, 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ed Un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C/CIC and HRP/L&amp;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 significant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entional Rad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atient units without CUSP Te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&amp; Spine, Women’s Surgery, Oncology, AS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ernity, NICU, Peds, Ob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63A9-36F4-4462-8BF9-2A0A0C8B5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pril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Picture of Dr. Bryan Sexton.  "/>
          <p:cNvPicPr/>
          <p:nvPr/>
        </p:nvPicPr>
        <p:blipFill>
          <a:blip r:embed="rId1"/>
          <a:stretch/>
        </p:blipFill>
        <p:spPr>
          <a:xfrm>
            <a:off x="5178600" y="2170080"/>
            <a:ext cx="3279600" cy="3543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505320" cy="58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-day patient safety training – 94 individ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ve one-hour frontline staff patient safety s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nd rounds on patient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l Executive Committee di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fety as a System” video at orientation and on HCH in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16A7-516C-4B71-A5CB-59780F071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P Tea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743200" y="1905120"/>
            <a:ext cx="3581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 CUSP Teams represen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4 units and 68% of frontline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17"/>
          <p:cNvGrpSpPr/>
          <p:nvPr/>
        </p:nvGrpSpPr>
        <p:grpSpPr>
          <a:xfrm>
            <a:off x="228600" y="685800"/>
            <a:ext cx="8582040" cy="5867280"/>
            <a:chOff x="228600" y="685800"/>
            <a:chExt cx="8582040" cy="5867280"/>
          </a:xfrm>
        </p:grpSpPr>
        <p:sp>
          <p:nvSpPr>
            <p:cNvPr id="141" name="WordArt 4"/>
            <p:cNvSpPr txBox="1"/>
            <p:nvPr/>
          </p:nvSpPr>
          <p:spPr>
            <a:xfrm>
              <a:off x="457200" y="3504960"/>
              <a:ext cx="1247760" cy="99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Arial Black"/>
                </a:rPr>
                <a:t>SICU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  <p:sp>
          <p:nvSpPr>
            <p:cNvPr id="142" name="WordArt 5"/>
            <p:cNvSpPr txBox="1"/>
            <p:nvPr/>
          </p:nvSpPr>
          <p:spPr>
            <a:xfrm>
              <a:off x="6477120" y="4952880"/>
              <a:ext cx="15811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ICU/CCU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3" name="WordArt 6"/>
            <p:cNvSpPr txBox="1"/>
            <p:nvPr/>
          </p:nvSpPr>
          <p:spPr>
            <a:xfrm>
              <a:off x="3505320" y="4648320"/>
              <a:ext cx="22860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L&amp;D and HR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44" name="WordArt 7"/>
            <p:cNvSpPr txBox="1"/>
            <p:nvPr/>
          </p:nvSpPr>
          <p:spPr>
            <a:xfrm>
              <a:off x="6629400" y="2133360"/>
              <a:ext cx="20764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5 Medicine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5" name="WordArt 8"/>
            <p:cNvSpPr txBox="1"/>
            <p:nvPr/>
          </p:nvSpPr>
          <p:spPr>
            <a:xfrm>
              <a:off x="228600" y="4572000"/>
              <a:ext cx="2295360" cy="12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Emer Center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6" name="WordArt 9"/>
            <p:cNvSpPr txBox="1"/>
            <p:nvPr/>
          </p:nvSpPr>
          <p:spPr>
            <a:xfrm>
              <a:off x="6324840" y="3200400"/>
              <a:ext cx="2485800" cy="108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Pharmacy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47" name="WordArt 10"/>
            <p:cNvSpPr txBox="1"/>
            <p:nvPr/>
          </p:nvSpPr>
          <p:spPr>
            <a:xfrm>
              <a:off x="7010640" y="685800"/>
              <a:ext cx="167616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Gen Surg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8" name="WordArt 11"/>
            <p:cNvSpPr txBox="1"/>
            <p:nvPr/>
          </p:nvSpPr>
          <p:spPr>
            <a:xfrm>
              <a:off x="4876920" y="5638680"/>
              <a:ext cx="1304640" cy="87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Int Ra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49" name="WordArt 12"/>
            <p:cNvSpPr txBox="1"/>
            <p:nvPr/>
          </p:nvSpPr>
          <p:spPr>
            <a:xfrm>
              <a:off x="1066680" y="1981080"/>
              <a:ext cx="1542960" cy="83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764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07070"/>
                      </a:gs>
                      <a:gs pos="50000">
                        <a:srgbClr val="ffffff"/>
                      </a:gs>
                      <a:gs pos="100000">
                        <a:srgbClr val="707070"/>
                      </a:gs>
                    </a:gsLst>
                    <a:lin ang="2700000"/>
                  </a:gradFill>
                  <a:latin typeface="Impact"/>
                </a:rPr>
                <a:t>IMC/CI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  <a:ea typeface="Impact"/>
              </a:endParaRPr>
            </a:p>
          </p:txBody>
        </p:sp>
        <p:sp>
          <p:nvSpPr>
            <p:cNvPr id="150" name="WordArt 13"/>
            <p:cNvSpPr txBox="1"/>
            <p:nvPr/>
          </p:nvSpPr>
          <p:spPr>
            <a:xfrm>
              <a:off x="2590560" y="5638680"/>
              <a:ext cx="7333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612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SimSun"/>
                </a:rPr>
                <a:t>O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imSun"/>
                <a:ea typeface="SimSun"/>
              </a:endParaRPr>
            </a:p>
          </p:txBody>
        </p:sp>
        <p:sp>
          <p:nvSpPr>
            <p:cNvPr id="151" name="WordArt 14"/>
            <p:cNvSpPr txBox="1"/>
            <p:nvPr/>
          </p:nvSpPr>
          <p:spPr>
            <a:xfrm>
              <a:off x="685800" y="685800"/>
              <a:ext cx="10666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tile tx="0" ty="0" sx="100000" sy="100000" algn="ctr"/>
                  </a:blipFill>
                  <a:latin typeface="Arial Black"/>
                </a:rPr>
                <a:t>PCU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</p:grpSp>
      <p:sp>
        <p:nvSpPr>
          <p:cNvPr id="1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B462-0481-43B3-8FC5-A24469F2C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4"/>
          <p:cNvGrpSpPr/>
          <p:nvPr/>
        </p:nvGrpSpPr>
        <p:grpSpPr>
          <a:xfrm>
            <a:off x="457200" y="685800"/>
            <a:ext cx="7812000" cy="5334120"/>
            <a:chOff x="457200" y="685800"/>
            <a:chExt cx="7812000" cy="5334120"/>
          </a:xfrm>
        </p:grpSpPr>
        <p:pic>
          <p:nvPicPr>
            <p:cNvPr id="154" name="Object 50" descr=""/>
            <p:cNvPicPr/>
            <p:nvPr/>
          </p:nvPicPr>
          <p:blipFill>
            <a:blip r:embed="rId1"/>
            <a:stretch/>
          </p:blipFill>
          <p:spPr>
            <a:xfrm>
              <a:off x="3962520" y="685800"/>
              <a:ext cx="430668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Object 51" descr=""/>
            <p:cNvPicPr/>
            <p:nvPr/>
          </p:nvPicPr>
          <p:blipFill>
            <a:blip r:embed="rId2"/>
            <a:stretch/>
          </p:blipFill>
          <p:spPr>
            <a:xfrm>
              <a:off x="457200" y="1447560"/>
              <a:ext cx="3505320" cy="457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BF7C-C2BB-4F3B-B4D9-0011F4CFB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P Team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m meets 1-2 times per 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e Executive Rounds with patient safety leader (PS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on a few defects at a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 hygi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 offs and transitions in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ization of care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lies and equi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ers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ed time for patient safety l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P All Teams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F088-ABDC-48D1-8F52-A99F7BFB0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arning From De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happened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ef defect d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did it happ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ctors; e.g., staffing, workload, equipment, production pressure, training, fatigue, physical environ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an we do to reduce the risk of it recurring with different caregiv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ill we know the risk was reduc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whom should we share our learn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B2A7-26E5-4855-A866-FC22AFFAE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rected Defects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 hygi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hour per month “secret shopper” from each patient safety leader for three mon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BSI — Critical care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TI — Med/surg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BSI/VAP/CAUTI defects tool — I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E48E-C5F4-481A-97A6-6FBCD65DF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tected Time for PS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dgeted up to 12 hours per 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ged to patient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edule with mana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 plan for th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dowing on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dowing off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obser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er 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ects of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summary of day’s activity to Dr. Phill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hart depicting the number of patient safety leader hours dedicated to CUSP teams.  &#10;&#10;During the first quarter of fiscal year 2012 patient safety leaders were devoting 45.6 hours to the CUSP teams.  &#10;&#10;During the second quarter of fiscal year 2012, patient safety leaders were devoting 164.9 hours to the CUSP teams.  "/>
          <p:cNvPicPr/>
          <p:nvPr/>
        </p:nvPicPr>
        <p:blipFill>
          <a:blip r:embed="rId1"/>
          <a:stretch/>
        </p:blipFill>
        <p:spPr>
          <a:xfrm>
            <a:off x="5029200" y="2286000"/>
            <a:ext cx="3809880" cy="284796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140B-727F-4151-9009-4025D6382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SP All Teams Me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monthly at two different times and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Ls, managers, and physic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tools and re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protected time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 experiences and b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7EDC-D45A-4282-B1C4-3482CFA37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late an organization’s approach to implementing CUSP in multiple areas of the hospital to reduce harm beyond CLABSI and CAUTI and to improve the overall culture of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iscuss the mechanics at the hospital level of standing up and supporting CUSP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DB26-FB20-4AB1-8D93-BB48F59BA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ventional Radiology CU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tion er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hasize double ver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ob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alerts meds J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dated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ntory label al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le confi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ed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7853-1B86-4B62-88F2-C67C1EFC0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staining CU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uring Patient Safety Leaders (PS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protected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ing the CUSP cha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ing physicians and execu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tools without a CUSP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tering new CUSP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ing new team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ing organizational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8D01-2FE6-47DE-9924-344865497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cusing Our Organizational Eff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y outcom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ly engaged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perception of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y driv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 open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ff burn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AE56-5366-4309-8934-CA902CEE6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rganizational Initia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P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ff retention and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y structure and clinical 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d a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-based error reporting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Culture prin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lience Resource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CC9A-8915-4CEA-98BC-A89BD393D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il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bility to recover from or adjust easily to misfortune or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bility to become strong, healthy, or successful again after something bad happe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4 F’s: friends, family, faith, fit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silience Resource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, organize, and communicate about existing resources to combat burn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 new initiatives that increase resilie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49A8-6B16-4CB3-BD07-AECDD2F85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2"/>
          <p:cNvGrpSpPr/>
          <p:nvPr/>
        </p:nvGrpSpPr>
        <p:grpSpPr>
          <a:xfrm>
            <a:off x="838080" y="1752480"/>
            <a:ext cx="6324840" cy="4879440"/>
            <a:chOff x="838080" y="1752480"/>
            <a:chExt cx="6324840" cy="4879440"/>
          </a:xfrm>
        </p:grpSpPr>
        <p:sp>
          <p:nvSpPr>
            <p:cNvPr id="190" name="Text Box 2"/>
            <p:cNvSpPr/>
            <p:nvPr/>
          </p:nvSpPr>
          <p:spPr>
            <a:xfrm>
              <a:off x="838080" y="29980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il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3"/>
            <p:cNvSpPr/>
            <p:nvPr/>
          </p:nvSpPr>
          <p:spPr>
            <a:xfrm>
              <a:off x="2895480" y="3932640"/>
              <a:ext cx="419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tively Engaged Sta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4"/>
            <p:cNvSpPr/>
            <p:nvPr/>
          </p:nvSpPr>
          <p:spPr>
            <a:xfrm>
              <a:off x="3128040" y="2188440"/>
              <a:ext cx="23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n Commun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5"/>
            <p:cNvSpPr/>
            <p:nvPr/>
          </p:nvSpPr>
          <p:spPr>
            <a:xfrm>
              <a:off x="3200400" y="486684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ff Reten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6"/>
            <p:cNvSpPr/>
            <p:nvPr/>
          </p:nvSpPr>
          <p:spPr>
            <a:xfrm>
              <a:off x="2743200" y="60505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atient Safe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"/>
            <p:cNvSpPr/>
            <p:nvPr/>
          </p:nvSpPr>
          <p:spPr>
            <a:xfrm>
              <a:off x="5334120" y="318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P Te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8"/>
            <p:cNvSpPr/>
            <p:nvPr/>
          </p:nvSpPr>
          <p:spPr>
            <a:xfrm flipH="1">
              <a:off x="2133000" y="2499840"/>
              <a:ext cx="114300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4038480" y="2499840"/>
              <a:ext cx="0" cy="143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0"/>
            <p:cNvSpPr/>
            <p:nvPr/>
          </p:nvSpPr>
          <p:spPr>
            <a:xfrm flipH="1" flipV="1">
              <a:off x="5181840" y="2499840"/>
              <a:ext cx="914400" cy="62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1"/>
            <p:cNvSpPr/>
            <p:nvPr/>
          </p:nvSpPr>
          <p:spPr>
            <a:xfrm flipH="1">
              <a:off x="4648320" y="3496320"/>
              <a:ext cx="83808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1523880" y="3309480"/>
              <a:ext cx="1828800" cy="15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>
              <a:off x="2133360" y="3309480"/>
              <a:ext cx="990360" cy="62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4"/>
            <p:cNvSpPr/>
            <p:nvPr/>
          </p:nvSpPr>
          <p:spPr>
            <a:xfrm>
              <a:off x="4038480" y="4244040"/>
              <a:ext cx="0" cy="62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572000" y="3496320"/>
              <a:ext cx="1905120" cy="242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3962520" y="5178240"/>
              <a:ext cx="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8"/>
            <p:cNvSpPr/>
            <p:nvPr/>
          </p:nvSpPr>
          <p:spPr>
            <a:xfrm>
              <a:off x="1066680" y="17524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st Cul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2438280" y="2001600"/>
              <a:ext cx="68580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1447560" y="2063880"/>
              <a:ext cx="0" cy="8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FF9C-060A-487A-AEF2-4B14935EA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pper Chesapeake Health, Mary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0880" y="1828800"/>
            <a:ext cx="83059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Jim Hursey, MBA, Sr. VP, C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Judi Webster, RN, BSN, PI Patient Saf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 Coord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Alt= &quot;&quot;"/>
          <p:cNvPicPr/>
          <p:nvPr/>
        </p:nvPicPr>
        <p:blipFill>
          <a:blip r:embed="rId1"/>
          <a:stretch/>
        </p:blipFill>
        <p:spPr>
          <a:xfrm>
            <a:off x="441360" y="4038480"/>
            <a:ext cx="8261280" cy="232272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8E5C-83A5-4BD0-BC02-36D0459C6577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pper Chesapeake Health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yl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acute care, not-for-profit hospitals -- Upper Chesapeake Medical Center in Bel Air and Harford Memorial Hospital in Havre de Grace, 30-40 miles northeast of Baltimo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filiated with the University of Maryland  Medical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of 272 licensed beds and combined total of over 90,000 ED visits and 1,400 deliveries an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most 3,000 team members and over 600 medical staff physic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3779-9AD8-4D2B-A308-0B80A60AD212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nior Leadership Commitme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Content Placeholder 2"/>
          <p:cNvSpPr/>
          <p:nvPr/>
        </p:nvSpPr>
        <p:spPr>
          <a:xfrm>
            <a:off x="22860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Content Placeholder 3" descr=""/>
          <p:cNvPicPr/>
          <p:nvPr/>
        </p:nvPicPr>
        <p:blipFill>
          <a:blip r:embed="rId1"/>
          <a:stretch/>
        </p:blipFill>
        <p:spPr>
          <a:xfrm>
            <a:off x="371520" y="1395360"/>
            <a:ext cx="8364600" cy="5078520"/>
          </a:xfrm>
          <a:prstGeom prst="rect">
            <a:avLst/>
          </a:prstGeom>
          <a:ln w="0">
            <a:noFill/>
          </a:ln>
        </p:spPr>
      </p:pic>
      <p:sp>
        <p:nvSpPr>
          <p:cNvPr id="2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14D4-2EAD-4A87-9E31-F19A2B2FD600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36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nior Leadership Commitme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Content Placeholder 2"/>
          <p:cNvSpPr/>
          <p:nvPr/>
        </p:nvSpPr>
        <p:spPr>
          <a:xfrm>
            <a:off x="228600" y="1752480"/>
            <a:ext cx="876312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17524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improvements by providing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nonproductive time for participation in collaborative meetings, conference calls, education, and data gathering for frontline TM and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behaviors important to the culture of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speak-up and provide nonthreatening 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e in patient safety walkabouts and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aborative executive ro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en to T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574F-32AB-4462-9CEA-83B342E26834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ea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ly Cross Hospital Silver Spring, Maryl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ancy Phillips, MD, MACP, Vice President Quality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 Manag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n Maxwell, Lead Angiography Technicia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pper Chesapeake Heal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vre de Grace and Bel Air, Maryl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Jim Hursey, MBA, Sr. VP, CO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Judi Webster, RN, BSN, PI Patient Saf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 Coord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BEEE-6C96-43FD-90A1-99D259E32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Jour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ed biannual patient safety “walkabouts” in the summer of 2010 in all departments and nursing units as part of the evidenced-based Patient Safety Initi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d the concept of patient safety walkabouts and presented short agenda of “hot topic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imulate open discussion, we used the results of AHRQ Patient Safety Culture Survey completed in December 2009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D9AF-87B8-49B8-AE53-777C150DD96A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Jour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P:CLABSI Collaborative Project started November 2010, calling for monthly rounds in I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staff safety assessment as the basis for initial talking points for senior leadership to create a less threatening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forum for discussion of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AB68-B164-4C04-804D-82F2CE8534E2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lexibility is a Neces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5" hidden="1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ontent Placeholder 2"/>
          <p:cNvSpPr/>
          <p:nvPr/>
        </p:nvSpPr>
        <p:spPr>
          <a:xfrm>
            <a:off x="228600" y="1828800"/>
            <a:ext cx="8686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an by scheduling one hour in each ICU, at each facility, every mon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Difficult for senior leaders’ schedu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Schedule-keeper” needs to understand the importance of making walkabouts a prio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60 minutes is too long for all involved – Clinical TM could not be away from patients that long, senior leaders running to next meeting – very stressful for 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E1D2-511F-4799-9445-D455D80D654E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rrent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7616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thly ICU rou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30-minute sessions; can accomplish everything in about 20 minutes on the IC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Quarterly rounds to remainder of departments/nursing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Invite all TM to participate – EVS, Dietary, Rehab, Respiratory and Vascular Access Team, etc., are encouraged to participate in walkabouts on the nursing units when they are there – dates and times advertised and sent to managers and directors for 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All levels of leadership and PI Patient Safety Coordinator  particip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Use a grid to track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C3CA-0B0F-4EA4-AE1D-B68A0CD36595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countability- The Gr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7352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d a spreadsheet for each unit/depart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 Patient Safety Coordinator records all issues presented and maintains the gr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Leadership is assigned to follow up on the item, their VP not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Target completion dates are assig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Spreadsheet is emailed to all leaders for their follow up and posting in each unit/department TM common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Some issues (process) are referred to Unit-Based Nurse Practice Councils or the larger Nurse Practice Council for resolu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Leaders send updates for the spreadsheet as items/issues are resol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Leaders responsible for communicating grid to 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5F9E-FEE0-4ECD-8C9B-39DEE67E6D3C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Walkabout Gr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Group 3"/>
          <p:cNvGrpSpPr/>
          <p:nvPr/>
        </p:nvGrpSpPr>
        <p:grpSpPr>
          <a:xfrm>
            <a:off x="0" y="1752480"/>
            <a:ext cx="9144000" cy="3581640"/>
            <a:chOff x="0" y="1752480"/>
            <a:chExt cx="9144000" cy="3581640"/>
          </a:xfrm>
        </p:grpSpPr>
        <p:pic>
          <p:nvPicPr>
            <p:cNvPr id="24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1752480"/>
              <a:ext cx="91440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9" descr=""/>
            <p:cNvPicPr/>
            <p:nvPr/>
          </p:nvPicPr>
          <p:blipFill>
            <a:blip r:embed="rId2"/>
            <a:stretch/>
          </p:blipFill>
          <p:spPr>
            <a:xfrm>
              <a:off x="0" y="3733920"/>
              <a:ext cx="91440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Slide Number Placeholder 1"/>
          <p:cNvSpPr/>
          <p:nvPr/>
        </p:nvSpPr>
        <p:spPr>
          <a:xfrm>
            <a:off x="0" y="642312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2285-3836-4B06-85AE-9B0854295284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lkabout 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rt agendas are goo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start with a topic that is a patient safety go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ot topic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are sto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view status of open issues from previous visi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pen Discussion of TM patient safety concer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isten to all concer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k for solut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260360" indent="-345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arge nurse phones &amp; alarm fatigu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260360" indent="-345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RT Responders Medication Acc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260360" indent="-345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2669-6030-4C58-B048-CDE42C5071B4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It’s a marathon, not a spr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Find what works for you and your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Involve physician lead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Value team members – they have lots of great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0C1B-DD37-459B-8FCB-AE04D55AEAE7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Question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3" descr="Alt= &quot;&quot;"/>
          <p:cNvPicPr/>
          <p:nvPr/>
        </p:nvPicPr>
        <p:blipFill>
          <a:blip r:embed="rId1"/>
          <a:stretch/>
        </p:blipFill>
        <p:spPr>
          <a:xfrm>
            <a:off x="2666880" y="2362320"/>
            <a:ext cx="3505320" cy="3435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A4BE-A7FB-48E9-8BEF-79F7BA717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609480" y="3808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ly Cross Hos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P Beyond the ICU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y Cross Hospi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ver Spring, Maryland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ancy Phillips, MD, MACP, Vice President Quality and Care Manag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n Maxwell, Lead Angiography Technic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F316-2981-4CCD-AA0A-8D2277E3B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ittle about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P teams as the le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CH CUSP team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ventional radiology CU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l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ng the d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9B66-0CA3-468D-9028-0D48A51EF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ly Cross Hospi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280" y="18284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 of Trinity H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st hospital in MD-DC subur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nded 19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ily serves Montgomery and Prince George’s coun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tgomery County’s only teaching hospital for medical e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55 licensed beds, including 46 in the NIC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,321 medical staff and 3,062 employ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Y11 annual discharges: 33,2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atient registrations: 170,31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rgeries: 13,28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ergency center: 88,12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Group 1"/>
          <p:cNvGrpSpPr/>
          <p:nvPr/>
        </p:nvGrpSpPr>
        <p:grpSpPr>
          <a:xfrm>
            <a:off x="5334120" y="0"/>
            <a:ext cx="3809880" cy="6858000"/>
            <a:chOff x="5334120" y="0"/>
            <a:chExt cx="3809880" cy="6858000"/>
          </a:xfrm>
        </p:grpSpPr>
        <p:pic>
          <p:nvPicPr>
            <p:cNvPr id="113" name="Picture 2" descr=""/>
            <p:cNvPicPr/>
            <p:nvPr/>
          </p:nvPicPr>
          <p:blipFill>
            <a:blip r:embed="rId1"/>
            <a:srcRect l="749" t="2871" r="749" b="2871"/>
            <a:stretch/>
          </p:blipFill>
          <p:spPr>
            <a:xfrm>
              <a:off x="5334120" y="4936680"/>
              <a:ext cx="3809880" cy="192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3" descr="top perf key set 2 resized"/>
            <p:cNvPicPr/>
            <p:nvPr/>
          </p:nvPicPr>
          <p:blipFill>
            <a:blip r:embed="rId2"/>
            <a:stretch/>
          </p:blipFill>
          <p:spPr>
            <a:xfrm>
              <a:off x="6934320" y="0"/>
              <a:ext cx="2209680" cy="28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B1EF-6756-4151-9941-2D6E3991B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CH Patient Safety Initia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natal Patient Safety Initi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mp Out Sepsis campa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ring experienced nur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U multidisciplinary 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datory influenza immu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universal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 Safety Committ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t cause analysis, FM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ll pre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., etc.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8BDD-4589-4C22-847A-45512DD03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cember 2010 AHRQ Surv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458640" y="1365120"/>
            <a:ext cx="8539200" cy="5511960"/>
            <a:chOff x="458640" y="1365120"/>
            <a:chExt cx="8539200" cy="5511960"/>
          </a:xfrm>
        </p:grpSpPr>
        <p:pic>
          <p:nvPicPr>
            <p:cNvPr id="121" name="Object 50" descr=""/>
            <p:cNvPicPr/>
            <p:nvPr/>
          </p:nvPicPr>
          <p:blipFill>
            <a:blip r:embed="rId1"/>
            <a:stretch/>
          </p:blipFill>
          <p:spPr>
            <a:xfrm>
              <a:off x="3278160" y="1365120"/>
              <a:ext cx="1497600" cy="551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Object 51" descr=""/>
            <p:cNvPicPr/>
            <p:nvPr/>
          </p:nvPicPr>
          <p:blipFill>
            <a:blip r:embed="rId2"/>
            <a:stretch/>
          </p:blipFill>
          <p:spPr>
            <a:xfrm>
              <a:off x="458640" y="2152440"/>
              <a:ext cx="2913480" cy="47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"/>
            <p:cNvPicPr/>
            <p:nvPr/>
          </p:nvPicPr>
          <p:blipFill>
            <a:blip r:embed="rId3"/>
            <a:stretch/>
          </p:blipFill>
          <p:spPr>
            <a:xfrm>
              <a:off x="4726080" y="2667960"/>
              <a:ext cx="4271760" cy="291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F78A-6BC3-43C0-A600-39B1EAADC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all 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ke Patient Safety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ember 2010 AHRQ 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yland Hospital Assoc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BSI-CUSP Collabor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CUSP teams the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ite Bryan Sexton to Holy 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52BF-2C15-4EB7-8DEC-68D0DC3B7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22:26:22Z</dcterms:created>
  <dc:creator>ptedrick</dc:creator>
  <dc:description/>
  <dc:language>en-US</dc:language>
  <cp:lastModifiedBy>Karen Fleming-Michael</cp:lastModifiedBy>
  <dcterms:modified xsi:type="dcterms:W3CDTF">2013-01-29T18:09:05Z</dcterms:modified>
  <cp:revision>54</cp:revision>
  <dc:subject/>
  <dc:title>Slide 1</dc:title>
</cp:coreProperties>
</file>