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75E6-3EC2-402F-8EF8-061DF6CF8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EF98-B91D-4011-81CF-AEB036012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317D-206D-4A2D-968A-C85240F3C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3118-380E-4EA6-81FC-0A88FF67C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B46-2150-46F1-8AB2-AE7ED3794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E0FE-8A7B-46CE-A496-B716DD4FF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BE00-7EE0-49B6-B25E-FE2D7A9CF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5184-ADE6-43E9-93CB-CDDC40AE9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B3C-7E9F-4B12-9A0F-C76D30053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20D-0252-4718-BABC-90BF267A3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AC5A-CFD1-46CA-B11D-BDE63A9D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1B5F-DDF0-4B02-ADCB-95113D3F7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8EBF-298F-4AA3-8282-6B106BAD2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25A2-4E9F-43D8-A71B-24C232C2D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567-E684-497C-B71C-7536B5DDA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A29-6BE2-4B7A-9057-77569AD3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91A-F11D-4A29-9353-35D36F5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DEC-61DF-4FAE-BB5F-19D047F4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8E1-2F3D-4855-9D8A-3AB8595E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6AF0-0792-4D5A-865D-46C3E9A8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BE4C-3A6E-448F-9A9E-373432A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E56-FF02-4A9B-B329-B4A9B7F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E8CD-ACC3-4663-81E3-A34C591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287-4AF0-45BD-9E49-D4E3A170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B91-6901-4985-BFFB-52AF0007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35F1-9C4E-4A05-BBC8-8F8415B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8A0-61DD-4C34-A98E-D7FAE56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979-7CAF-4D51-A85B-8A4D833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220A-47FC-49D5-B420-3D9E3B3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F992-C574-453B-9FEC-3E69B41C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DEB-B238-4278-8FBE-CD98FBB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5A65-E2F4-49E0-8CB0-E6FFCEA0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C21-4ABB-4D57-AA6B-B8E28E58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6BB-947B-4004-8DFB-72F8FEA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843-B2E1-4A40-A62A-D59DDFF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98E-DC9D-426F-A2F0-54F9790E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D58-2AA4-4B11-BCF0-4224A1F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1ED-54F0-406F-9B31-0C50496F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A80-9E2D-44C9-9BCF-A10B29A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4445-FD98-4D33-A317-711BD9C5A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38F9-C615-410D-9956-F7AFB5630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USP-LOGO-no-tagline.gif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DE01-75B1-4854-AD22-5B97DC0B4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528F-686F-43DB-BD59-07858EFA3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685800" y="388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rganizational Emb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USP to Improve Patient Safety 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4EE-C980-45AE-AA86-10D5C696E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local processes and “defects of ca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line patient safety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ian champ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key personnel (e.g., RT in IC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957-1732-4794-AEBB-8AC71AE1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ecting CUSP T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BSI-CUSP Collabo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U and ICU/C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perception of safety sc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rmacy, Gen Surg, OR, Medicine, PCU, 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C/CIC and HRP/L&amp;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significant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al Rad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atient units without CUSP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&amp; Spine, Women’s Surgery, Oncology, AS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nity, NICU, Peds,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80AB-7897-4FE1-89F9-2A7DBC893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ril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Picture of Dr. Bryan Sexton.  "/>
          <p:cNvPicPr/>
          <p:nvPr/>
        </p:nvPicPr>
        <p:blipFill>
          <a:blip r:embed="rId1"/>
          <a:stretch/>
        </p:blipFill>
        <p:spPr>
          <a:xfrm>
            <a:off x="5178600" y="2170080"/>
            <a:ext cx="3279600" cy="3543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50532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-day patient safety training – 94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ve one-hour frontline staff patient safety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d rounds on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xecutive Committee di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ty as a System” video at orientation and on HCH 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58BE-80B5-48AA-B3C0-2D7BE5BEC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T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43200" y="19051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CUSP Teams represen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 units and 68% of 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228600" y="685800"/>
            <a:ext cx="8582040" cy="5867280"/>
            <a:chOff x="228600" y="685800"/>
            <a:chExt cx="8582040" cy="5867280"/>
          </a:xfrm>
        </p:grpSpPr>
        <p:sp>
          <p:nvSpPr>
            <p:cNvPr id="141" name="WordArt 4"/>
            <p:cNvSpPr txBox="1"/>
            <p:nvPr/>
          </p:nvSpPr>
          <p:spPr>
            <a:xfrm>
              <a:off x="457200" y="3504960"/>
              <a:ext cx="1247760" cy="99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SIC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142" name="WordArt 5"/>
            <p:cNvSpPr txBox="1"/>
            <p:nvPr/>
          </p:nvSpPr>
          <p:spPr>
            <a:xfrm>
              <a:off x="6477120" y="4952880"/>
              <a:ext cx="15811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CU/CCU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6"/>
            <p:cNvSpPr txBox="1"/>
            <p:nvPr/>
          </p:nvSpPr>
          <p:spPr>
            <a:xfrm>
              <a:off x="3505320" y="4648320"/>
              <a:ext cx="22860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L&amp;D and HR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44" name="WordArt 7"/>
            <p:cNvSpPr txBox="1"/>
            <p:nvPr/>
          </p:nvSpPr>
          <p:spPr>
            <a:xfrm>
              <a:off x="6629400" y="2133360"/>
              <a:ext cx="20764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5 Medicin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5" name="WordArt 8"/>
            <p:cNvSpPr txBox="1"/>
            <p:nvPr/>
          </p:nvSpPr>
          <p:spPr>
            <a:xfrm>
              <a:off x="228600" y="4572000"/>
              <a:ext cx="229536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Emer Center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WordArt 9"/>
            <p:cNvSpPr txBox="1"/>
            <p:nvPr/>
          </p:nvSpPr>
          <p:spPr>
            <a:xfrm>
              <a:off x="6324840" y="3200400"/>
              <a:ext cx="2485800" cy="10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harmacy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7" name="WordArt 10"/>
            <p:cNvSpPr txBox="1"/>
            <p:nvPr/>
          </p:nvSpPr>
          <p:spPr>
            <a:xfrm>
              <a:off x="7010640" y="685800"/>
              <a:ext cx="16761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 Surg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1"/>
            <p:cNvSpPr txBox="1"/>
            <p:nvPr/>
          </p:nvSpPr>
          <p:spPr>
            <a:xfrm>
              <a:off x="4876920" y="5638680"/>
              <a:ext cx="13046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Int Ra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49" name="WordArt 12"/>
            <p:cNvSpPr txBox="1"/>
            <p:nvPr/>
          </p:nvSpPr>
          <p:spPr>
            <a:xfrm>
              <a:off x="1066680" y="1981080"/>
              <a:ext cx="154296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2700000"/>
                  </a:gradFill>
                  <a:latin typeface="Impact"/>
                </a:rPr>
                <a:t>IMC/CI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  <p:sp>
          <p:nvSpPr>
            <p:cNvPr id="150" name="WordArt 13"/>
            <p:cNvSpPr txBox="1"/>
            <p:nvPr/>
          </p:nvSpPr>
          <p:spPr>
            <a:xfrm>
              <a:off x="2590560" y="5638680"/>
              <a:ext cx="733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61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SimSun"/>
                </a:rPr>
                <a:t>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  <a:ea typeface="SimSun"/>
              </a:endParaRPr>
            </a:p>
          </p:txBody>
        </p:sp>
        <p:sp>
          <p:nvSpPr>
            <p:cNvPr id="151" name="WordArt 14"/>
            <p:cNvSpPr txBox="1"/>
            <p:nvPr/>
          </p:nvSpPr>
          <p:spPr>
            <a:xfrm>
              <a:off x="685800" y="685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Arial Black"/>
                </a:rPr>
                <a:t>PC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C7B6-56EE-4279-AA4F-E89417B63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457200" y="685800"/>
            <a:ext cx="7812000" cy="5334120"/>
            <a:chOff x="457200" y="685800"/>
            <a:chExt cx="7812000" cy="5334120"/>
          </a:xfrm>
        </p:grpSpPr>
        <p:pic>
          <p:nvPicPr>
            <p:cNvPr id="154" name="Object 50" descr=""/>
            <p:cNvPicPr/>
            <p:nvPr/>
          </p:nvPicPr>
          <p:blipFill>
            <a:blip r:embed="rId1"/>
            <a:stretch/>
          </p:blipFill>
          <p:spPr>
            <a:xfrm>
              <a:off x="3962520" y="685800"/>
              <a:ext cx="430668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51" descr=""/>
            <p:cNvPicPr/>
            <p:nvPr/>
          </p:nvPicPr>
          <p:blipFill>
            <a:blip r:embed="rId2"/>
            <a:stretch/>
          </p:blipFill>
          <p:spPr>
            <a:xfrm>
              <a:off x="457200" y="1447560"/>
              <a:ext cx="3505320" cy="457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2D3B-E892-43D4-BEA4-84178EFFB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Team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meets 1-2 times per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Executive Rounds with patient safety leader (PS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on a few defects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hygi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offs and transitions i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ization of care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s and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s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time for patient safety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P All Team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F7B0-61C3-456B-AB24-DAFCF9C6B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From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 defec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ctors; e.g., staffing, workload, equipment, production pressure, training, fatigue, physical environ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we do to reduce the risk of it recurring with different caregiv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we know the risk was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whom should we share our lear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5DE-0586-4CFC-9B15-6B83866E9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rected Defect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hour per month “secret shopper” from each patient safety leader for three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BSI — Critical car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TI — Med/surg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BSI/VAP/CAUTI defects tool — 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A9E5-6F73-427B-AFA5-4C9E69F6E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ed Time for PS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ed up to 12 hours per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d to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 with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plan for th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ing 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ing off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ects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summary of day’s activity to Dr. Phill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hart depicting the number of patient safety leader hours dedicated to CUSP teams.  &#10;&#10;During the first quarter of fiscal year 2012 patient safety leaders were devoting 45.6 hours to the CUSP teams.  &#10;&#10;During the second quarter of fiscal year 2012, patient safety leaders were devoting 164.9 hours to the CUSP teams.  "/>
          <p:cNvPicPr/>
          <p:nvPr/>
        </p:nvPicPr>
        <p:blipFill>
          <a:blip r:embed="rId1"/>
          <a:stretch/>
        </p:blipFill>
        <p:spPr>
          <a:xfrm>
            <a:off x="5029200" y="22860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1843-6BCE-4411-8642-0452EA436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All Teams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monthly at two different times and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Ls, managers, and phys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ools and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protected tim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experiences and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8CFF-83DB-4F4F-9903-222D2C187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late an organization’s approach to implementing CUSP in multiple areas of the hospital to reduce harm beyond CLABSI and CAUTI and to improve the overall culture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scuss the mechanics at the hospital level of standing up and supporting 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A848-A211-468F-A098-C265317D8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ventional Radiology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tion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hasize double ve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lerts meds J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dated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ory label al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051-CCFD-4FE4-8E3E-23712181A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staining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uring Patient Safety Leaders (PS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protect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ing the CUSP ch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ing physicians and execu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tools without a CUSP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ering new 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new team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ing organizational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2C8D-4786-4412-BDFA-F6CA4C919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cusing Our Organizational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utco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ly engaged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perception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driv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open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bur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3711-844C-4F29-873B-3D28CDECC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ganizational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retention and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 structure and clinical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d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error repor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Culture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lience Resourc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A4E8-35C7-4BB1-B38A-F616E8502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il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ility to recover from or adjust easily to misfortune or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ility to become strong, healthy, or successful again after something bad happ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4 F’s: friends, family, faith, 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ilience Resourc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, organize, and communicate about existing resources to combat burn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new initiatives that increase resili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0CE-15DA-4B6A-B144-586D25814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838080" y="1752480"/>
            <a:ext cx="6324840" cy="4879440"/>
            <a:chOff x="838080" y="1752480"/>
            <a:chExt cx="6324840" cy="4879440"/>
          </a:xfrm>
        </p:grpSpPr>
        <p:sp>
          <p:nvSpPr>
            <p:cNvPr id="190" name="Text Box 2"/>
            <p:cNvSpPr/>
            <p:nvPr/>
          </p:nvSpPr>
          <p:spPr>
            <a:xfrm>
              <a:off x="838080" y="2998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il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"/>
            <p:cNvSpPr/>
            <p:nvPr/>
          </p:nvSpPr>
          <p:spPr>
            <a:xfrm>
              <a:off x="2895480" y="393264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ely Engaged 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3128040" y="218844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 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3200400" y="48668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ff Ret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2743200" y="60505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tient Safe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5334120" y="318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P T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8"/>
            <p:cNvSpPr/>
            <p:nvPr/>
          </p:nvSpPr>
          <p:spPr>
            <a:xfrm flipH="1">
              <a:off x="2133000" y="2499840"/>
              <a:ext cx="114300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4038480" y="2499840"/>
              <a:ext cx="0" cy="14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 flipH="1" flipV="1">
              <a:off x="5181840" y="2499840"/>
              <a:ext cx="91440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 flipH="1">
              <a:off x="4648320" y="3496320"/>
              <a:ext cx="83808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1523880" y="3309480"/>
              <a:ext cx="1828800" cy="15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>
              <a:off x="2133360" y="3309480"/>
              <a:ext cx="99036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4038480" y="4244040"/>
              <a:ext cx="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572000" y="3496320"/>
              <a:ext cx="1905120" cy="24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3962520" y="517824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1066680" y="1752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st 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2438280" y="2001600"/>
              <a:ext cx="6858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1447560" y="2063880"/>
              <a:ext cx="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30D7-4DD7-42B4-9880-8A710D378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per Chesapeake Health, Mary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828800"/>
            <a:ext cx="8305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im Hursey, MBA, Sr. VP, C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udi Webster, RN, BSN, PI Patient Saf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Alt= &quot;&quot;"/>
          <p:cNvPicPr/>
          <p:nvPr/>
        </p:nvPicPr>
        <p:blipFill>
          <a:blip r:embed="rId1"/>
          <a:stretch/>
        </p:blipFill>
        <p:spPr>
          <a:xfrm>
            <a:off x="441360" y="4038480"/>
            <a:ext cx="8261280" cy="23227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28A2-B0CA-472D-963C-0BD13B61F189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per Chesapeake Heal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y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cute care, not-for-profit hospitals -- Upper Chesapeake Medical Center in Bel Air and Harford Memorial Hospital in Havre de Grace, 30-40 miles northeast of Balti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iliated with the University of Maryland  Medic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f 272 licensed beds and combined total of over 90,000 ED visits and 1,400 deliveries 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3,000 team members and over 600 medical staff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0E41-7523-4AD3-A183-F8196A1D5407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nior Leadership Commit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371520" y="1395360"/>
            <a:ext cx="8364600" cy="50785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FB6-7D7D-4451-AD03-D6610BF607F0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nior Leadership Commit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228600" y="1752480"/>
            <a:ext cx="876312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improvements by providing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nonproductive time for participation in collaborative meetings, conference calls, education, and data gathering for frontline TM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behaviors important to the culture of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speak-up and provide nonthreatening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patient safety walkabouts and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executive ro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to T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8DFC-9238-4CD1-805E-4A450B58C56A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ly Cross Hospital Silver Spring,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cy Phillips, MD, MACP, Vice President Qual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n Maxwell, Lead Angiography Technicia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Chesapeake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re de Grace and Bel Air,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im Hursey, MBA, Sr. VP, CO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udi Webster, RN, BSN, PI Patient Saf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3A9-5B41-4244-818F-2DE5C4018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ed biannual patient safety “walkabouts” in the summer of 2010 in all departments and nursing units as part of the evidenced-based Patient Safety Initi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the concept of patient safety walkabouts and presented short agenda of “hot topic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imulate open discussion, we used the results of AHRQ Patient Safety Culture Survey completed in December 200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C1D7-50E5-4C2E-945E-C83AF35B242F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:CLABSI Collaborative Project started November 2010, calling for monthly rounds in 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staff safety assessment as the basis for initial talking points for senior leadership to create a less threaten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orum for discussion of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99C4-A601-4A6C-A151-981472BE1FB7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lexibility is a Neces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5" hidden="1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228600" y="18288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an by scheduling one hour in each ICU, at each facility, every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Difficult for senior leaders’ schedu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chedule-keeper” needs to understand the importance of making walkabouts a pri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60 minutes is too long for all involved – Clinical TM could not be away from patients that long, senior leaders running to next meeting – very stressful for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387C-06DA-4D16-B0A8-401644DC1D5D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ICU r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30-minute sessions; can accomplish everything in about 20 minutes on the I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Quarterly rounds to remainder of departments/nurs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vite all TM to participate – EVS, Dietary, Rehab, Respiratory and Vascular Access Team, etc., are encouraged to participate in walkabouts on the nursing units when they are there – dates and times advertised and sent to managers and directors for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All levels of leadership and PI Patient Safety Coordinator  particip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Use a grid to track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A5D0-2289-4B1B-B0D5-18926DB19054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ountability- The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7352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d a spreadsheet for each unit/depar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 Patient Safety Coordinator records all issues presented and maintains the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hip is assigned to follow up on the item, their VP no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Target completion dates are assig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preadsheet is emailed to all leaders for their follow up and posting in each unit/department TM common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ome issues (process) are referred to Unit-Based Nurse Practice Councils or the larger Nurse Practice Council for re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 send updates for the spreadsheet as items/issues are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 responsible for communicating grid to 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917-C344-40E5-9A7E-310EFAC29719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Walkabout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0" y="1752480"/>
            <a:ext cx="9144000" cy="3581640"/>
            <a:chOff x="0" y="1752480"/>
            <a:chExt cx="9144000" cy="358164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Slide Number Placeholder 1"/>
          <p:cNvSpPr/>
          <p:nvPr/>
        </p:nvSpPr>
        <p:spPr>
          <a:xfrm>
            <a:off x="0" y="64231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C045-A069-46D7-A5FF-1DCBCB8C5CF0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lkabout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rt agendas are go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art with a topic that is a patient safety go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t topic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e st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view status of open issues from previous vis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Discussion of TM patient safety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sten to all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k for solu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arge nurse phones &amp; alarm fatig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RT Responders Medication Ac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D497-FAB3-4B95-A631-CC2DC9F5D07D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It’s a marathon, not a s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Find what works for you and your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Involve physician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Value team members – they have lots of great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210-2B31-42C9-9114-32C0BEE719BA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Alt= &quot;&quot;"/>
          <p:cNvPicPr/>
          <p:nvPr/>
        </p:nvPicPr>
        <p:blipFill>
          <a:blip r:embed="rId1"/>
          <a:stretch/>
        </p:blipFill>
        <p:spPr>
          <a:xfrm>
            <a:off x="2666880" y="2362320"/>
            <a:ext cx="3505320" cy="3435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0B6B-796A-43EC-A440-14DE523DF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609480" y="380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ly Cross Hos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P Beyond the ICU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y Cross Hospi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ver Spring, Marylan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cy Phillips, MD, MACP, Vice President Quality and Car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n Maxwell, Lead Angiography Technic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1C36-F23C-40DF-903B-F04985234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ttle 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 teams as the 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H CUSP team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al radiology C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the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181-C887-4393-9B2C-EE6BF3380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ly Cross Hos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of Trinity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hospital in MD-DC subur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ed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serves Montgomery and Prince George’s coun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gomery County’s only teaching hospital for medical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5 licensed beds, including 46 in the NI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,321 medical staff and 3,062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Y11 annual discharges: 33,2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atient registrations: 170,3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geries: 13,2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ergency center: 88,12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334120" y="0"/>
            <a:ext cx="3809880" cy="6858000"/>
            <a:chOff x="5334120" y="0"/>
            <a:chExt cx="3809880" cy="685800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rcRect l="749" t="2871" r="749" b="2871"/>
            <a:stretch/>
          </p:blipFill>
          <p:spPr>
            <a:xfrm>
              <a:off x="5334120" y="4936680"/>
              <a:ext cx="3809880" cy="19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" descr="top perf key set 2 resized"/>
            <p:cNvPicPr/>
            <p:nvPr/>
          </p:nvPicPr>
          <p:blipFill>
            <a:blip r:embed="rId2"/>
            <a:stretch/>
          </p:blipFill>
          <p:spPr>
            <a:xfrm>
              <a:off x="6934320" y="0"/>
              <a:ext cx="2209680" cy="28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345D-6F18-4A6E-9E4B-0AD889677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CH Patient Safety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natal Patient Safety Initi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p Out Sepsis campa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ring experienced n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U multidisciplinary 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influenza immu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universa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Safety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cause analysis, FM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pre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, etc.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3C4-432A-4B22-9D68-FF54EE42A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cember 2010 AHRQ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458640" y="1365120"/>
            <a:ext cx="8539200" cy="5511960"/>
            <a:chOff x="458640" y="1365120"/>
            <a:chExt cx="8539200" cy="5511960"/>
          </a:xfrm>
        </p:grpSpPr>
        <p:pic>
          <p:nvPicPr>
            <p:cNvPr id="121" name="Object 50" descr=""/>
            <p:cNvPicPr/>
            <p:nvPr/>
          </p:nvPicPr>
          <p:blipFill>
            <a:blip r:embed="rId1"/>
            <a:stretch/>
          </p:blipFill>
          <p:spPr>
            <a:xfrm>
              <a:off x="3278160" y="1365120"/>
              <a:ext cx="1497600" cy="55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ject 51" descr=""/>
            <p:cNvPicPr/>
            <p:nvPr/>
          </p:nvPicPr>
          <p:blipFill>
            <a:blip r:embed="rId2"/>
            <a:stretch/>
          </p:blipFill>
          <p:spPr>
            <a:xfrm>
              <a:off x="458640" y="2152440"/>
              <a:ext cx="291348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3"/>
            <a:stretch/>
          </p:blipFill>
          <p:spPr>
            <a:xfrm>
              <a:off x="4726080" y="2667960"/>
              <a:ext cx="4271760" cy="29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5679-7E19-48CD-A9E7-435E10A6D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ll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ke Patient Safety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mber 2010 AHRQ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yland Hospital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BSI-CUSP Collabo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CUSP teams the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ite Bryan Sexton to Holy 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5AF-AFDB-4C6B-884F-FDB2EBD35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6:22Z</dcterms:created>
  <dc:creator>ptedrick</dc:creator>
  <dc:description/>
  <dc:language>en-US</dc:language>
  <cp:lastModifiedBy>Karen Fleming-Michael</cp:lastModifiedBy>
  <dcterms:modified xsi:type="dcterms:W3CDTF">2013-01-29T18:09:05Z</dcterms:modified>
  <cp:revision>54</cp:revision>
  <dc:subject/>
  <dc:title>Slide 1</dc:title>
</cp:coreProperties>
</file>