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4" name="PlaceHolder 2"/>
          <p:cNvSpPr>
            <a:spLocks noGrp="1"/>
          </p:cNvSpPr>
          <p:nvPr>
            <p:ph type="dt" idx="43"/>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F680-7946-44D7-AC53-AE1AC7921153}"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63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3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7" name="PlaceHolder 5"/>
          <p:cNvSpPr>
            <a:spLocks noGrp="1"/>
          </p:cNvSpPr>
          <p:nvPr>
            <p:ph type="ftr" idx="4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8" name="PlaceHolder 6"/>
          <p:cNvSpPr>
            <a:spLocks noGrp="1"/>
          </p:cNvSpPr>
          <p:nvPr>
            <p:ph type="sldNum" idx="4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EC30-8E68-4B79-A152-BAF0F8C5C4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CB47-38C5-4AAE-A573-A155105CF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 of cardiac surgeon not doing check list. Cardiac SICU one year zero infections, then BAM! two infections linked to one noncompliant cardiac surgeon. Or other example story of physicians not being engaged in Q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04840" y="696960"/>
            <a:ext cx="4648320" cy="3486240"/>
          </a:xfrm>
          <a:prstGeom prst="rect">
            <a:avLst/>
          </a:prstGeom>
          <a:ln w="0">
            <a:noFill/>
          </a:ln>
        </p:spPr>
      </p:sp>
      <p:sp>
        <p:nvSpPr>
          <p:cNvPr id="7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example of what a physician compact might look li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requently asked questions:   What percent?  Depends on local resources, anticipated effort</a:t>
            </a:r>
            <a:endParaRPr b="0" lang="en-US" sz="1200" spc="-1" strike="noStrike">
              <a:solidFill>
                <a:srgbClr val="000000"/>
              </a:solidFill>
              <a:latin typeface="Calibri"/>
            </a:endParaRPr>
          </a:p>
        </p:txBody>
      </p:sp>
      <p:sp>
        <p:nvSpPr>
          <p:cNvPr id="7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D388-8C0F-42E3-A9EC-008921FA3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9C00-5635-43DD-B888-3A8FEE672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04840" y="696960"/>
            <a:ext cx="4648320" cy="3486240"/>
          </a:xfrm>
          <a:prstGeom prst="rect">
            <a:avLst/>
          </a:prstGeom>
          <a:ln w="0">
            <a:noFill/>
          </a:ln>
        </p:spPr>
      </p:sp>
      <p:sp>
        <p:nvSpPr>
          <p:cNvPr id="7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Peter’ story of automated flush toilet at his kid’s school or simi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change and fact that it is not change per se people fear but loss of control and surprise=loss of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ister/dissenter may have valuable insight that can help you and listening/valuing them brings them on board and improve the proces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31D9-1396-464F-9B1A-658A2554B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04840" y="696960"/>
            <a:ext cx="4648320" cy="3486240"/>
          </a:xfrm>
          <a:prstGeom prst="rect">
            <a:avLst/>
          </a:prstGeom>
          <a:ln w="0">
            <a:noFill/>
          </a:ln>
        </p:spPr>
      </p:sp>
      <p:sp>
        <p:nvSpPr>
          <p:cNvPr id="7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ger story from dail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want to review the physician engagement self-diagnostic tool that is available on the website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04840" y="696960"/>
            <a:ext cx="4648320" cy="3486240"/>
          </a:xfrm>
          <a:prstGeom prst="rect">
            <a:avLst/>
          </a:prstGeom>
          <a:ln w="0">
            <a:noFill/>
          </a:ln>
        </p:spPr>
      </p:sp>
      <p:sp>
        <p:nvSpPr>
          <p:cNvPr id="7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hard to have too much communication</a:t>
            </a:r>
            <a:endParaRPr b="0" lang="en-US" sz="1200" spc="-1" strike="noStrike">
              <a:solidFill>
                <a:srgbClr val="000000"/>
              </a:solidFill>
              <a:latin typeface="Calibri"/>
            </a:endParaRPr>
          </a:p>
        </p:txBody>
      </p:sp>
      <p:sp>
        <p:nvSpPr>
          <p:cNvPr id="7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E02F-E64E-4353-BB32-DF38A3F3B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04840" y="696960"/>
            <a:ext cx="4648320" cy="3486240"/>
          </a:xfrm>
          <a:prstGeom prst="rect">
            <a:avLst/>
          </a:prstGeom>
          <a:ln w="0">
            <a:noFill/>
          </a:ln>
        </p:spPr>
      </p:sp>
      <p:sp>
        <p:nvSpPr>
          <p:cNvPr id="7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D7A4-EAA0-4729-83DA-6ED0B912D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0318-93E4-4878-86C5-7815D68C7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04840" y="696960"/>
            <a:ext cx="4648320" cy="3486240"/>
          </a:xfrm>
          <a:prstGeom prst="rect">
            <a:avLst/>
          </a:prstGeom>
          <a:ln w="0">
            <a:noFill/>
          </a:ln>
        </p:spPr>
      </p:sp>
      <p:sp>
        <p:nvSpPr>
          <p:cNvPr id="7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E07A-1463-49DC-9ACA-1A0574153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issues we hear our teams talk about having trouble with is engaging physicians… It reflects the hectic and difficult work-life of physicians today.   We worry about time, we worry about all our commitments, we fear being questioned, our pride is involved—and yet what matters most is the patient, our North Star– And Josie is our reminder of this need for commitment to our patients above our own needs and concer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session, the participant will be able…</a:t>
            </a:r>
            <a:endParaRPr b="0" lang="en-US" sz="1200" spc="-1" strike="noStrike">
              <a:solidFill>
                <a:srgbClr val="000000"/>
              </a:solidFill>
              <a:latin typeface="Calibri"/>
            </a:endParaRPr>
          </a:p>
        </p:txBody>
      </p:sp>
      <p:sp>
        <p:nvSpPr>
          <p:cNvPr id="6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C243-7171-4292-B519-FE9C40CBA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project, this operationally means that physicians actively support the project, They trust that it will improve patient outcomes and view THEMSELVES as a stakeholder in the process and out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C7E4-6D1E-4795-B058-E485BC505E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ECA3-E7FE-4E22-ABF8-26DEBCF98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rganization of this project that has been presented before, you can think of engagement as an adaptive problem.  The “technology” of accomplishing engagement is not well defined.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04840" y="696960"/>
            <a:ext cx="4648320" cy="3486240"/>
          </a:xfrm>
          <a:prstGeom prst="rect">
            <a:avLst/>
          </a:prstGeom>
          <a:ln w="0">
            <a:noFill/>
          </a:ln>
        </p:spPr>
      </p:sp>
      <p:sp>
        <p:nvSpPr>
          <p:cNvPr id="6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think of continuum of feeling from aversion (I’m not going to do this) to apathy (I won’t derail it) to engagement (this is a good idea).  We clearly want physicians and other participants to be fully engaged and supportive, not merely adhering to the protoc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9931-DC9C-42E6-9910-5BDAFBABC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04840" y="696960"/>
            <a:ext cx="4648320" cy="3486240"/>
          </a:xfrm>
          <a:prstGeom prst="rect">
            <a:avLst/>
          </a:prstGeom>
          <a:ln w="0">
            <a:noFill/>
          </a:ln>
        </p:spPr>
      </p:sp>
      <p:sp>
        <p:nvSpPr>
          <p:cNvPr id="6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m Jerry McGuire:  Show me the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provide the evidence for you to use; safercare.net</a:t>
            </a:r>
            <a:endParaRPr b="0" lang="en-US" sz="1200" spc="-1" strike="noStrike">
              <a:solidFill>
                <a:srgbClr val="000000"/>
              </a:solidFill>
              <a:latin typeface="Calibri"/>
            </a:endParaRPr>
          </a:p>
        </p:txBody>
      </p:sp>
      <p:sp>
        <p:nvSpPr>
          <p:cNvPr id="6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064D-20F4-47D0-955E-FD49D51B2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team must be viewed as both caring and competent; to inspire physician trust in the team, the process and the project</a:t>
            </a:r>
            <a:endParaRPr b="0" lang="en-US" sz="1200" spc="-1" strike="noStrike">
              <a:solidFill>
                <a:srgbClr val="000000"/>
              </a:solidFill>
              <a:latin typeface="Calibri"/>
            </a:endParaRPr>
          </a:p>
        </p:txBody>
      </p:sp>
      <p:sp>
        <p:nvSpPr>
          <p:cNvPr id="6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13B4-5924-49BB-8318-C6BA28439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5D26-80FA-4799-867A-C41FEEC82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04840" y="696960"/>
            <a:ext cx="4648320" cy="3486240"/>
          </a:xfrm>
          <a:prstGeom prst="rect">
            <a:avLst/>
          </a:prstGeom>
          <a:ln w="0">
            <a:noFill/>
          </a:ln>
        </p:spPr>
      </p:sp>
      <p:sp>
        <p:nvSpPr>
          <p:cNvPr id="6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hampion: this is the person who other physicians respect facilitates credibility for project/eff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should feed back to physicians its assessment of physician performance on this project; management must actively support physician efforts at the same tim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6E4D5-48C7-45F5-B595-EB26DD8DB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C46D2-48AE-4A8D-829B-380A7B57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03CE3-A709-47E8-A254-50F5D974BC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539BF7-70EF-479E-BAEE-8B3EF2C80D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F57024-B80E-4341-AB4F-931163CB97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F3456-E24F-4506-A237-AB28BF58E7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77306-EE7E-4489-AC02-00F20A8D25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D7B7F9-6571-45D9-A5B7-2A20ACE61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479F70-68D5-48CF-A516-FD1FBB4265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A6A635-30E4-4329-86B0-0BFD18D978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636C79-6D03-4ECF-8B47-AED88F7352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C167F6-8C51-401E-A2EB-9145353F8A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37F98-A629-415C-8C10-722656F91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51D650-5D6F-4B21-A671-167B8D70AD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9B760C-BB25-44F3-9319-63A56F88AB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696D41-2B5F-4483-8B9C-4CE71C7287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05E7A7-614F-4E32-8C45-98257E096F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7773D6-1CC5-47EB-A614-B3B26A377A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8C19DE-153D-4E71-9C4B-936D10E019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A03F3C-E2AE-4B2A-B2D1-833C83F435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84B909-D13B-4C67-A0B1-9988430F65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4E87AD-AD41-4C9C-89A9-B41957BAA7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4F33E0-0826-4B6E-B24F-69500BEF9D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3D136-B40B-43AB-AA5B-41977E372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5D7AFA-E9A9-45A1-96A9-CE2CA0E59E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605FEB-1F28-45E2-B326-553BF7F142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A23872-FBE3-4C79-8AC2-C3711B8D08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129704-2FEF-462F-A739-DAD08C8804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F5BEAB-0C16-49FF-9E6C-8176DB6F51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CB0CD8-4431-4F82-BB23-47D26DAEAD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EBE2F7-8351-4A8C-A3F9-7D736615B3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4A83F1-C8F8-4A49-B9B3-4AEAC589FF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1B2BAA-95BB-4136-8DB7-C57A56E449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C7D0EA-93B3-4073-94C4-2D82D0A932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4A467-7D38-4954-9712-11DC29D44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59460E-D362-4615-9F48-6259723013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1016B2-FA65-49D0-9B9D-4E244448AB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CF55B8-9AFF-406B-A0F0-DCFF509AE6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B4067D-1618-44B7-853A-53AB6E3DE1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A97282-70C8-4638-B4B5-50815BD54A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EDBE20-45D9-4403-AA95-A5A7BD4EE7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BA2E07-62EA-42E2-B514-6458B1E78E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8F7DB7-99A2-4E52-81A1-E8DE664429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83C62D-626D-4FE6-B8D6-DB6D6BCCE5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FC1877-7FF9-4CC4-8AE5-70321C5BE1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2C8FC-70E9-4E90-AA4E-721537D56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FE3190-09F9-419E-9B11-93E1077B54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549A16-2EB6-436A-A978-3D908D0453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851566-33F5-4C48-8D58-5E66188051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4978E1-CC7C-451F-BBDC-4B5DCB7D0C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BE56DA5-FF35-4B7D-80FB-010EAC934F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1C4DD3-8E07-4D86-860C-CC6A79B63E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FC485C-6AB7-4B73-A879-679D3943E5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43C6DE-0997-4FEA-AAB5-EC37875028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3579D7-0879-4578-BC1B-0086122539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E07D21-A61F-484C-958F-0A15FB2F40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8BD91-A418-4EFE-B9FB-37C6404BA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24DBEC-29A9-4223-A7E3-397BBAC723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2082AB-5D57-4CE0-BF76-584360C58D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41149F-4228-4D5D-A21C-2687155FA2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A469AF-B315-4B33-8C5D-5B1F27C8E8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FE9013-67B4-4225-BFF3-8C09D94A65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E4E6A1D-B2DF-408B-BE85-63569DA529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3D9C433-B851-419B-BA61-1E83EC9E27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124852-4AD8-4841-8BB7-C9778CE311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7A45BD-039B-4BB3-A6D5-E0D4C22FEB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48A684-7F90-49CC-968A-2743A73641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DF1E8-DA13-4E94-A18D-BDC6C04A8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EA9ECD-6A2C-4748-A856-0864983B52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B93F9A-7930-4EA6-A2F7-5CFACDFD01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0ADC1E-B979-4793-898C-8C854DA484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8DB6D1-E67D-4E52-807F-3537F7F598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885E61-E6CD-476A-9634-36A11F7694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159945-4FCC-44E2-8A5D-C5E065BB8E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5C78AC-3DC1-4B88-B861-839B4CA94E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90263E6-494D-44FC-B4B3-AD1999D4347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8CA5796-8B91-4B68-983B-7ED2643AE1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32F8B-E4EA-47EA-ACFC-82C187D15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FB015-031E-4239-BF25-1566C1AFC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0329A-08AE-4464-8F70-86D9B6248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84558-F28E-4F8D-B0B3-11F8D2C23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DF719-FC05-45B8-AFD3-4D228D333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479E0-06AB-4AB1-AC18-D65C79715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534D9-2DE5-4D7C-9A23-FD3B28E88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0B21A-E59D-416A-9B2C-966815524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2C526-8A70-4E46-9434-52DC247B3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F1DF96-A9F9-4D99-920C-554C56C5A8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686C5-A700-481A-B2EC-BDC5FC3B74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BDB12-5027-49FF-9FE1-4DAA8B104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92C17C-ACC2-4999-B8F5-F1BFECB61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9CC74-9DB3-4472-9B9A-15A52DA8ED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07336-995A-40C9-B6AF-80F8C49CE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A009F9-7D21-4766-A8EA-7DFFA3B0A1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2FD0F-90E6-483F-9903-156115368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E49B4-A707-4E6F-963F-B187500ED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D94A4-3685-4F39-AA05-4E90A61C3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4CD08-1DCB-40A4-BB61-0FEF51A90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C360D6-EC83-4423-A2CF-9F01B01850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567FB-9748-486E-9E13-551B4F5261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EEABD-77DD-44FB-8872-7277001629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EA134-A7FF-4012-AD4A-2DF7A65951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83907-F1B3-426B-8ECD-D6C9C2CA8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F42E5-41F4-4604-8444-AF651612F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5157A-EF1E-4BC0-A598-EA6F44CD7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AB1E78-E364-4DDE-99B8-247F503A1B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DC13B7-A540-4BD5-99EA-2E0F90B8B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A18C8-8CB2-4816-A3BF-A528DF4B8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FF4B0-4E65-4C8B-B2B0-BC46F09C7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07F88-1CF2-464A-AFA0-A21686413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7962B-FF77-4D22-B21E-670290F835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CD338B-E81B-4BDD-93C8-A23393504B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7FC267-4AF2-4AC7-A87F-88D171093C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A168C0-2FB2-4A90-A8CE-B7518D77EA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7AD6E-5BF7-4449-BB66-AC6BA54EF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352417-44BA-4169-B6B2-3A0BA1124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1EB251-E82A-4B7F-81AF-128913BDD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FFD04B-3B39-46A6-B5D6-AC41A3B88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2E357-865B-4182-8E68-A6685645F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894FA-4721-44FB-B26A-9B50C09701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9E8FB-A757-4A65-B20D-CE52D8B6E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EC4D7-0BEA-48DE-9F7A-037B3FB9A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6B649-F165-4B70-ACCE-4298C6623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7A802F-1D9B-457E-8861-F7B3859C38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DAD63E-1597-4F27-BF60-2D1173A7EE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DE362-EF8B-40AB-8FE5-CBFAF304C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92CDBD-227B-4DE0-ADB0-F3A5B33AF7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2353D6-F330-4CB0-BBBF-63A3CFDB2A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F1C418-A63A-4AFB-B3CE-C01BAF88C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E55755-96BC-4BDA-A0A7-376107EDE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EE75A1-C1E2-4790-AC73-B06A64876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A5410-5A29-43DC-A25E-EC342B70D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043866-37AF-40D5-9DE9-3942D38C9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74AD6-691B-4E93-8AA2-8AF035ED0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DC82D-00CD-492A-B456-59C3E13E5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06302-8024-4C5F-9A83-380A9463B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89F0-CD75-4590-B566-69937906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C3FB51-A33C-4CD0-BDA0-143A1EF29A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2B41DD-F48B-4A3A-A139-ABEF9CAE54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610C79-9FAF-4F2E-89F5-64F0856F2F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E69E8A-852C-4852-9480-747C6D85A4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9E5423-70E9-4E07-B891-870D0820B2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93BB7-DCB6-4F75-860F-5BB1821D4E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4F8C3-2530-4A4B-8721-08474AA7BD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02B8C0-17CF-4009-807A-7CED4E52FF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98961C-A5E4-4B8D-80EF-392AED754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C4DEE7-D6C8-49D6-9E73-0C7DEF4A3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0930C-F527-424A-AB11-D8C7F2AF8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C360A-3544-4EE5-A939-D0B1479B6F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5EC9FD-425B-484D-8D5A-AB1B3EAEE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5C9103-6A1F-4D6E-A4D3-F8A4C15BF8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680442-57A5-4863-8F97-FB5F030562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F5F5C3-F7A6-43C6-A0C6-6400253BF0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BAFEB3-B207-46A0-9C38-0DA54DF0C6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B96F26-2935-4C99-89A1-FB501DB53C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0890B-9291-4F68-A662-5B4945463E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FA18F6-3E3D-47F7-B2DF-FE5A965EA9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4B3810-363F-4C88-BCE7-3DE423E7DA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8DD1-F3A6-460D-A3D0-F626A887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6D0783-F669-4730-BA41-E60E7E3C72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620207-2EFF-40F3-AA1E-DE84BACB4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961B8-9749-4CE2-A608-B3B3689A4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60EDC-EF4B-49C5-BBB5-A8BDCCADD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615AF4-0F75-445E-AB83-FB67795F82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DB834A-F370-4DA7-99C1-B61431D940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1DA917-0840-4EFF-9254-23108199B3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4620E4-3CC8-488A-A24E-8CF090B24A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652AFE-4708-49A7-9AA0-79D4753812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689C2C-3277-494E-B613-12EA258986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E139-412E-4A88-8A81-687F34E7DDBE}"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0" descr="CUSP-LOGO-no-tagline.gif"/>
          <p:cNvPicPr/>
          <p:nvPr/>
        </p:nvPicPr>
        <p:blipFill>
          <a:blip r:embed="rId2"/>
          <a:stretch/>
        </p:blipFill>
        <p:spPr>
          <a:xfrm>
            <a:off x="6929280" y="5867280"/>
            <a:ext cx="22147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0" name="Picture 10" descr="CUSP-LOGO-no-tagline.gif"/>
          <p:cNvPicPr/>
          <p:nvPr/>
        </p:nvPicPr>
        <p:blipFill>
          <a:blip r:embed="rId2"/>
          <a:stretch/>
        </p:blipFill>
        <p:spPr>
          <a:xfrm>
            <a:off x="6929280" y="5867280"/>
            <a:ext cx="2214720" cy="990720"/>
          </a:xfrm>
          <a:prstGeom prst="rect">
            <a:avLst/>
          </a:prstGeom>
          <a:ln w="0">
            <a:noFill/>
          </a:ln>
        </p:spPr>
      </p:pic>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0"/>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33A6-0FED-476C-A3F3-578B880F92A7}"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5" name="Picture 10" descr="CUSP-LOGO-no-tagline.gif"/>
          <p:cNvPicPr/>
          <p:nvPr/>
        </p:nvPicPr>
        <p:blipFill>
          <a:blip r:embed="rId2"/>
          <a:stretch/>
        </p:blipFill>
        <p:spPr>
          <a:xfrm>
            <a:off x="6929280" y="5867280"/>
            <a:ext cx="2214720" cy="990720"/>
          </a:xfrm>
          <a:prstGeom prst="rect">
            <a:avLst/>
          </a:prstGeom>
          <a:ln w="0">
            <a:noFill/>
          </a:ln>
        </p:spPr>
      </p:pic>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33"/>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2948-99E6-475A-B92C-6CD6D3B1F6DE}"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0" name="Picture 10" descr="CUSP-LOGO-no-tagline.gif"/>
          <p:cNvPicPr/>
          <p:nvPr/>
        </p:nvPicPr>
        <p:blipFill>
          <a:blip r:embed="rId2"/>
          <a:stretch/>
        </p:blipFill>
        <p:spPr>
          <a:xfrm>
            <a:off x="6929280" y="5867280"/>
            <a:ext cx="2214720" cy="990720"/>
          </a:xfrm>
          <a:prstGeom prst="rect">
            <a:avLst/>
          </a:prstGeom>
          <a:ln w="0">
            <a:noFill/>
          </a:ln>
        </p:spPr>
      </p:pic>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6"/>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50B7-8A91-42B5-A1DF-BCA531E9D218}"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5" name="Picture 10" descr="CUSP-LOGO-no-tagline.gif"/>
          <p:cNvPicPr/>
          <p:nvPr/>
        </p:nvPicPr>
        <p:blipFill>
          <a:blip r:embed="rId2"/>
          <a:stretch/>
        </p:blipFill>
        <p:spPr>
          <a:xfrm>
            <a:off x="6929280" y="5867280"/>
            <a:ext cx="2214720" cy="990720"/>
          </a:xfrm>
          <a:prstGeom prst="rect">
            <a:avLst/>
          </a:prstGeom>
          <a:ln w="0">
            <a:noFill/>
          </a:ln>
        </p:spPr>
      </p:pic>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5"/>
          <p:cNvSpPr>
            <a:spLocks noGrp="1"/>
          </p:cNvSpPr>
          <p:nvPr>
            <p:ph type="sldNum" idx="39"/>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8A15-2618-4EAA-9D35-9587F9DFDBA3}"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0" name="Picture 10" descr="CUSP-LOGO-no-tagline.gif"/>
          <p:cNvPicPr/>
          <p:nvPr/>
        </p:nvPicPr>
        <p:blipFill>
          <a:blip r:embed="rId2"/>
          <a:stretch/>
        </p:blipFill>
        <p:spPr>
          <a:xfrm>
            <a:off x="6929280" y="5867280"/>
            <a:ext cx="2214720" cy="990720"/>
          </a:xfrm>
          <a:prstGeom prst="rect">
            <a:avLst/>
          </a:prstGeom>
          <a:ln w="0">
            <a:noFill/>
          </a:ln>
        </p:spPr>
      </p:pic>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3"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5"/>
          <p:cNvSpPr>
            <a:spLocks noGrp="1"/>
          </p:cNvSpPr>
          <p:nvPr>
            <p:ph type="sldNum" idx="42"/>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A914-7ED4-4BBA-84EB-A4EF3D8A0FE7}"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0" descr="CUSP-LOGO-no-tagline.gif"/>
          <p:cNvPicPr/>
          <p:nvPr/>
        </p:nvPicPr>
        <p:blipFill>
          <a:blip r:embed="rId2"/>
          <a:stretch/>
        </p:blipFill>
        <p:spPr>
          <a:xfrm>
            <a:off x="6929280" y="5867280"/>
            <a:ext cx="2214720" cy="9907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38EF-16F0-48B3-B140-67351B957F96}"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10" descr="CUSP-LOGO-no-tagline.gif"/>
          <p:cNvPicPr/>
          <p:nvPr/>
        </p:nvPicPr>
        <p:blipFill>
          <a:blip r:embed="rId2"/>
          <a:stretch/>
        </p:blipFill>
        <p:spPr>
          <a:xfrm>
            <a:off x="6929280" y="5867280"/>
            <a:ext cx="2214720" cy="99072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92F9-D002-4801-AC84-10AA66D42482}"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Picture 10" descr="CUSP-LOGO-no-tagline.gif"/>
          <p:cNvPicPr/>
          <p:nvPr/>
        </p:nvPicPr>
        <p:blipFill>
          <a:blip r:embed="rId2"/>
          <a:stretch/>
        </p:blipFill>
        <p:spPr>
          <a:xfrm>
            <a:off x="6929280" y="5867280"/>
            <a:ext cx="2214720" cy="99072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AA10-543D-49EE-B066-9368A91EFFF3}"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10" descr="CUSP-LOGO-no-tagline.gif"/>
          <p:cNvPicPr/>
          <p:nvPr/>
        </p:nvPicPr>
        <p:blipFill>
          <a:blip r:embed="rId2"/>
          <a:stretch/>
        </p:blipFill>
        <p:spPr>
          <a:xfrm>
            <a:off x="6929280" y="5867280"/>
            <a:ext cx="2214720" cy="990720"/>
          </a:xfrm>
          <a:prstGeom prst="rect">
            <a:avLst/>
          </a:prstGeom>
          <a:ln w="0">
            <a:noFill/>
          </a:ln>
        </p:spPr>
      </p:pic>
      <p:sp>
        <p:nvSpPr>
          <p:cNvPr id="184" name="Rectangle 1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traight Connector 13"/>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1FB2-3DF4-4697-BB39-90BC828A5283}"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Picture 10" descr="CUSP-LOGO-no-tagline.gif"/>
          <p:cNvPicPr/>
          <p:nvPr/>
        </p:nvPicPr>
        <p:blipFill>
          <a:blip r:embed="rId2"/>
          <a:stretch/>
        </p:blipFill>
        <p:spPr>
          <a:xfrm>
            <a:off x="6929280" y="5867280"/>
            <a:ext cx="2214720" cy="99072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3A73-B71B-480F-B00F-CD6733DF4014}"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 name="Picture 10" descr="CUSP-LOGO-no-tagline.gif"/>
          <p:cNvPicPr/>
          <p:nvPr/>
        </p:nvPicPr>
        <p:blipFill>
          <a:blip r:embed="rId2"/>
          <a:stretch/>
        </p:blipFill>
        <p:spPr>
          <a:xfrm>
            <a:off x="6929280" y="5867280"/>
            <a:ext cx="2214720" cy="99072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FB4A-87CD-4524-BEEF-0E5B5B43C3D9}"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0" name="Picture 10" descr="CUSP-LOGO-no-tagline.gif"/>
          <p:cNvPicPr/>
          <p:nvPr/>
        </p:nvPicPr>
        <p:blipFill>
          <a:blip r:embed="rId2"/>
          <a:stretch/>
        </p:blipFill>
        <p:spPr>
          <a:xfrm>
            <a:off x="6929280" y="5867280"/>
            <a:ext cx="2214720" cy="990720"/>
          </a:xfrm>
          <a:prstGeom prst="rect">
            <a:avLst/>
          </a:prstGeom>
          <a:ln w="0">
            <a:noFill/>
          </a:ln>
        </p:spPr>
      </p:pic>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24"/>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7161-404A-4443-8D0F-B6C15F712BB0}"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5" name="Picture 10" descr="CUSP-LOGO-no-tagline.gif"/>
          <p:cNvPicPr/>
          <p:nvPr/>
        </p:nvPicPr>
        <p:blipFill>
          <a:blip r:embed="rId2"/>
          <a:stretch/>
        </p:blipFill>
        <p:spPr>
          <a:xfrm>
            <a:off x="6929280" y="5867280"/>
            <a:ext cx="2214720" cy="990720"/>
          </a:xfrm>
          <a:prstGeom prst="rect">
            <a:avLst/>
          </a:prstGeom>
          <a:ln w="0">
            <a:noFill/>
          </a:ln>
        </p:spPr>
      </p:pic>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BE01-FF9B-4427-8A64-2C9C9BFBFDE6}"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0" y="2666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Physician Engagement</a:t>
            </a:r>
            <a:endParaRPr b="0" lang="en-US" sz="5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Physician Engagement Strategies</a:t>
            </a:r>
            <a:endParaRPr b="0" lang="en-US" sz="44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anagement level (continued)</a:t>
            </a:r>
            <a:endParaRPr b="0" lang="en-US" sz="3000" spc="-1" strike="noStrike">
              <a:solidFill>
                <a:srgbClr val="000000"/>
              </a:solidFill>
              <a:latin typeface="Calibri"/>
            </a:endParaRPr>
          </a:p>
          <a:p>
            <a:pPr lvl="1" marL="743040" indent="-28584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Create a compact (agreement)</a:t>
            </a:r>
            <a:endParaRPr b="0" lang="en-US" sz="3000" spc="-1" strike="noStrike">
              <a:solidFill>
                <a:srgbClr val="000000"/>
              </a:solidFill>
              <a:latin typeface="Calibri"/>
            </a:endParaRPr>
          </a:p>
          <a:p>
            <a:pPr lvl="2" marL="1143000" indent="-228600">
              <a:spcBef>
                <a:spcPts val="7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Clearly define what is expected of physicians</a:t>
            </a:r>
            <a:endParaRPr b="0" lang="en-US" sz="3000" spc="-1" strike="noStrike">
              <a:solidFill>
                <a:srgbClr val="000000"/>
              </a:solidFill>
              <a:latin typeface="Calibri"/>
            </a:endParaRPr>
          </a:p>
          <a:p>
            <a:pPr lvl="2" marL="1143000" indent="-228600">
              <a:spcBef>
                <a:spcPts val="7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Review performance regularly </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Example: </a:t>
            </a:r>
            <a:br>
              <a:rPr sz="4000"/>
            </a:br>
            <a:r>
              <a:rPr b="1" lang="en-US" sz="4000" spc="-1" strike="noStrike">
                <a:solidFill>
                  <a:srgbClr val="ffffff"/>
                </a:solidFill>
                <a:latin typeface="Calibri"/>
                <a:ea typeface="Tahoma"/>
              </a:rPr>
              <a:t>Physician Champion Compact</a:t>
            </a:r>
            <a:endParaRPr b="0" lang="en-US" sz="4000" spc="-1" strike="noStrike">
              <a:solidFill>
                <a:srgbClr val="000000"/>
              </a:solidFill>
              <a:latin typeface="Calibri"/>
            </a:endParaRPr>
          </a:p>
        </p:txBody>
      </p:sp>
      <p:sp>
        <p:nvSpPr>
          <p:cNvPr id="658" name=""/>
          <p:cNvSpPr txBox="1"/>
          <p:nvPr/>
        </p:nvSpPr>
        <p:spPr>
          <a:xfrm>
            <a:off x="457200" y="1798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spital will provide support for percent of physicians’ ti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 return, physician wil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onitor and improve qual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mplement CUSP and CLABSI toolki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ld regular meetings with tea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volve other members of medical staff in qual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port CLABSI rates and learning from defects results to senior leaders and boar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7400"/>
            <a:ext cx="868680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Example: </a:t>
            </a:r>
            <a:br>
              <a:rPr sz="4400"/>
            </a:br>
            <a:r>
              <a:rPr b="1" lang="en-US" sz="4400" spc="-1" strike="noStrike">
                <a:solidFill>
                  <a:srgbClr val="ffffff"/>
                </a:solidFill>
                <a:latin typeface="Calibri"/>
                <a:ea typeface="Tahoma"/>
              </a:rPr>
              <a:t>Physician Champion Compact</a:t>
            </a:r>
            <a:endParaRPr b="0" lang="en-US" sz="4400" spc="-1" strike="noStrike">
              <a:solidFill>
                <a:srgbClr val="000000"/>
              </a:solidFill>
              <a:latin typeface="Calibri"/>
            </a:endParaRPr>
          </a:p>
        </p:txBody>
      </p:sp>
      <p:sp>
        <p:nvSpPr>
          <p:cNvPr id="660" name=""/>
          <p:cNvSpPr txBox="1"/>
          <p:nvPr/>
        </p:nvSpPr>
        <p:spPr>
          <a:xfrm>
            <a:off x="380880" y="2057400"/>
            <a:ext cx="8229600" cy="3733920"/>
          </a:xfrm>
          <a:prstGeom prst="rect">
            <a:avLst/>
          </a:prstGeom>
          <a:noFill/>
          <a:ln w="0">
            <a:noFill/>
          </a:ln>
        </p:spPr>
        <p:txBody>
          <a:bodyPr anchor="t">
            <a:normAutofit/>
          </a:bodyPr>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Further, the physician will</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Work with hospital to clarify what will be measured, who will measure it, and who will produce reports</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eet quarterly to discuss progress</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0" y="77400"/>
            <a:ext cx="914400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Physician Engagement Strategies</a:t>
            </a:r>
            <a:endParaRPr b="0" lang="en-US" sz="4000" spc="-1" strike="noStrike">
              <a:solidFill>
                <a:srgbClr val="000000"/>
              </a:solidFill>
              <a:latin typeface="Calibri"/>
            </a:endParaRPr>
          </a:p>
        </p:txBody>
      </p:sp>
      <p:sp>
        <p:nvSpPr>
          <p:cNvPr id="662" name=""/>
          <p:cNvSpPr txBox="1"/>
          <p:nvPr/>
        </p:nvSpPr>
        <p:spPr>
          <a:xfrm>
            <a:off x="457200" y="1752480"/>
            <a:ext cx="8229600" cy="472464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taff level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containing vessel (environment) to have a dialogue with physicians (eliminate decoding error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 and M, grand rounds, quality meetings, etc.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dentify and overcome barriers to engagement</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linician, intervention, system</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ry physician engagement self-diagnostic tool (safercare.net)</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hysician Engagement Strategies</a:t>
            </a:r>
            <a:endParaRPr b="0" lang="en-US" sz="4400" spc="-1" strike="noStrike">
              <a:solidFill>
                <a:srgbClr val="000000"/>
              </a:solidFill>
              <a:latin typeface="Calibri"/>
            </a:endParaRPr>
          </a:p>
        </p:txBody>
      </p:sp>
      <p:sp>
        <p:nvSpPr>
          <p:cNvPr id="664" name=""/>
          <p:cNvSpPr txBox="1"/>
          <p:nvPr/>
        </p:nvSpPr>
        <p:spPr>
          <a:xfrm>
            <a:off x="457200" y="1828440"/>
            <a:ext cx="8229600" cy="480060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taff level (continu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municate prior to start of project </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No surprise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o, what, when, where, h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isten to those who resist/value the dissen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mechanisms to feed results back to physician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77400"/>
            <a:ext cx="914400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Handling Barriers to Change</a:t>
            </a:r>
            <a:endParaRPr b="0" lang="en-US" sz="4000" spc="-1" strike="noStrike">
              <a:solidFill>
                <a:srgbClr val="000000"/>
              </a:solidFill>
              <a:latin typeface="Calibri"/>
            </a:endParaRPr>
          </a:p>
        </p:txBody>
      </p:sp>
      <p:sp>
        <p:nvSpPr>
          <p:cNvPr id="666" name=""/>
          <p:cNvSpPr txBox="1"/>
          <p:nvPr/>
        </p:nvSpPr>
        <p:spPr>
          <a:xfrm>
            <a:off x="457200" y="1600200"/>
            <a:ext cx="8229600" cy="45720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une in to WIFM (What’s In It For M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eople resist loss, not chang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ry to surface and mitigate real and perceived los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hysician’s time is likely a major concern</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erceived losses often much greater than real los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erceived loss high when communication is low</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Manage Communication</a:t>
            </a:r>
            <a:endParaRPr b="0" lang="en-US" sz="4400" spc="-1" strike="noStrike">
              <a:solidFill>
                <a:srgbClr val="000000"/>
              </a:solidFill>
              <a:latin typeface="Calibri"/>
            </a:endParaRPr>
          </a:p>
        </p:txBody>
      </p:sp>
      <p:sp>
        <p:nvSpPr>
          <p:cNvPr id="668" name=""/>
          <p:cNvSpPr txBox="1"/>
          <p:nvPr/>
        </p:nvSpPr>
        <p:spPr>
          <a:xfrm>
            <a:off x="457200" y="1600200"/>
            <a:ext cx="8229600" cy="3581280"/>
          </a:xfrm>
          <a:prstGeom prst="rect">
            <a:avLst/>
          </a:prstGeom>
          <a:noFill/>
          <a:ln w="0">
            <a:noFill/>
          </a:ln>
        </p:spPr>
        <p:txBody>
          <a:bodyPr anchor="t">
            <a:normAutofit fontScale="98000"/>
          </a:bodyPr>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t each step or meeting</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larify message</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termine who needs to know</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ke time for feedback</a:t>
            </a:r>
            <a:endParaRPr b="0" lang="en-US" sz="2800" spc="-1" strike="noStrike">
              <a:solidFill>
                <a:srgbClr val="000000"/>
              </a:solidFill>
              <a:latin typeface="Calibri"/>
            </a:endParaRPr>
          </a:p>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ssume that all staff have patient as their “North Star”</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mind staff they are participating in something greater – “Ohana”</a:t>
            </a:r>
            <a:endParaRPr b="0" lang="en-US" sz="2800" spc="-1" strike="noStrike">
              <a:solidFill>
                <a:srgbClr val="000000"/>
              </a:solidFill>
              <a:latin typeface="Calibri"/>
            </a:endParaRPr>
          </a:p>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Action Plan</a:t>
            </a:r>
            <a:endParaRPr b="0" lang="en-US" sz="4400" spc="-1" strike="noStrike">
              <a:solidFill>
                <a:srgbClr val="000000"/>
              </a:solidFill>
              <a:latin typeface="Calibri"/>
            </a:endParaRPr>
          </a:p>
        </p:txBody>
      </p:sp>
      <p:sp>
        <p:nvSpPr>
          <p:cNvPr id="670" name=""/>
          <p:cNvSpPr txBox="1"/>
          <p:nvPr/>
        </p:nvSpPr>
        <p:spPr>
          <a:xfrm>
            <a:off x="457200" y="1828440"/>
            <a:ext cx="8229600" cy="396252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ultivate a physician champion for this projec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compact for physician champion rol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containing vessel for communic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velop communication plan for CUSP educ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isten to physicians to surface and mitigate loss</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2" descr="Josie (Child Playing In Sand)"/>
          <p:cNvPicPr/>
          <p:nvPr/>
        </p:nvPicPr>
        <p:blipFill>
          <a:blip r:embed="rId1"/>
          <a:stretch/>
        </p:blipFill>
        <p:spPr>
          <a:xfrm>
            <a:off x="2666880" y="1828800"/>
            <a:ext cx="3409920" cy="4181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2" descr="Josie (Child Playing in Sand)"/>
          <p:cNvPicPr/>
          <p:nvPr/>
        </p:nvPicPr>
        <p:blipFill>
          <a:blip r:embed="rId1"/>
          <a:stretch/>
        </p:blipFill>
        <p:spPr>
          <a:xfrm>
            <a:off x="2438280" y="1676520"/>
            <a:ext cx="3915000" cy="480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Learning Objectives</a:t>
            </a:r>
            <a:endParaRPr b="0" lang="en-US" sz="4400" spc="-1" strike="noStrike">
              <a:solidFill>
                <a:srgbClr val="000000"/>
              </a:solidFill>
              <a:latin typeface="Calibri"/>
            </a:endParaRPr>
          </a:p>
        </p:txBody>
      </p:sp>
      <p:sp>
        <p:nvSpPr>
          <p:cNvPr id="642" name=""/>
          <p:cNvSpPr txBox="1"/>
          <p:nvPr/>
        </p:nvSpPr>
        <p:spPr>
          <a:xfrm>
            <a:off x="457200" y="1600200"/>
            <a:ext cx="8229600" cy="3178080"/>
          </a:xfrm>
          <a:prstGeom prst="rect">
            <a:avLst/>
          </a:prstGeom>
          <a:noFill/>
          <a:ln w="0">
            <a:noFill/>
          </a:ln>
        </p:spPr>
        <p:txBody>
          <a:bodyPr anchor="t">
            <a:normAutofit/>
          </a:bodyPr>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relate what is meant by physician engagemen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discuss strategies at management and staff levels to enhance physician engagement</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hat Do We Mean by Engagement?</a:t>
            </a:r>
            <a:endParaRPr b="0" lang="en-US" sz="4400" spc="-1" strike="noStrike">
              <a:solidFill>
                <a:srgbClr val="000000"/>
              </a:solidFill>
              <a:latin typeface="Calibri"/>
            </a:endParaRPr>
          </a:p>
        </p:txBody>
      </p:sp>
      <p:sp>
        <p:nvSpPr>
          <p:cNvPr id="644" name=""/>
          <p:cNvSpPr txBox="1"/>
          <p:nvPr/>
        </p:nvSpPr>
        <p:spPr>
          <a:xfrm>
            <a:off x="914040" y="1523520"/>
            <a:ext cx="7467480" cy="48006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Engagement: “To involve one self or become occupied;  to participate fully and deepl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ctive support of the projec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Where Does Engagement Fit?</a:t>
            </a:r>
            <a:endParaRPr b="0" lang="en-US" sz="4400" spc="-1" strike="noStrike">
              <a:solidFill>
                <a:srgbClr val="000000"/>
              </a:solidFill>
              <a:latin typeface="Calibri"/>
            </a:endParaRPr>
          </a:p>
        </p:txBody>
      </p:sp>
      <p:sp>
        <p:nvSpPr>
          <p:cNvPr id="646" name=""/>
          <p:cNvSpPr txBox="1"/>
          <p:nvPr/>
        </p:nvSpPr>
        <p:spPr>
          <a:xfrm>
            <a:off x="457200" y="1599840"/>
            <a:ext cx="8229600" cy="426708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ork involves technical problem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videnc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easuremen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daptive problem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ngagement of nurses, physicians, leaders, IP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eting prioritie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coming barrier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meliorating safety and teamwork climate</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Stages of Engagement</a:t>
            </a:r>
            <a:endParaRPr b="0" lang="en-US" sz="4400" spc="-1" strike="noStrike">
              <a:solidFill>
                <a:srgbClr val="000000"/>
              </a:solidFill>
              <a:latin typeface="Calibri"/>
            </a:endParaRPr>
          </a:p>
        </p:txBody>
      </p:sp>
      <p:pic>
        <p:nvPicPr>
          <p:cNvPr id="648" name="Picture 2" descr="You can think of continuum of feeling from aversion (I’m not going to do this) to apathy (I won’t derail it) to engagement (this is a good idea).  We clearly want physicians and other participants to be fully engaged and supportive, not merely adhering to the protocol. &#10;"/>
          <p:cNvPicPr/>
          <p:nvPr/>
        </p:nvPicPr>
        <p:blipFill>
          <a:blip r:embed="rId1"/>
          <a:stretch/>
        </p:blipFill>
        <p:spPr>
          <a:xfrm>
            <a:off x="457200" y="2438280"/>
            <a:ext cx="8213760" cy="2971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ＭＳ Ｐゴシック"/>
              </a:rPr>
              <a:t>Engage Physician’s Intellect</a:t>
            </a:r>
            <a:endParaRPr b="0" lang="en-US" sz="4400" spc="-1" strike="noStrike">
              <a:solidFill>
                <a:srgbClr val="000000"/>
              </a:solidFill>
              <a:latin typeface="Calibri"/>
            </a:endParaRPr>
          </a:p>
        </p:txBody>
      </p:sp>
      <p:sp>
        <p:nvSpPr>
          <p:cNvPr id="650" name=""/>
          <p:cNvSpPr txBox="1"/>
          <p:nvPr/>
        </p:nvSpPr>
        <p:spPr>
          <a:xfrm>
            <a:off x="609480" y="1599840"/>
            <a:ext cx="8229600" cy="48006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Show them</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 evidenc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Your hospital’s CLABSI rate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at others have achieved</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at you can do the same</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Engage by Creating Trust</a:t>
            </a:r>
            <a:endParaRPr b="0" lang="en-US" sz="4400" spc="-1" strike="noStrike">
              <a:solidFill>
                <a:srgbClr val="000000"/>
              </a:solidFill>
              <a:latin typeface="Calibri"/>
            </a:endParaRPr>
          </a:p>
        </p:txBody>
      </p:sp>
      <p:sp>
        <p:nvSpPr>
          <p:cNvPr id="652" name=""/>
          <p:cNvSpPr txBox="1"/>
          <p:nvPr/>
        </p:nvSpPr>
        <p:spPr>
          <a:xfrm>
            <a:off x="457200" y="1600200"/>
            <a:ext cx="8229600" cy="4191120"/>
          </a:xfrm>
          <a:prstGeom prst="rect">
            <a:avLst/>
          </a:prstGeom>
          <a:noFill/>
          <a:ln w="0">
            <a:noFill/>
          </a:ln>
        </p:spPr>
        <p:txBody>
          <a:bodyPr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aring</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Keep patients as your “North Star,” your focus</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eventable harm is not acceptable</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ell your own Josie story</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etent</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earn from mistakes and implement teamwork tools</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monstrate early successes/project results</a:t>
            </a:r>
            <a:endParaRPr b="0" lang="en-US" sz="2800" spc="-1" strike="noStrike">
              <a:solidFill>
                <a:srgbClr val="000000"/>
              </a:solidFill>
              <a:latin typeface="Calibri"/>
            </a:endParaRPr>
          </a:p>
          <a:p>
            <a:pPr marL="343080" indent="-343080">
              <a:lnSpc>
                <a:spcPct val="150000"/>
              </a:lnSpc>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50000"/>
              </a:lnSpc>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Physician Engagement Strategies</a:t>
            </a:r>
            <a:endParaRPr b="0" lang="en-US" sz="4400" spc="-1" strike="noStrike">
              <a:solidFill>
                <a:srgbClr val="000000"/>
              </a:solidFill>
              <a:latin typeface="Calibri"/>
            </a:endParaRPr>
          </a:p>
        </p:txBody>
      </p:sp>
      <p:sp>
        <p:nvSpPr>
          <p:cNvPr id="654" name=""/>
          <p:cNvSpPr txBox="1"/>
          <p:nvPr/>
        </p:nvSpPr>
        <p:spPr>
          <a:xfrm>
            <a:off x="457200" y="1600200"/>
            <a:ext cx="8229600" cy="4114800"/>
          </a:xfrm>
          <a:prstGeom prst="rect">
            <a:avLst/>
          </a:prstGeom>
          <a:noFill/>
          <a:ln w="0">
            <a:noFill/>
          </a:ln>
        </p:spPr>
        <p:txBody>
          <a:bodyPr anchor="t">
            <a:normAutofit fontScale="92000"/>
          </a:bodyPr>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nagement level </a:t>
            </a:r>
            <a:endParaRPr b="0" lang="en-US" sz="2800" spc="-1" strike="noStrike">
              <a:solidFill>
                <a:srgbClr val="000000"/>
              </a:solidFill>
              <a:latin typeface="Calibri"/>
            </a:endParaRPr>
          </a:p>
          <a:p>
            <a:pPr lvl="1" marL="683280" indent="-262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dentify physician champion for project</a:t>
            </a:r>
            <a:endParaRPr b="0" lang="en-US" sz="2800" spc="-1" strike="noStrike">
              <a:solidFill>
                <a:srgbClr val="000000"/>
              </a:solidFill>
              <a:latin typeface="Calibri"/>
            </a:endParaRPr>
          </a:p>
          <a:p>
            <a:pPr lvl="2" marL="1051560" indent="-21024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Unit director, chief medical officer, or senior physician</a:t>
            </a:r>
            <a:endParaRPr b="0" lang="en-US" sz="2800" spc="-1" strike="noStrike">
              <a:solidFill>
                <a:srgbClr val="000000"/>
              </a:solidFill>
              <a:latin typeface="Calibri"/>
            </a:endParaRPr>
          </a:p>
          <a:p>
            <a:pPr lvl="2" marL="1051560" indent="-21024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omeone other physicians look up to</a:t>
            </a:r>
            <a:endParaRPr b="0" lang="en-US" sz="2800" spc="-1" strike="noStrike">
              <a:solidFill>
                <a:srgbClr val="000000"/>
              </a:solidFill>
              <a:latin typeface="Calibri"/>
            </a:endParaRPr>
          </a:p>
          <a:p>
            <a:pPr lvl="1" marL="683280" indent="-262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ward physician champions for their efforts</a:t>
            </a:r>
            <a:endParaRPr b="0" lang="en-US" sz="2800" spc="-1" strike="noStrike">
              <a:solidFill>
                <a:srgbClr val="000000"/>
              </a:solidFill>
              <a:latin typeface="Calibri"/>
            </a:endParaRPr>
          </a:p>
          <a:p>
            <a:pPr lvl="2" marL="1051560" indent="-21024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btain hospital support for their time</a:t>
            </a:r>
            <a:endParaRPr b="0" lang="en-US" sz="2800" spc="-1" strike="noStrike">
              <a:solidFill>
                <a:srgbClr val="000000"/>
              </a:solidFill>
              <a:latin typeface="Calibri"/>
            </a:endParaRPr>
          </a:p>
          <a:p>
            <a:pPr lvl="2" marL="1051560" indent="-21024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eature in newsletters</a:t>
            </a:r>
            <a:endParaRPr b="0" lang="en-US" sz="2800" spc="-1" strike="noStrike">
              <a:solidFill>
                <a:srgbClr val="000000"/>
              </a:solidFill>
              <a:latin typeface="Calibri"/>
            </a:endParaRPr>
          </a:p>
          <a:p>
            <a:pPr lvl="2" marL="1051560" indent="-21024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vide opportunities to present to senior leaders</a:t>
            </a:r>
            <a:endParaRPr b="0" lang="en-US" sz="2800" spc="-1" strike="noStrike">
              <a:solidFill>
                <a:srgbClr val="000000"/>
              </a:solidFill>
              <a:latin typeface="Calibri"/>
            </a:endParaRPr>
          </a:p>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00:32:19Z</dcterms:created>
  <dc:creator>Heon-Jae Jeong, MD, MPH, MBA</dc:creator>
  <dc:description/>
  <dc:language>en-US</dc:language>
  <cp:lastModifiedBy>Karen Fleming-Michael</cp:lastModifiedBy>
  <dcterms:modified xsi:type="dcterms:W3CDTF">2013-01-30T17:26:22Z</dcterms:modified>
  <cp:revision>564</cp:revision>
  <dc:subject/>
  <dc:title>Project Report - Lean Sig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9DD924C0397EB4AA26B65D1B8E62784</vt:lpwstr>
  </property>
</Properties>
</file>