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4" name="PlaceHolder 2"/>
          <p:cNvSpPr>
            <a:spLocks noGrp="1"/>
          </p:cNvSpPr>
          <p:nvPr>
            <p:ph type="dt" idx="43"/>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D0E6-E0D4-441A-8B2A-5C7DDB12BB1E}"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63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3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7" name="PlaceHolder 5"/>
          <p:cNvSpPr>
            <a:spLocks noGrp="1"/>
          </p:cNvSpPr>
          <p:nvPr>
            <p:ph type="ftr" idx="44"/>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8" name="PlaceHolder 6"/>
          <p:cNvSpPr>
            <a:spLocks noGrp="1"/>
          </p:cNvSpPr>
          <p:nvPr>
            <p:ph type="sldNum" idx="45"/>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B4F3-D98E-43CD-9A1E-68AE9A2C644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C58C-3C59-4E59-99C0-47E4F42E9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 of cardiac surgeon not doing check list. Cardiac SICU one year zero infections, then BAM! two infections linked to one noncompliant cardiac surgeon. Or other example story of physicians not being engaged in Q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04840" y="696960"/>
            <a:ext cx="4648320" cy="3486240"/>
          </a:xfrm>
          <a:prstGeom prst="rect">
            <a:avLst/>
          </a:prstGeom>
          <a:ln w="0">
            <a:noFill/>
          </a:ln>
        </p:spPr>
      </p:sp>
      <p:sp>
        <p:nvSpPr>
          <p:cNvPr id="7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n example of what a physician compact might look li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requently asked questions:   What percent?  Depends on local resources, anticipated effort</a:t>
            </a:r>
            <a:endParaRPr b="0" lang="en-US" sz="1200" spc="-1" strike="noStrike">
              <a:solidFill>
                <a:srgbClr val="000000"/>
              </a:solidFill>
              <a:latin typeface="Calibri"/>
            </a:endParaRPr>
          </a:p>
        </p:txBody>
      </p:sp>
      <p:sp>
        <p:nvSpPr>
          <p:cNvPr id="7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B210-F090-425E-B15F-3AF2FC34D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A1FE-DD89-46C8-8687-8878FF53B4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04840" y="696960"/>
            <a:ext cx="4648320" cy="3486240"/>
          </a:xfrm>
          <a:prstGeom prst="rect">
            <a:avLst/>
          </a:prstGeom>
          <a:ln w="0">
            <a:noFill/>
          </a:ln>
        </p:spPr>
      </p:sp>
      <p:sp>
        <p:nvSpPr>
          <p:cNvPr id="7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Peter’ story of automated flush toilet at his kid’s school or simi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change and fact that it is not change per se people fear but loss of control and surprise=loss of contr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ister/dissenter may have valuable insight that can help you and listening/valuing them brings them on board and improve the proces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2789-ACD8-4617-8192-8C6E83FEF7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04840" y="696960"/>
            <a:ext cx="4648320" cy="3486240"/>
          </a:xfrm>
          <a:prstGeom prst="rect">
            <a:avLst/>
          </a:prstGeom>
          <a:ln w="0">
            <a:noFill/>
          </a:ln>
        </p:spPr>
      </p:sp>
      <p:sp>
        <p:nvSpPr>
          <p:cNvPr id="7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ger story from daily go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want to review the physician engagement self-diagnostic tool that is available on the website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04840" y="696960"/>
            <a:ext cx="4648320" cy="3486240"/>
          </a:xfrm>
          <a:prstGeom prst="rect">
            <a:avLst/>
          </a:prstGeom>
          <a:ln w="0">
            <a:noFill/>
          </a:ln>
        </p:spPr>
      </p:sp>
      <p:sp>
        <p:nvSpPr>
          <p:cNvPr id="7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hard to have too much communication</a:t>
            </a:r>
            <a:endParaRPr b="0" lang="en-US" sz="1200" spc="-1" strike="noStrike">
              <a:solidFill>
                <a:srgbClr val="000000"/>
              </a:solidFill>
              <a:latin typeface="Calibri"/>
            </a:endParaRPr>
          </a:p>
        </p:txBody>
      </p:sp>
      <p:sp>
        <p:nvSpPr>
          <p:cNvPr id="7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25E4-EA6A-43E5-AA8A-43E1492485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04840" y="696960"/>
            <a:ext cx="4648320" cy="3486240"/>
          </a:xfrm>
          <a:prstGeom prst="rect">
            <a:avLst/>
          </a:prstGeom>
          <a:ln w="0">
            <a:noFill/>
          </a:ln>
        </p:spPr>
      </p:sp>
      <p:sp>
        <p:nvSpPr>
          <p:cNvPr id="7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4A88-793A-4CD6-98F3-83C6CA610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077B-11E6-4577-8E1E-53C4C3DC34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04840" y="696960"/>
            <a:ext cx="4648320" cy="3486240"/>
          </a:xfrm>
          <a:prstGeom prst="rect">
            <a:avLst/>
          </a:prstGeom>
          <a:ln w="0">
            <a:noFill/>
          </a:ln>
        </p:spPr>
      </p:sp>
      <p:sp>
        <p:nvSpPr>
          <p:cNvPr id="7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2BD1-207B-4EBD-B38A-0C735D649D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04840" y="696960"/>
            <a:ext cx="4648320" cy="3486240"/>
          </a:xfrm>
          <a:prstGeom prst="rect">
            <a:avLst/>
          </a:prstGeom>
          <a:ln w="0">
            <a:noFill/>
          </a:ln>
        </p:spPr>
      </p:sp>
      <p:sp>
        <p:nvSpPr>
          <p:cNvPr id="6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issues we hear our teams talk about having trouble with is engaging physicians… It reflects the hectic and difficult work-life of physicians today.   We worry about time, we worry about all our commitments, we fear being questioned, our pride is involved—and yet what matters most is the patient, our North Star– And Josie is our reminder of this need for commitment to our patients above our own needs and concern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04840" y="696960"/>
            <a:ext cx="4648320" cy="3486240"/>
          </a:xfrm>
          <a:prstGeom prst="rect">
            <a:avLst/>
          </a:prstGeom>
          <a:ln w="0">
            <a:noFill/>
          </a:ln>
        </p:spPr>
      </p:sp>
      <p:sp>
        <p:nvSpPr>
          <p:cNvPr id="6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is session, the participant will be able…</a:t>
            </a:r>
            <a:endParaRPr b="0" lang="en-US" sz="1200" spc="-1" strike="noStrike">
              <a:solidFill>
                <a:srgbClr val="000000"/>
              </a:solidFill>
              <a:latin typeface="Calibri"/>
            </a:endParaRPr>
          </a:p>
        </p:txBody>
      </p:sp>
      <p:sp>
        <p:nvSpPr>
          <p:cNvPr id="6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0DD8-3010-4900-83DC-0F3059382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project, this operationally means that physicians actively support the project, They trust that it will improve patient outcomes and view THEMSELVES as a stakeholder in the process and outc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89F0-853D-44A3-A3DD-8BC0A67DF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1EA5-0B75-4ABA-AE6E-6DC2B8AAB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organization of this project that has been presented before, you can think of engagement as an adaptive problem.  The “technology” of accomplishing engagement is not well defined.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04840" y="696960"/>
            <a:ext cx="4648320" cy="3486240"/>
          </a:xfrm>
          <a:prstGeom prst="rect">
            <a:avLst/>
          </a:prstGeom>
          <a:ln w="0">
            <a:noFill/>
          </a:ln>
        </p:spPr>
      </p:sp>
      <p:sp>
        <p:nvSpPr>
          <p:cNvPr id="6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think of continuum of feeling from aversion (I’m not going to do this) to apathy (I won’t derail it) to engagement (this is a good idea).  We clearly want physicians and other participants to be fully engaged and supportive, not merely adhering to the protoc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5435-2FC9-4E8B-BB15-F09F9517C1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04840" y="696960"/>
            <a:ext cx="4648320" cy="3486240"/>
          </a:xfrm>
          <a:prstGeom prst="rect">
            <a:avLst/>
          </a:prstGeom>
          <a:ln w="0">
            <a:noFill/>
          </a:ln>
        </p:spPr>
      </p:sp>
      <p:sp>
        <p:nvSpPr>
          <p:cNvPr id="69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m Jerry McGuire:  Show me the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provide the evidence for you to use; safercare.net</a:t>
            </a:r>
            <a:endParaRPr b="0" lang="en-US" sz="1200" spc="-1" strike="noStrike">
              <a:solidFill>
                <a:srgbClr val="000000"/>
              </a:solidFill>
              <a:latin typeface="Calibri"/>
            </a:endParaRPr>
          </a:p>
        </p:txBody>
      </p:sp>
      <p:sp>
        <p:nvSpPr>
          <p:cNvPr id="6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BE7B-790E-4283-BA03-7A7386F83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04840" y="696960"/>
            <a:ext cx="4648320" cy="3486240"/>
          </a:xfrm>
          <a:prstGeom prst="rect">
            <a:avLst/>
          </a:prstGeom>
          <a:ln w="0">
            <a:noFill/>
          </a:ln>
        </p:spPr>
      </p:sp>
      <p:sp>
        <p:nvSpPr>
          <p:cNvPr id="6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team must be viewed as both caring and competent; to inspire physician trust in the team, the process and the project</a:t>
            </a:r>
            <a:endParaRPr b="0" lang="en-US" sz="1200" spc="-1" strike="noStrike">
              <a:solidFill>
                <a:srgbClr val="000000"/>
              </a:solidFill>
              <a:latin typeface="Calibri"/>
            </a:endParaRPr>
          </a:p>
        </p:txBody>
      </p:sp>
      <p:sp>
        <p:nvSpPr>
          <p:cNvPr id="6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1C5B0-9B14-4274-A702-B9BB28B5B7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46BA-DDF0-417F-B6EB-95A60F612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04840" y="696960"/>
            <a:ext cx="4648320" cy="3486240"/>
          </a:xfrm>
          <a:prstGeom prst="rect">
            <a:avLst/>
          </a:prstGeom>
          <a:ln w="0">
            <a:noFill/>
          </a:ln>
        </p:spPr>
      </p:sp>
      <p:sp>
        <p:nvSpPr>
          <p:cNvPr id="6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champion: this is the person who other physicians respect facilitates credibility for project/eff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should feed back to physicians its assessment of physician performance on this project; management must actively support physician efforts at the same tim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9C353-6D30-4CE8-A537-94C9847B4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00554-A2DA-4E7C-BDEC-09C74E788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8E7C9B-7EEB-48AC-A438-2B23D12853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E689BE-02DB-43A9-A99C-3817BD3B3A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6CE822-4F46-4A0B-957F-6B4F6D64B1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5C9747-65DD-4DA7-A953-776E08CD2A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E2B415-8925-4D8C-AA5A-7E1FB37FCB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6EC8B4-A0E4-42B3-858D-F7C5F28CE7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D4769B-AA0B-4315-B59C-A3B155CAF3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2CFEBF-08F6-43A8-A27C-ED548A8E1B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247298-3992-4EEA-A08A-6491CACA71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54270A8-DEFC-4133-8E3A-E85999F2E76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2F2C4-50F2-4784-946B-C07894B94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31A801-8FF2-4926-92EC-DC10E3CE9F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0961E7-99EA-4424-A775-36EFF0CD91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3A6527-BC2E-453D-AA34-50D1041B84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5E4184-D26C-46A3-91A3-71A2193F21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4880F8-BD6F-4C8F-ADE5-FEEBD19AD7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2F7A63-0EAC-426F-8291-7EF1899AAE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DA2130-99B8-492F-8DE6-C084BAB740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29AAC6-E7A9-47BE-AC12-DF83BE4464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199F2A-328D-4DB3-B2B1-EC935A13EB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99D1785-CA7D-48AB-902F-EDFF2F02A99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58420-204B-4856-B655-2EC76BF10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B369CC2-8D84-4944-AAA9-F2227BC6988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D8D2C3-C9A8-44CD-8B18-768E25AE65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DDD79D-1953-4BE5-9640-2147DAE986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720B13-8835-43EF-BB19-9F0D43BC5C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9537CC-A707-45F7-8BE9-E8AA337C6E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42612F-E157-4A67-8D2F-D0EBA664D2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642960-8EAB-4B15-83A6-929787BBAA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CC8581-9C11-4E3A-984E-56E6538543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9557B3-A6F7-4790-8123-66C6D62E8C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7902DA-D6BC-48F3-ADCC-A698A4199D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9BF8E-018F-4406-B1C2-8BE51E8CC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865185-A1DD-4904-9946-E4580FF4EF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F88FB5C-C0BE-4E26-8656-9857F3BDBFB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1E02A7-3577-45F5-A3B7-08A9D7F3D2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475AFFB-7043-4B42-8C4A-36EA6C121C1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FABEB8-87E8-4CE1-9113-B56B32EC77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E99384-A392-47A7-BA92-37111BA171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E371E7-8275-4CC0-9BAB-693FCBFE5B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8A68DA-6CE1-44B5-84DD-3FB0125028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BE3F84-4F4B-4EE8-8A4B-E748DB4861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1657C9-EE1C-41B1-8A45-B164A5C95E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BF704-F682-4BFE-BC0A-715FC1005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616AB0-C354-4127-88C0-EF8BB1964F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97B79A-B218-49FD-AD1A-F0BA033F97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55BD2D-A83B-4E7B-9D0C-9D144AC4FD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4171E88-4488-4EC1-9E3A-50144400AAC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F9A43E5-CF68-4C65-A274-8FE5B775FD1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0126DB8-41AC-441F-9243-A0B2D646DB2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209755-6D3B-4A27-9F68-11CB27106B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553E8C8-49F9-4FDD-A885-40E424C7C2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F89E09-481A-49F5-ACC5-92267289D76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AB3C19D-C892-4CE2-9535-34A06F662C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AC42D-593E-4C8D-B349-26F5B07E7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78459C-065E-4647-AF2F-E2DD1E949FF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E217F7E-EE1A-430D-8B3A-418637FF02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208F95-9554-4F53-B3C3-B51DCAECCA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5EA5E1-0822-478B-8452-C44D76DA6A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CB69CA0-4591-4A23-9211-BF0D85374B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5AA281A-C4B5-46F8-BE58-71207B721E0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4ED58BB-24B0-478D-BA4C-9CF5EC0514C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3F217BE-FB47-444B-B352-D076F7E7E44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E6C97C3-8499-4323-A97D-3EE03560E5B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630F016-1B8B-4975-841B-72C62321CF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8049D-62AF-44D1-9838-9ECD260F2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8411F8C-9D72-4FC6-AA2B-D835135671A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56C28E8-FFEC-4181-A54F-D1133F118B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B3650A6-B565-47C7-982B-8281ABD46F4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2E812E-A7B8-4E8A-BFC1-52F1EB5092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7D4093B-2F98-4F74-8CDB-1BE1F65740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60AB447-62DA-4379-B252-467BA20509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9B2C537-9DDA-44EA-88B5-48BB1637B2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52C3728-FF3C-4543-9C5F-EB0E95E67C4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B23061F-725C-4D9B-9DD2-5E0AA245285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F25A5-D687-4538-8FD2-9FDE87374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26A67-0D31-4DC6-8CE8-B8D4897B7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2E41A-E6C2-4AF4-B0A5-0D9EEFC25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F4765-B56F-4370-9975-B72CAE60F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7F951-C3B4-4C45-8C7C-BD0DECBC7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60A42-9C80-41F6-9270-37A39F45B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773D9-F18E-4680-B0CE-2C67EE031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D9BFB-C818-4CC6-BB27-8A5B022DD8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E7CCF-3FD6-4AE3-A7AA-E831A5AD58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1C6526-F4BB-4191-AA1B-FE137585D6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482A98-C582-45CD-B385-ECFB79BBAE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213799-4D8C-4980-96B4-44C43C9551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766CCF-6BEC-440D-BE1B-68AA42B56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05AE99-277F-4CE3-B014-02480B6B3B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BA6ED-FE09-4310-AAFB-F09E8AFEC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BD05C7-5A67-4409-B17C-83F6D977DA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C43C1-27E5-4A95-9F13-075A1EA944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74DF4-AA17-4CF4-945D-0A1CE3999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F24392-05CB-40FD-9533-B9884C396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2C7919-8553-40B4-A0A8-E2532E8752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A71823-C97B-4455-8792-4CDA009442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B4F1EE-956C-4F1D-9C84-A0555A2E59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C5C86D-F7F2-4288-B08E-E46C0027B0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DA9892-75A8-4ADF-A1CB-78E40E991C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44DC67-9095-4FF4-9813-1383A78150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7A40E-1C6C-46C9-8C4E-F53ECDAF7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46FC04-73CB-48D5-940D-D12E71775C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23C93B-41AD-4F06-8CF5-1FA6CC615A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BF858E-BDC5-4FEF-8425-7FB729F7CB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0F092F-1BB4-4F1A-A327-CEC5FF43CC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425848-8D0D-4ACA-829C-205304C3D7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08D5EC-D939-4218-9930-0AE47D2997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88C001-BEA1-42A8-B9B1-9ABE7E8651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D86098-C8A2-4BC9-A971-1A9EC0CB99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584EAB-9E22-4B1B-AF89-90599020A9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631AD3-4F2D-4ADE-8B21-6590061364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68EF6-2B1E-4A7E-9B29-BF3ED189C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CCA99C-C81F-45E3-BEE9-33F079E8AC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AB20B1-E9EF-4AED-A281-5BB75B24D1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20B6BA-7670-4035-A4B1-35AA2E446F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2C903F-5DE4-4B6C-9F4D-A9B437AD34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DD9E9E-A30C-4576-9D8C-A450B33CD2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B46B94-65DB-4B93-A681-727AD60C0A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EF6736-9D73-40D7-B330-D987C10DE4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7F9173-83C8-43AB-B17F-4565D6F238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9175B6-2B16-4D7C-8FF5-799BDE0BA9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620F7F-6C04-4B3D-B981-15F1D67B04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FFB08-8E43-4F16-BE11-808DCBE2E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FBE25D-36E5-40DF-9475-E18D3B7C20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4D6313-CB8F-4E0B-89BA-4FD756DFD7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588B23-3A82-4412-BE56-A8D8D9D52F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5EDD51-60AF-4A44-9CF7-2685E03746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4517BF-D665-4E6A-B42F-6B493D24F7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03EA43-96FE-45CA-9262-34099DA936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8AB76F-4F0F-4C6A-B8B7-4364BD8868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C8E62F-F3C2-47F1-9A33-9EB2A4CFDD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E2DD2A-BDF3-4128-9B8F-C68C58B8C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8BD10E-DB9D-41C5-A7BE-3419CE6993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5C5F5-79DF-4922-A1E1-12FD447E5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7C5710-5C05-4BB3-96B1-F0B7A5C47A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71D994-18C9-45BD-9733-6DCB121B15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D603F1-0A6F-4B55-814B-E564822ADE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27BEBF-3DD5-4625-82BF-DE05F9A8D1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924818-A777-4792-BBAE-CC6CF4B069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62CECE-97C7-4325-9F7B-E3EEC64D4D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3462B2-B8C1-47AB-A109-720DA5AD6B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9301F4-4BCD-4A89-BF7C-0DF416F702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8C4B91-AC6E-46BC-8E6D-263492059E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3EC597-B470-4FAA-95E3-20ECE303C1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136FE-41A8-4E75-8715-E03C8B3AB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1B7AEB-6E71-40B9-98EA-4585FE50A5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9A1240-FEDB-46EA-96F6-F71C0C85DA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607318-00F2-49C8-99BA-831A595B57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3B6F4E-30F9-4CB4-9D9F-21C2B702C3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96597D-63AE-41ED-A81F-39A099300E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7BAB6F-923A-4946-863F-4653122FBC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0996E4-662A-491A-A00C-D6A1CA1177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CFDEF2-26BC-4B03-9784-7B8554914B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C873F1-F858-4759-BE92-7AF5C455B4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7DD6C2-6B6E-4F71-B573-ED7FB81B55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8DB54-A8B7-4ED5-A9D3-A2265DBB7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206DCC-5F54-4F31-9DF0-030BAB6678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28DA71-E2EB-418F-883B-1172112684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BB7B04-CF04-462D-9864-6A38558888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832B48-DBDB-4362-BD40-04BE0F1B5F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764297-D915-4DE5-8BA4-0FE67F6526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DCB8A5-60E5-46EE-9E87-E662044FB7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D87F65-F561-4815-84CA-CA37E9D20B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537B6B-D236-48AF-A831-68EF635104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74D4B5-CFF8-423D-98AB-1EAFA54CE8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F06227-CE4B-496C-A2C9-678C43CDFD2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9F03-1F38-4687-ABC8-4C081077243E}" type="slidenum">
              <a:rPr b="1"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5"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Picture 10" descr="CUSP-LOGO-no-tagline.gif"/>
          <p:cNvPicPr/>
          <p:nvPr/>
        </p:nvPicPr>
        <p:blipFill>
          <a:blip r:embed="rId2"/>
          <a:stretch/>
        </p:blipFill>
        <p:spPr>
          <a:xfrm>
            <a:off x="6929280" y="5867280"/>
            <a:ext cx="221472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0" name="Picture 10" descr="CUSP-LOGO-no-tagline.gif"/>
          <p:cNvPicPr/>
          <p:nvPr/>
        </p:nvPicPr>
        <p:blipFill>
          <a:blip r:embed="rId2"/>
          <a:stretch/>
        </p:blipFill>
        <p:spPr>
          <a:xfrm>
            <a:off x="6929280" y="5867280"/>
            <a:ext cx="2214720" cy="990720"/>
          </a:xfrm>
          <a:prstGeom prst="rect">
            <a:avLst/>
          </a:prstGeom>
          <a:ln w="0">
            <a:noFill/>
          </a:ln>
        </p:spPr>
      </p:pic>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0"/>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B4DD-D420-4FA6-933F-4CC00F3CD825}"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5" name="Picture 10" descr="CUSP-LOGO-no-tagline.gif"/>
          <p:cNvPicPr/>
          <p:nvPr/>
        </p:nvPicPr>
        <p:blipFill>
          <a:blip r:embed="rId2"/>
          <a:stretch/>
        </p:blipFill>
        <p:spPr>
          <a:xfrm>
            <a:off x="6929280" y="5867280"/>
            <a:ext cx="2214720" cy="990720"/>
          </a:xfrm>
          <a:prstGeom prst="rect">
            <a:avLst/>
          </a:prstGeom>
          <a:ln w="0">
            <a:noFill/>
          </a:ln>
        </p:spPr>
      </p:pic>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33"/>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1C67-FD87-4970-9C02-5AB31B990763}"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0" name="Picture 10" descr="CUSP-LOGO-no-tagline.gif"/>
          <p:cNvPicPr/>
          <p:nvPr/>
        </p:nvPicPr>
        <p:blipFill>
          <a:blip r:embed="rId2"/>
          <a:stretch/>
        </p:blipFill>
        <p:spPr>
          <a:xfrm>
            <a:off x="6929280" y="5867280"/>
            <a:ext cx="2214720" cy="990720"/>
          </a:xfrm>
          <a:prstGeom prst="rect">
            <a:avLst/>
          </a:prstGeom>
          <a:ln w="0">
            <a:noFill/>
          </a:ln>
        </p:spPr>
      </p:pic>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6"/>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B7DE-E15A-4071-80C2-8EF6D231C55D}"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5" name="Picture 10" descr="CUSP-LOGO-no-tagline.gif"/>
          <p:cNvPicPr/>
          <p:nvPr/>
        </p:nvPicPr>
        <p:blipFill>
          <a:blip r:embed="rId2"/>
          <a:stretch/>
        </p:blipFill>
        <p:spPr>
          <a:xfrm>
            <a:off x="6929280" y="5867280"/>
            <a:ext cx="2214720" cy="990720"/>
          </a:xfrm>
          <a:prstGeom prst="rect">
            <a:avLst/>
          </a:prstGeom>
          <a:ln w="0">
            <a:noFill/>
          </a:ln>
        </p:spPr>
      </p:pic>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laceHolder 5"/>
          <p:cNvSpPr>
            <a:spLocks noGrp="1"/>
          </p:cNvSpPr>
          <p:nvPr>
            <p:ph type="sldNum" idx="39"/>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54C7-7C62-46B5-902D-C71CD0A765E7}"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0" name="Picture 10" descr="CUSP-LOGO-no-tagline.gif"/>
          <p:cNvPicPr/>
          <p:nvPr/>
        </p:nvPicPr>
        <p:blipFill>
          <a:blip r:embed="rId2"/>
          <a:stretch/>
        </p:blipFill>
        <p:spPr>
          <a:xfrm>
            <a:off x="6929280" y="5867280"/>
            <a:ext cx="2214720" cy="990720"/>
          </a:xfrm>
          <a:prstGeom prst="rect">
            <a:avLst/>
          </a:prstGeom>
          <a:ln w="0">
            <a:noFill/>
          </a:ln>
        </p:spPr>
      </p:pic>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3"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5"/>
          <p:cNvSpPr>
            <a:spLocks noGrp="1"/>
          </p:cNvSpPr>
          <p:nvPr>
            <p:ph type="sldNum" idx="42"/>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C637-2857-47A2-A936-5E6776138AE5}"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10" descr="CUSP-LOGO-no-tagline.gif"/>
          <p:cNvPicPr/>
          <p:nvPr/>
        </p:nvPicPr>
        <p:blipFill>
          <a:blip r:embed="rId2"/>
          <a:stretch/>
        </p:blipFill>
        <p:spPr>
          <a:xfrm>
            <a:off x="6929280" y="5867280"/>
            <a:ext cx="2214720" cy="9907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760D-8D4C-4F44-86B1-75CE71190893}"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Picture 10" descr="CUSP-LOGO-no-tagline.gif"/>
          <p:cNvPicPr/>
          <p:nvPr/>
        </p:nvPicPr>
        <p:blipFill>
          <a:blip r:embed="rId2"/>
          <a:stretch/>
        </p:blipFill>
        <p:spPr>
          <a:xfrm>
            <a:off x="6929280" y="5867280"/>
            <a:ext cx="2214720" cy="99072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4723-3420-4417-BD28-D14F2F9EB9A6}"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Picture 10" descr="CUSP-LOGO-no-tagline.gif"/>
          <p:cNvPicPr/>
          <p:nvPr/>
        </p:nvPicPr>
        <p:blipFill>
          <a:blip r:embed="rId2"/>
          <a:stretch/>
        </p:blipFill>
        <p:spPr>
          <a:xfrm>
            <a:off x="6929280" y="5867280"/>
            <a:ext cx="2214720" cy="99072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type="sldNum" idx="12"/>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AF03-2C6B-44FC-9618-092DB1D9B143}"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3" name="Picture 10" descr="CUSP-LOGO-no-tagline.gif"/>
          <p:cNvPicPr/>
          <p:nvPr/>
        </p:nvPicPr>
        <p:blipFill>
          <a:blip r:embed="rId2"/>
          <a:stretch/>
        </p:blipFill>
        <p:spPr>
          <a:xfrm>
            <a:off x="6929280" y="5867280"/>
            <a:ext cx="2214720" cy="990720"/>
          </a:xfrm>
          <a:prstGeom prst="rect">
            <a:avLst/>
          </a:prstGeom>
          <a:ln w="0">
            <a:noFill/>
          </a:ln>
        </p:spPr>
      </p:pic>
      <p:sp>
        <p:nvSpPr>
          <p:cNvPr id="184" name="Rectangle 13"/>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Straight Connector 13"/>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51CC-0877-4DE7-A471-7FF4844A1A70}"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0" name="Picture 10" descr="CUSP-LOGO-no-tagline.gif"/>
          <p:cNvPicPr/>
          <p:nvPr/>
        </p:nvPicPr>
        <p:blipFill>
          <a:blip r:embed="rId2"/>
          <a:stretch/>
        </p:blipFill>
        <p:spPr>
          <a:xfrm>
            <a:off x="6929280" y="5867280"/>
            <a:ext cx="2214720" cy="990720"/>
          </a:xfrm>
          <a:prstGeom prst="rect">
            <a:avLst/>
          </a:prstGeom>
          <a:ln w="0">
            <a:noFill/>
          </a:ln>
        </p:spPr>
      </p:pic>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FC5E-DF1A-4D08-8F92-DF7685501980}"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5" name="Picture 10" descr="CUSP-LOGO-no-tagline.gif"/>
          <p:cNvPicPr/>
          <p:nvPr/>
        </p:nvPicPr>
        <p:blipFill>
          <a:blip r:embed="rId2"/>
          <a:stretch/>
        </p:blipFill>
        <p:spPr>
          <a:xfrm>
            <a:off x="6929280" y="5867280"/>
            <a:ext cx="2214720" cy="990720"/>
          </a:xfrm>
          <a:prstGeom prst="rect">
            <a:avLst/>
          </a:prstGeom>
          <a:ln w="0">
            <a:noFill/>
          </a:ln>
        </p:spPr>
      </p:pic>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9C77-6809-4D70-813F-A38C919FFEB5}"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0" name="Picture 10" descr="CUSP-LOGO-no-tagline.gif"/>
          <p:cNvPicPr/>
          <p:nvPr/>
        </p:nvPicPr>
        <p:blipFill>
          <a:blip r:embed="rId2"/>
          <a:stretch/>
        </p:blipFill>
        <p:spPr>
          <a:xfrm>
            <a:off x="6929280" y="5867280"/>
            <a:ext cx="2214720" cy="990720"/>
          </a:xfrm>
          <a:prstGeom prst="rect">
            <a:avLst/>
          </a:prstGeom>
          <a:ln w="0">
            <a:noFill/>
          </a:ln>
        </p:spPr>
      </p:pic>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5"/>
          <p:cNvSpPr>
            <a:spLocks noGrp="1"/>
          </p:cNvSpPr>
          <p:nvPr>
            <p:ph type="sldNum" idx="24"/>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9ADD-99A5-4361-872B-45AF38F20A5E}"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Rectangle 10"/>
          <p:cNvSpPr/>
          <p:nvPr/>
        </p:nvSpPr>
        <p:spPr>
          <a:xfrm>
            <a:off x="0" y="0"/>
            <a:ext cx="9144000" cy="1447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Straight Connector 11"/>
          <p:cNvSpPr/>
          <p:nvPr/>
        </p:nvSpPr>
        <p:spPr>
          <a:xfrm>
            <a:off x="0" y="1447920"/>
            <a:ext cx="9144000" cy="0"/>
          </a:xfrm>
          <a:prstGeom prst="line">
            <a:avLst/>
          </a:prstGeom>
          <a:ln w="63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Straight Connector 12"/>
          <p:cNvSpPr/>
          <p:nvPr/>
        </p:nvSpPr>
        <p:spPr>
          <a:xfrm>
            <a:off x="0" y="1523880"/>
            <a:ext cx="9144000" cy="0"/>
          </a:xfrm>
          <a:prstGeom prst="line">
            <a:avLst/>
          </a:prstGeom>
          <a:ln w="12708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5" name="Picture 10" descr="CUSP-LOGO-no-tagline.gif"/>
          <p:cNvPicPr/>
          <p:nvPr/>
        </p:nvPicPr>
        <p:blipFill>
          <a:blip r:embed="rId2"/>
          <a:stretch/>
        </p:blipFill>
        <p:spPr>
          <a:xfrm>
            <a:off x="6929280" y="5867280"/>
            <a:ext cx="2214720" cy="990720"/>
          </a:xfrm>
          <a:prstGeom prst="rect">
            <a:avLst/>
          </a:prstGeom>
          <a:ln w="0">
            <a:noFill/>
          </a:ln>
        </p:spPr>
      </p:pic>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0" y="6381360"/>
            <a:ext cx="914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694A-65DD-4AED-9785-6438D5D9812C}" type="slidenum">
              <a:rPr b="1" lang="en-US" sz="1400" spc="-1" strike="noStrike">
                <a:solidFill>
                  <a:srgbClr val="000000"/>
                </a:solidFill>
                <a:latin typeface="Calibri"/>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0" y="2666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alibri"/>
              </a:rPr>
              <a:t>Physician Engagement</a:t>
            </a:r>
            <a:endParaRPr b="0" lang="en-US" sz="5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Physician Engagement Strategies</a:t>
            </a:r>
            <a:endParaRPr b="0" lang="en-US" sz="44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Management level (continued)</a:t>
            </a:r>
            <a:endParaRPr b="0" lang="en-US" sz="3000" spc="-1" strike="noStrike">
              <a:solidFill>
                <a:srgbClr val="000000"/>
              </a:solidFill>
              <a:latin typeface="Calibri"/>
            </a:endParaRPr>
          </a:p>
          <a:p>
            <a:pPr lvl="1" marL="743040" indent="-28584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Create a compact (agreement)</a:t>
            </a:r>
            <a:endParaRPr b="0" lang="en-US" sz="3000" spc="-1" strike="noStrike">
              <a:solidFill>
                <a:srgbClr val="000000"/>
              </a:solidFill>
              <a:latin typeface="Calibri"/>
            </a:endParaRPr>
          </a:p>
          <a:p>
            <a:pPr lvl="2" marL="1143000" indent="-228600">
              <a:spcBef>
                <a:spcPts val="7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Clearly define what is expected of physicians</a:t>
            </a:r>
            <a:endParaRPr b="0" lang="en-US" sz="3000" spc="-1" strike="noStrike">
              <a:solidFill>
                <a:srgbClr val="000000"/>
              </a:solidFill>
              <a:latin typeface="Calibri"/>
            </a:endParaRPr>
          </a:p>
          <a:p>
            <a:pPr lvl="2" marL="1143000" indent="-228600">
              <a:spcBef>
                <a:spcPts val="7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Review performance regularly </a:t>
            </a:r>
            <a:endParaRPr b="0" lang="en-US" sz="3000" spc="-1" strike="noStrike">
              <a:solidFill>
                <a:srgbClr val="000000"/>
              </a:solidFill>
              <a:latin typeface="Calibri"/>
            </a:endParaRPr>
          </a:p>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ahoma"/>
              </a:rPr>
              <a:t>Example: </a:t>
            </a:r>
            <a:br>
              <a:rPr sz="4000"/>
            </a:br>
            <a:r>
              <a:rPr b="1" lang="en-US" sz="4000" spc="-1" strike="noStrike">
                <a:solidFill>
                  <a:srgbClr val="ffffff"/>
                </a:solidFill>
                <a:latin typeface="Calibri"/>
                <a:ea typeface="Tahoma"/>
              </a:rPr>
              <a:t>Physician Champion Compact</a:t>
            </a:r>
            <a:endParaRPr b="0" lang="en-US" sz="4000" spc="-1" strike="noStrike">
              <a:solidFill>
                <a:srgbClr val="000000"/>
              </a:solidFill>
              <a:latin typeface="Calibri"/>
            </a:endParaRPr>
          </a:p>
        </p:txBody>
      </p:sp>
      <p:sp>
        <p:nvSpPr>
          <p:cNvPr id="658" name=""/>
          <p:cNvSpPr txBox="1"/>
          <p:nvPr/>
        </p:nvSpPr>
        <p:spPr>
          <a:xfrm>
            <a:off x="457200" y="1798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Hospital will provide support for percent of physicians’ tim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n return, physician wil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onitor and improve quali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mplement CUSP and CLABSI toolki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Hold regular meetings with tea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nvolve other members of medical staff in quali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Report CLABSI rates and learning from defects results to senior leaders and board</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77400"/>
            <a:ext cx="8686800" cy="10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Example: </a:t>
            </a:r>
            <a:br>
              <a:rPr sz="4400"/>
            </a:br>
            <a:r>
              <a:rPr b="1" lang="en-US" sz="4400" spc="-1" strike="noStrike">
                <a:solidFill>
                  <a:srgbClr val="ffffff"/>
                </a:solidFill>
                <a:latin typeface="Calibri"/>
                <a:ea typeface="Tahoma"/>
              </a:rPr>
              <a:t>Physician Champion Compact</a:t>
            </a:r>
            <a:endParaRPr b="0" lang="en-US" sz="4400" spc="-1" strike="noStrike">
              <a:solidFill>
                <a:srgbClr val="000000"/>
              </a:solidFill>
              <a:latin typeface="Calibri"/>
            </a:endParaRPr>
          </a:p>
        </p:txBody>
      </p:sp>
      <p:sp>
        <p:nvSpPr>
          <p:cNvPr id="660" name=""/>
          <p:cNvSpPr txBox="1"/>
          <p:nvPr/>
        </p:nvSpPr>
        <p:spPr>
          <a:xfrm>
            <a:off x="380880" y="2057400"/>
            <a:ext cx="8229600" cy="3733920"/>
          </a:xfrm>
          <a:prstGeom prst="rect">
            <a:avLst/>
          </a:prstGeom>
          <a:noFill/>
          <a:ln w="0">
            <a:noFill/>
          </a:ln>
        </p:spPr>
        <p:txBody>
          <a:bodyPr anchor="t">
            <a:normAutofit/>
          </a:bodyPr>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Further, the physician will</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Work with hospital to clarify what will be measured, who will measure it, and who will produce reports</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Meet quarterly to discuss progress</a:t>
            </a:r>
            <a:endParaRPr b="0" lang="en-US" sz="3000" spc="-1" strike="noStrike">
              <a:solidFill>
                <a:srgbClr val="000000"/>
              </a:solidFill>
              <a:latin typeface="Calibri"/>
            </a:endParaRPr>
          </a:p>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0" y="77400"/>
            <a:ext cx="9144000" cy="10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ahoma"/>
              </a:rPr>
              <a:t>Physician Engagement Strategies</a:t>
            </a:r>
            <a:endParaRPr b="0" lang="en-US" sz="4000" spc="-1" strike="noStrike">
              <a:solidFill>
                <a:srgbClr val="000000"/>
              </a:solidFill>
              <a:latin typeface="Calibri"/>
            </a:endParaRPr>
          </a:p>
        </p:txBody>
      </p:sp>
      <p:sp>
        <p:nvSpPr>
          <p:cNvPr id="662" name=""/>
          <p:cNvSpPr txBox="1"/>
          <p:nvPr/>
        </p:nvSpPr>
        <p:spPr>
          <a:xfrm>
            <a:off x="457200" y="1752480"/>
            <a:ext cx="8229600" cy="472464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taff level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reate containing vessel (environment) to have a dialogue with physicians (eliminate decoding errors)</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 and M, grand rounds, quality meetings, etc.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dentify and overcome barriers to engagement</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linician, intervention, system</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ry physician engagement self-diagnostic tool (safercare.net)</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hysician Engagement Strategies</a:t>
            </a:r>
            <a:endParaRPr b="0" lang="en-US" sz="4400" spc="-1" strike="noStrike">
              <a:solidFill>
                <a:srgbClr val="000000"/>
              </a:solidFill>
              <a:latin typeface="Calibri"/>
            </a:endParaRPr>
          </a:p>
        </p:txBody>
      </p:sp>
      <p:sp>
        <p:nvSpPr>
          <p:cNvPr id="664" name=""/>
          <p:cNvSpPr txBox="1"/>
          <p:nvPr/>
        </p:nvSpPr>
        <p:spPr>
          <a:xfrm>
            <a:off x="457200" y="1828440"/>
            <a:ext cx="8229600" cy="480060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taff level (continu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mmunicate prior to start of project </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No surprises</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ho, what, when, where, how</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Listen to those who resist/value the dissent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reate mechanisms to feed results back to physicians</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0" y="77400"/>
            <a:ext cx="9144000" cy="10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ahoma"/>
              </a:rPr>
              <a:t>Handling Barriers to Change</a:t>
            </a:r>
            <a:endParaRPr b="0" lang="en-US" sz="4000" spc="-1" strike="noStrike">
              <a:solidFill>
                <a:srgbClr val="000000"/>
              </a:solidFill>
              <a:latin typeface="Calibri"/>
            </a:endParaRPr>
          </a:p>
        </p:txBody>
      </p:sp>
      <p:sp>
        <p:nvSpPr>
          <p:cNvPr id="666" name=""/>
          <p:cNvSpPr txBox="1"/>
          <p:nvPr/>
        </p:nvSpPr>
        <p:spPr>
          <a:xfrm>
            <a:off x="457200" y="1600200"/>
            <a:ext cx="8229600" cy="45720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une in to WIFM (What’s In It For M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eople resist loss, not change</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ry to surface and mitigate real and perceived los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hysician’s time is likely a major concern</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erceived losses often much greater than real los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erceived loss high when communication is low</a:t>
            </a: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Manage Communication</a:t>
            </a:r>
            <a:endParaRPr b="0" lang="en-US" sz="4400" spc="-1" strike="noStrike">
              <a:solidFill>
                <a:srgbClr val="000000"/>
              </a:solidFill>
              <a:latin typeface="Calibri"/>
            </a:endParaRPr>
          </a:p>
        </p:txBody>
      </p:sp>
      <p:sp>
        <p:nvSpPr>
          <p:cNvPr id="668" name=""/>
          <p:cNvSpPr txBox="1"/>
          <p:nvPr/>
        </p:nvSpPr>
        <p:spPr>
          <a:xfrm>
            <a:off x="457200" y="1600200"/>
            <a:ext cx="8229600" cy="3581280"/>
          </a:xfrm>
          <a:prstGeom prst="rect">
            <a:avLst/>
          </a:prstGeom>
          <a:noFill/>
          <a:ln w="0">
            <a:noFill/>
          </a:ln>
        </p:spPr>
        <p:txBody>
          <a:bodyPr anchor="t">
            <a:normAutofit fontScale="98000"/>
          </a:bodyPr>
          <a:p>
            <a:pPr marL="335880" indent="-33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t each step or meeting</a:t>
            </a:r>
            <a:endParaRPr b="0" lang="en-US" sz="2800" spc="-1" strike="noStrike">
              <a:solidFill>
                <a:srgbClr val="000000"/>
              </a:solidFill>
              <a:latin typeface="Calibri"/>
            </a:endParaRPr>
          </a:p>
          <a:p>
            <a:pPr lvl="1" marL="727920" indent="-280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larify message</a:t>
            </a:r>
            <a:endParaRPr b="0" lang="en-US" sz="2800" spc="-1" strike="noStrike">
              <a:solidFill>
                <a:srgbClr val="000000"/>
              </a:solidFill>
              <a:latin typeface="Calibri"/>
            </a:endParaRPr>
          </a:p>
          <a:p>
            <a:pPr lvl="1" marL="727920" indent="-280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termine who needs to know</a:t>
            </a:r>
            <a:endParaRPr b="0" lang="en-US" sz="2800" spc="-1" strike="noStrike">
              <a:solidFill>
                <a:srgbClr val="000000"/>
              </a:solidFill>
              <a:latin typeface="Calibri"/>
            </a:endParaRPr>
          </a:p>
          <a:p>
            <a:pPr lvl="1" marL="727920" indent="-280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ake time for feedback</a:t>
            </a:r>
            <a:endParaRPr b="0" lang="en-US" sz="2800" spc="-1" strike="noStrike">
              <a:solidFill>
                <a:srgbClr val="000000"/>
              </a:solidFill>
              <a:latin typeface="Calibri"/>
            </a:endParaRPr>
          </a:p>
          <a:p>
            <a:pPr marL="335880" indent="-33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ssume that all staff have patient as their “North Star”</a:t>
            </a:r>
            <a:endParaRPr b="0" lang="en-US" sz="2800" spc="-1" strike="noStrike">
              <a:solidFill>
                <a:srgbClr val="000000"/>
              </a:solidFill>
              <a:latin typeface="Calibri"/>
            </a:endParaRPr>
          </a:p>
          <a:p>
            <a:pPr lvl="1" marL="727920" indent="-280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Remind staff they are participating in something greater – “Ohana”</a:t>
            </a:r>
            <a:endParaRPr b="0" lang="en-US" sz="2800" spc="-1" strike="noStrike">
              <a:solidFill>
                <a:srgbClr val="000000"/>
              </a:solidFill>
              <a:latin typeface="Calibri"/>
            </a:endParaRPr>
          </a:p>
          <a:p>
            <a:pPr marL="335880" indent="-3358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Action Plan</a:t>
            </a:r>
            <a:endParaRPr b="0" lang="en-US" sz="4400" spc="-1" strike="noStrike">
              <a:solidFill>
                <a:srgbClr val="000000"/>
              </a:solidFill>
              <a:latin typeface="Calibri"/>
            </a:endParaRPr>
          </a:p>
        </p:txBody>
      </p:sp>
      <p:sp>
        <p:nvSpPr>
          <p:cNvPr id="670" name=""/>
          <p:cNvSpPr txBox="1"/>
          <p:nvPr/>
        </p:nvSpPr>
        <p:spPr>
          <a:xfrm>
            <a:off x="457200" y="1828440"/>
            <a:ext cx="8229600" cy="396252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ultivate a physician champion for this projec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reate compact for physician champion rol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reate containing vessel for communicatio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velop communication plan for CUSP educatio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Listen to physicians to surface and mitigate loss</a:t>
            </a: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Picture 2" descr="Josie (Child Playing In Sand)"/>
          <p:cNvPicPr/>
          <p:nvPr/>
        </p:nvPicPr>
        <p:blipFill>
          <a:blip r:embed="rId1"/>
          <a:stretch/>
        </p:blipFill>
        <p:spPr>
          <a:xfrm>
            <a:off x="2666880" y="1828800"/>
            <a:ext cx="3409920" cy="4181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2" descr="Josie (Child Playing in Sand)"/>
          <p:cNvPicPr/>
          <p:nvPr/>
        </p:nvPicPr>
        <p:blipFill>
          <a:blip r:embed="rId1"/>
          <a:stretch/>
        </p:blipFill>
        <p:spPr>
          <a:xfrm>
            <a:off x="2438280" y="1676520"/>
            <a:ext cx="3915000" cy="4800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Learning Objectives</a:t>
            </a:r>
            <a:endParaRPr b="0" lang="en-US" sz="4400" spc="-1" strike="noStrike">
              <a:solidFill>
                <a:srgbClr val="000000"/>
              </a:solidFill>
              <a:latin typeface="Calibri"/>
            </a:endParaRPr>
          </a:p>
        </p:txBody>
      </p:sp>
      <p:sp>
        <p:nvSpPr>
          <p:cNvPr id="642" name=""/>
          <p:cNvSpPr txBox="1"/>
          <p:nvPr/>
        </p:nvSpPr>
        <p:spPr>
          <a:xfrm>
            <a:off x="457200" y="1600200"/>
            <a:ext cx="8229600" cy="3178080"/>
          </a:xfrm>
          <a:prstGeom prst="rect">
            <a:avLst/>
          </a:prstGeom>
          <a:noFill/>
          <a:ln w="0">
            <a:noFill/>
          </a:ln>
        </p:spPr>
        <p:txBody>
          <a:bodyPr anchor="t">
            <a:normAutofit/>
          </a:bodyPr>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o relate what is meant by physician engagement</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o discuss strategies at management and staff levels to enhance physician engagement</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What Do We Mean by Engagement?</a:t>
            </a:r>
            <a:endParaRPr b="0" lang="en-US" sz="4400" spc="-1" strike="noStrike">
              <a:solidFill>
                <a:srgbClr val="000000"/>
              </a:solidFill>
              <a:latin typeface="Calibri"/>
            </a:endParaRPr>
          </a:p>
        </p:txBody>
      </p:sp>
      <p:sp>
        <p:nvSpPr>
          <p:cNvPr id="644" name=""/>
          <p:cNvSpPr txBox="1"/>
          <p:nvPr/>
        </p:nvSpPr>
        <p:spPr>
          <a:xfrm>
            <a:off x="914040" y="1523520"/>
            <a:ext cx="7467480" cy="48006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Engagement: “To involve one self or become occupied;  to participate fully and deepl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ctive support of the projec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Where Does Engagement Fit?</a:t>
            </a:r>
            <a:endParaRPr b="0" lang="en-US" sz="4400" spc="-1" strike="noStrike">
              <a:solidFill>
                <a:srgbClr val="000000"/>
              </a:solidFill>
              <a:latin typeface="Calibri"/>
            </a:endParaRPr>
          </a:p>
        </p:txBody>
      </p:sp>
      <p:sp>
        <p:nvSpPr>
          <p:cNvPr id="646" name=""/>
          <p:cNvSpPr txBox="1"/>
          <p:nvPr/>
        </p:nvSpPr>
        <p:spPr>
          <a:xfrm>
            <a:off x="457200" y="1599840"/>
            <a:ext cx="8229600" cy="426708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Work involves technical problems</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Evidence</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easurement</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daptive problems</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Engagement of nurses, physicians, leaders, IP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mpeting prioritie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Overcoming barrier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meliorating safety and teamwork climate</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Stages of Engagement</a:t>
            </a:r>
            <a:endParaRPr b="0" lang="en-US" sz="4400" spc="-1" strike="noStrike">
              <a:solidFill>
                <a:srgbClr val="000000"/>
              </a:solidFill>
              <a:latin typeface="Calibri"/>
            </a:endParaRPr>
          </a:p>
        </p:txBody>
      </p:sp>
      <p:pic>
        <p:nvPicPr>
          <p:cNvPr id="648" name="Picture 2" descr="You can think of continuum of feeling from aversion (I’m not going to do this) to apathy (I won’t derail it) to engagement (this is a good idea).  We clearly want physicians and other participants to be fully engaged and supportive, not merely adhering to the protocol. &#10;"/>
          <p:cNvPicPr/>
          <p:nvPr/>
        </p:nvPicPr>
        <p:blipFill>
          <a:blip r:embed="rId1"/>
          <a:stretch/>
        </p:blipFill>
        <p:spPr>
          <a:xfrm>
            <a:off x="457200" y="2438280"/>
            <a:ext cx="8213760" cy="2971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ＭＳ Ｐゴシック"/>
              </a:rPr>
              <a:t>Engage Physician’s Intellect</a:t>
            </a:r>
            <a:endParaRPr b="0" lang="en-US" sz="4400" spc="-1" strike="noStrike">
              <a:solidFill>
                <a:srgbClr val="000000"/>
              </a:solidFill>
              <a:latin typeface="Calibri"/>
            </a:endParaRPr>
          </a:p>
        </p:txBody>
      </p:sp>
      <p:sp>
        <p:nvSpPr>
          <p:cNvPr id="650" name=""/>
          <p:cNvSpPr txBox="1"/>
          <p:nvPr/>
        </p:nvSpPr>
        <p:spPr>
          <a:xfrm>
            <a:off x="609480" y="1599840"/>
            <a:ext cx="8229600" cy="48006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Show them</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he evidence</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Your hospital’s CLABSI rate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hat others have achieved</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hat you can do the same</a:t>
            </a: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Engage by Creating Trust</a:t>
            </a:r>
            <a:endParaRPr b="0" lang="en-US" sz="4400" spc="-1" strike="noStrike">
              <a:solidFill>
                <a:srgbClr val="000000"/>
              </a:solidFill>
              <a:latin typeface="Calibri"/>
            </a:endParaRPr>
          </a:p>
        </p:txBody>
      </p:sp>
      <p:sp>
        <p:nvSpPr>
          <p:cNvPr id="652" name=""/>
          <p:cNvSpPr txBox="1"/>
          <p:nvPr/>
        </p:nvSpPr>
        <p:spPr>
          <a:xfrm>
            <a:off x="457200" y="1600200"/>
            <a:ext cx="8229600" cy="4191120"/>
          </a:xfrm>
          <a:prstGeom prst="rect">
            <a:avLst/>
          </a:prstGeom>
          <a:noFill/>
          <a:ln w="0">
            <a:noFill/>
          </a:ln>
        </p:spPr>
        <p:txBody>
          <a:bodyPr anchor="t">
            <a:norm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aring</a:t>
            </a:r>
            <a:endParaRPr b="0" lang="en-US" sz="28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Keep patients as your “North Star,” your focus</a:t>
            </a:r>
            <a:endParaRPr b="0" lang="en-US" sz="28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eventable harm is not acceptable</a:t>
            </a:r>
            <a:endParaRPr b="0" lang="en-US" sz="28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ell your own Josie story</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mpetent</a:t>
            </a:r>
            <a:endParaRPr b="0" lang="en-US" sz="28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Learn from mistakes and implement teamwork tools</a:t>
            </a:r>
            <a:endParaRPr b="0" lang="en-US" sz="28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monstrate early successes/project results</a:t>
            </a:r>
            <a:endParaRPr b="0" lang="en-US" sz="2800" spc="-1" strike="noStrike">
              <a:solidFill>
                <a:srgbClr val="000000"/>
              </a:solidFill>
              <a:latin typeface="Calibri"/>
            </a:endParaRPr>
          </a:p>
          <a:p>
            <a:pPr marL="343080" indent="-343080">
              <a:lnSpc>
                <a:spcPct val="150000"/>
              </a:lnSpc>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150000"/>
              </a:lnSpc>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Tahoma"/>
              </a:rPr>
              <a:t>Physician Engagement Strategies</a:t>
            </a:r>
            <a:endParaRPr b="0" lang="en-US" sz="4400" spc="-1" strike="noStrike">
              <a:solidFill>
                <a:srgbClr val="000000"/>
              </a:solidFill>
              <a:latin typeface="Calibri"/>
            </a:endParaRPr>
          </a:p>
        </p:txBody>
      </p:sp>
      <p:sp>
        <p:nvSpPr>
          <p:cNvPr id="654" name=""/>
          <p:cNvSpPr txBox="1"/>
          <p:nvPr/>
        </p:nvSpPr>
        <p:spPr>
          <a:xfrm>
            <a:off x="457200" y="1600200"/>
            <a:ext cx="8229600" cy="4114800"/>
          </a:xfrm>
          <a:prstGeom prst="rect">
            <a:avLst/>
          </a:prstGeom>
          <a:noFill/>
          <a:ln w="0">
            <a:noFill/>
          </a:ln>
        </p:spPr>
        <p:txBody>
          <a:bodyPr anchor="t">
            <a:normAutofit fontScale="92000"/>
          </a:bodyPr>
          <a:p>
            <a:pPr marL="315360" indent="-3153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anagement level </a:t>
            </a:r>
            <a:endParaRPr b="0" lang="en-US" sz="2800" spc="-1" strike="noStrike">
              <a:solidFill>
                <a:srgbClr val="000000"/>
              </a:solidFill>
              <a:latin typeface="Calibri"/>
            </a:endParaRPr>
          </a:p>
          <a:p>
            <a:pPr lvl="1" marL="683280" indent="-262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dentify physician champion for project</a:t>
            </a:r>
            <a:endParaRPr b="0" lang="en-US" sz="2800" spc="-1" strike="noStrike">
              <a:solidFill>
                <a:srgbClr val="000000"/>
              </a:solidFill>
              <a:latin typeface="Calibri"/>
            </a:endParaRPr>
          </a:p>
          <a:p>
            <a:pPr lvl="2" marL="1051560" indent="-21024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Unit director, chief medical officer, or senior physician</a:t>
            </a:r>
            <a:endParaRPr b="0" lang="en-US" sz="2800" spc="-1" strike="noStrike">
              <a:solidFill>
                <a:srgbClr val="000000"/>
              </a:solidFill>
              <a:latin typeface="Calibri"/>
            </a:endParaRPr>
          </a:p>
          <a:p>
            <a:pPr lvl="2" marL="1051560" indent="-21024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omeone other physicians look up to</a:t>
            </a:r>
            <a:endParaRPr b="0" lang="en-US" sz="2800" spc="-1" strike="noStrike">
              <a:solidFill>
                <a:srgbClr val="000000"/>
              </a:solidFill>
              <a:latin typeface="Calibri"/>
            </a:endParaRPr>
          </a:p>
          <a:p>
            <a:pPr lvl="1" marL="683280" indent="-26280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Reward physician champions for their efforts</a:t>
            </a:r>
            <a:endParaRPr b="0" lang="en-US" sz="2800" spc="-1" strike="noStrike">
              <a:solidFill>
                <a:srgbClr val="000000"/>
              </a:solidFill>
              <a:latin typeface="Calibri"/>
            </a:endParaRPr>
          </a:p>
          <a:p>
            <a:pPr lvl="2" marL="1051560" indent="-21024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Obtain hospital support for their time</a:t>
            </a:r>
            <a:endParaRPr b="0" lang="en-US" sz="2800" spc="-1" strike="noStrike">
              <a:solidFill>
                <a:srgbClr val="000000"/>
              </a:solidFill>
              <a:latin typeface="Calibri"/>
            </a:endParaRPr>
          </a:p>
          <a:p>
            <a:pPr lvl="2" marL="1051560" indent="-21024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Feature in newsletters</a:t>
            </a:r>
            <a:endParaRPr b="0" lang="en-US" sz="2800" spc="-1" strike="noStrike">
              <a:solidFill>
                <a:srgbClr val="000000"/>
              </a:solidFill>
              <a:latin typeface="Calibri"/>
            </a:endParaRPr>
          </a:p>
          <a:p>
            <a:pPr lvl="2" marL="1051560" indent="-210240">
              <a:lnSpc>
                <a:spcPct val="90000"/>
              </a:lnSpc>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vide opportunities to present to senior leaders</a:t>
            </a:r>
            <a:endParaRPr b="0" lang="en-US" sz="2800" spc="-1" strike="noStrike">
              <a:solidFill>
                <a:srgbClr val="000000"/>
              </a:solidFill>
              <a:latin typeface="Calibri"/>
            </a:endParaRPr>
          </a:p>
          <a:p>
            <a:pPr marL="315360" indent="-3153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00:32:19Z</dcterms:created>
  <dc:creator>Heon-Jae Jeong, MD, MPH, MBA</dc:creator>
  <dc:description/>
  <dc:language>en-US</dc:language>
  <cp:lastModifiedBy>Karen Fleming-Michael</cp:lastModifiedBy>
  <dcterms:modified xsi:type="dcterms:W3CDTF">2013-01-30T17:26:22Z</dcterms:modified>
  <cp:revision>564</cp:revision>
  <dc:subject/>
  <dc:title>Project Report - Lean Sigm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9DD924C0397EB4AA26B65D1B8E62784</vt:lpwstr>
  </property>
</Properties>
</file>