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12"/>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5" name="PlaceHolder 5"/>
          <p:cNvSpPr>
            <a:spLocks noGrp="1"/>
          </p:cNvSpPr>
          <p:nvPr>
            <p:ph type="ftr" idx="1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1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ABB4-BE93-4973-8F4B-5363297C6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lt tex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agram reading from top to botto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n the CUSP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ssemble a CUSP team, Partner with a senior Executive; Baseline Data</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echnical Practices to Prevent Har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vidence Based Practic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Evaluation 2. Systems Analysis 3. Process Developmen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ucation on the evidenc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Quality Improvement Tool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PDCA 2. Lean/Six Sigma 3. Reliable System Process 4. TCAB 5. Oth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aptive (CUS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mplementation/Sustaining</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Checklist 2. Policy/Procedures 3. Protocol's 4. Monitoring 6. Feedback</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ience of Safety</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Science of safety presentatio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 Attendance shee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ff Identify Defec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Staff Safety Assessment form 2. Identifying Hazards Presentatio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nior Executive partnershi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Education 2. Briefing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arning from Defec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LFD toolki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 RCA of each incidenc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mplement Tools for teamwork and communicatio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 Daily goals 2. Shadowing 3. AM Briefing 4. Call list 5. Team Check up tool 6. Team STEPPS Tool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5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14EB-1143-4997-9B73-DCC465BBD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04840" y="696960"/>
            <a:ext cx="4648320" cy="3486240"/>
          </a:xfrm>
          <a:prstGeom prst="rect">
            <a:avLst/>
          </a:prstGeom>
          <a:ln w="0">
            <a:noFill/>
          </a:ln>
        </p:spPr>
      </p:sp>
      <p:sp>
        <p:nvSpPr>
          <p:cNvPr id="5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 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Educate staff on Science of Safe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dentify defects ,study ca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eam uses evidence research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I tools to impro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Assign executive to adopt un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Implement teamwork too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rovide feedback, investigate each ca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Stage 3, 4 Pressure Ulc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Comprehensive skin 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Standardized pressure ulcer risk 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Care planning and implementation to address areas of ris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mplement other evidence based practices as nee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ww.onthecuspstophai.org</a:t>
            </a:r>
            <a:endParaRPr b="0" lang="en-US" sz="800" spc="-1" strike="noStrike">
              <a:solidFill>
                <a:srgbClr val="000000"/>
              </a:solidFill>
              <a:latin typeface="Arial"/>
            </a:endParaRPr>
          </a:p>
        </p:txBody>
      </p:sp>
      <p:sp>
        <p:nvSpPr>
          <p:cNvPr id="5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D1EA-D48B-414C-B1A3-7746A2563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781C-E5DC-4F77-B022-5BF5C607E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04840" y="696960"/>
            <a:ext cx="4648320" cy="3486240"/>
          </a:xfrm>
          <a:prstGeom prst="rect">
            <a:avLst/>
          </a:prstGeom>
          <a:ln w="0">
            <a:noFill/>
          </a:ln>
        </p:spPr>
      </p:sp>
      <p:sp>
        <p:nvSpPr>
          <p:cNvPr id="5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usp Diagram reading from top to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U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mble a CUSP team, Partner with a senior Executive; Baselin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Practices to Prevent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Based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valuation 2. Systems Analysis 3. Process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on the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Improvement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DCA 2. Lean/Six Sigma 3. Reliable System Process 4. TCAB 5.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CU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Sust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list 2. Policy/Procedures 3. Protocol's 4. Monitoring 6.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of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cience of safety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tendance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Identify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ff Safety Assessment form 2. Identifying Hazard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Executive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ducation 2. Brief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from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FD toolk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CA of each inc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Tools for teamwork and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ily goals 2. Shadowing 3. AM Briefing 4. Call list 5. Team Check up tool 6. Team STEPPS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9556-7328-4172-B862-2A24A77AD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 Tex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ble showing Safety Quality/Improvement two part proces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prov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we created a safe culture? How do we know we learn from mistake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SP Comprehensive Unit based Safety Program</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Educate staff on science of safety 2. Identify defects 3. Assign executive to adopt unit 4. Learn from one defect per quarter 5. Implement teamwork tool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often do we harm? Are Patient outcomes improv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P) Translating Evidence into Practic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Summarize the evidence in a checklis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Identify local barriers to implementati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Measure Performanc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 Ensure all patients get the evidenc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asur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665B-A296-44E7-98C0-B012DC96E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l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intervention consists of two parts that you will pursue simultaneously. So while you are doing the work of reducing BSI, you will also be seeking to improve communication among care team members, finding ways to better coordinate care, improving overall patient safety on your unit and working toward a healthy and rewarding unit culture. Today’s presentation is about the left side of this graphic, the CUSP program, the purpose of which is to help you realize these goals, by tailoring  its tools to your own unit and situation.  </a:t>
            </a:r>
            <a:endParaRPr b="0" lang="en-US" sz="1200" spc="-1" strike="noStrike">
              <a:solidFill>
                <a:srgbClr val="000000"/>
              </a:solidFill>
              <a:latin typeface="Arial"/>
            </a:endParaRPr>
          </a:p>
        </p:txBody>
      </p:sp>
      <p:sp>
        <p:nvSpPr>
          <p:cNvPr id="5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91D4-2249-4618-827C-CE5BB8D3F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04840" y="696960"/>
            <a:ext cx="4648320" cy="3486240"/>
          </a:xfrm>
          <a:prstGeom prst="rect">
            <a:avLst/>
          </a:prstGeom>
          <a:ln w="0">
            <a:noFill/>
          </a:ln>
        </p:spPr>
      </p:sp>
      <p:sp>
        <p:nvSpPr>
          <p:cNvPr id="5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5A9B-615B-4A5A-A322-FCFA94390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011CC-FF75-43CC-9605-D318A5D8DB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33E44CE-0F85-4111-8E72-DC77BF8A371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122D64C-4AE2-4EBC-ADA3-95A3BE440AF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6D0BFA41-D264-41D8-89CD-00F2235E637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E3D99FDB-BA6A-4BB5-9B45-7DFB89AD1B9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EF8F3E9-FF8F-40AE-BBCE-351FFA31DCE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25B5089-E161-4BB0-A146-622FC5294E8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52E6299-1BD7-4735-A04B-D2D929FA142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872615C-552C-4278-B448-478E403B4EC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A850CCF-63FA-4CC8-B111-EF7BC91A1AB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31B2712E-26B1-4F9D-ADC1-AF977F2835D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A5E358A-7EC8-4529-8862-71CF68DA44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DB74C9C-C6C0-49D0-B435-69C8A069CF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4DEAA2E-5A65-47D6-B5E7-79FC9AF67A4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12E792A-7A5D-4C06-8C35-A0CED638A6B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D3FB9C0-1F8C-47FD-8DF5-A47AF741775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9BD16913-F866-4368-81CA-6A2CA24FAD0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B206288D-BDA5-4B44-AF4D-0B5F4CCEF03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84EE69B-BB74-4113-8A0E-011BA18D53F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3BF0F5A-3A70-4209-82B2-9BA181F9A98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A916F91-1F29-4261-91C9-BDA500FC232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E792521-1E14-4D94-AFAC-4192B40832E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AE7C952-38E2-4AE4-BDDB-79CD4B62A1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87FFB74-65CE-46E8-8162-F0865C2C445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4E1A5184-CC6E-4862-BFB9-DAEACC114A7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127367-E5D3-4A31-8304-54A5767A232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5DD53BC-3125-48E8-A472-3A4A2F78B0F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0E03B6C-4C93-495B-AD15-13F10719738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BEF3BA1-4328-4CF4-A5AC-3248ACA19D8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B8939EE-9180-4F00-87B4-DA9357ED688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82F9B459-494D-4BB8-B1F3-25F688F61F1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1C260931-0A91-4D81-B25F-8113B5A19E4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64EE4F7-5265-415A-BA08-EAE75D22F6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3919696-5D1C-4F88-A20D-F4929FF4AFD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BE38EE9-E267-44FB-BD25-BA5E1A10B48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11C2E54-1312-4423-BE53-8FEA896CFF8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A8446C9-940F-4083-8A24-5C8850CDCA8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8F5C0AC5-3DF1-4FDA-9E8B-0C80BC0DE89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7A7488F-9409-496B-9976-7E91581ED6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390A58C-D652-4813-8050-382BE53BA9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FA74C79-E124-4DA9-A870-47EB0F9DD6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E8C8F51-EEA8-4B35-A1CA-930FAB5875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A3FEFA2-4706-4E7B-9B7B-AE52C394FF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1648952-8A83-4B95-A338-C557213108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590C5C4-0591-4708-A422-905C5CA9B9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C9C080C-A5AA-4E32-9943-7EDD6BD5B1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6F853E-FA59-4BA5-A8C2-4A4B424392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DDE240C-9F9A-495C-BE4F-42595624A3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47F0F03-885D-48FF-A4C4-85F1432AFD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453A2F8-242E-4A0E-B89C-35A4B63E992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265D36-D0E7-4D5B-87E9-C2A801208D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57A9ACF-C248-45EF-A15D-04CCEF9C0A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0065B33-851B-4071-B41F-2958428DA5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9090FE3-8F99-4FCE-9914-0A639770C8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AF193414-528D-4B1D-A718-1834BEAFBA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F1E8867-615D-4673-B78E-6E6A2470FD7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0F93719-654E-4DF8-BE14-46A106DD5A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0AC843-3222-4D04-969D-CE243F3071F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3A99DAC-7DF4-4338-8118-75C9842E5C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69C709-4DF3-47B2-BE7E-091E47ABD2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A56C8E7-3009-425D-B8A5-0FC77FE374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32B40CD-7F5A-4F9B-A9B6-1BC8DF543F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7215ABD-7DD3-418E-9656-C72C531D4F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30CDAE-D468-4FB5-B1BE-16667A0105D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8F1A271-E277-4BD8-9145-2C425B457FD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B3C50AF-D811-4E9E-8C38-5A7355BC40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DDF1F89-3A35-48EB-A6B7-56FF982CC0B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4D8EB5D-4C2E-48DE-86A2-E715A1D9585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371D28E-9657-4960-B056-B43DF3D8283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62F6E9C-7445-4BDC-B95C-2793F58286E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8158500-999F-49BF-A151-80B4D89A476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6F3F2E-8E18-48CE-8D60-F4B1E56C716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ACD419-093E-4F1D-9001-BCC6410E75D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FBE51E6-ECA1-4A8F-AD2D-0632F68E3D8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0FE4FAF-280C-43C9-B965-266A0BADA09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12003B7-2DE4-456E-9339-B9F2B8E959A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9F66721-463F-428F-91F4-14B67F6500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61CF26B2-4DD3-4FC7-AEFF-1957DEDA68A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27284F3-7076-4033-840D-5EC81C555A9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B2549B0-5B2C-479F-A822-BDDAA471158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8CD241E-BEE5-467E-A50D-F2ADE89C0C9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3AA756BD-B450-4148-A3F8-F8A55C88EB0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A69D3A8-D588-44AA-B551-31FD7AB9A9F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E2ED40D-BEEC-4F28-BE77-3D289585D07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4C8EDD-3498-47ED-B76A-2A8C57B2CB8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59255A6-0915-43D7-A82E-C7E272A0901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82ED828-29C7-43BE-84F3-9BB273FE43F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A0597B0-1731-4511-B821-16DDAD431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1B9E420-149C-4E3C-B127-EC1BD1579EE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28DE252-F774-4C95-98AD-AA63E433FB1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8E9B2A-69B1-4CB3-867C-C90EFCA14F2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6ECF6EE-AEED-4866-9524-1819A2C36C9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8D55711-5B88-43D7-A9F5-248900D9D31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AD49229-2793-4F8C-8EF4-E650736DC49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4DA6BBF-9A76-4FBB-96D6-A1DF910AD07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4DE3AB4-772A-44DF-BF11-2D34B993C0C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B83A60-F8C0-440F-8251-0E8DD0A1D8A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7E7F89-6AAA-4919-9575-530822DCBBD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87B4A5-A789-42E1-B0E7-63646A37F9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E474819-7CD6-42E6-A36A-EC4D605CF15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9A7DBC3-4799-47F0-B354-7C70501765B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113A7F8-8488-471F-AE62-2985B7D2E6B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9C88D01-0B70-4557-AA2C-F9E0A069026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4D9E517-03CA-4E14-8FA7-305DBB46066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4EAE15C-B3CB-43B2-8C63-82641756BF1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06DDFD1-976D-4F7D-8E68-BCEFFDB9A5D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8E36C2D-1205-422A-96F8-A7909BB1625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BECB4C3D-61C7-4894-A2DE-9A8D6AB1B39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6A0B1E45-F3EC-4BC2-AC65-5FA1E065F31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D4934D6-846B-4699-9EF2-5DF0E95645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8305256-9A79-4FB6-8B88-4D88125CB3D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5914A81-5848-4D4C-9BC3-E17BF61F624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F4EFDE2-E46D-4ACD-9B79-546AF7A82C7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CA885C6-BAC5-4E4E-BD95-8AB6BD421DF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E704DA9-37E3-49A3-9C05-D4A71B61302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2AAE16ED-81BE-4944-91DD-11A8622B4D0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0423D82-21A8-4367-B81B-3E9157436F5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960554D-3E14-4A7A-A3C7-3D5F33B6470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3976305-449E-407A-8CF7-7A5969D3AB9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BC1E695-CAE0-4882-8EEA-939C96FBD9C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643BC6C-B0DF-4E80-A67B-42050544CB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2EA4BD2-4B08-4772-A480-E8CF05E7873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F45D2DB0-4D64-4B38-84AE-E2B3C4F47D8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466C462-AAE1-4B0B-9B09-0F7CD3BE4EC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103C426-828F-46ED-AE75-E8A380EA092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73003F2-9282-480A-BE92-A64D54DA8C6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FD539F5-0082-4559-8377-97CC42F3DD1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B3C5D3A-7DAD-489C-91C0-30CDB90561B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304FA3D8-E81B-496B-9B63-C2E7E6B25BB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A0E5299-38ED-4EAE-BB02-D32D40067CA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C670178-649F-4014-9F4A-D5E892D456C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F021E29-4169-4E66-9498-76C195B5CF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456840" y="6324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B241-8AF0-49F8-BF9C-5ACCE90BAB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10" descr="alt=&quot;&quot;"/>
          <p:cNvPicPr/>
          <p:nvPr/>
        </p:nvPicPr>
        <p:blipFill>
          <a:blip r:embed="rId2"/>
          <a:stretch/>
        </p:blipFill>
        <p:spPr>
          <a:xfrm>
            <a:off x="6696000" y="5665680"/>
            <a:ext cx="2448000" cy="1192320"/>
          </a:xfrm>
          <a:prstGeom prst="rect">
            <a:avLst/>
          </a:prstGeom>
          <a:ln w="0">
            <a:noFill/>
          </a:ln>
        </p:spPr>
      </p:pic>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2" name="PlaceHolder 3"/>
          <p:cNvSpPr>
            <a:spLocks noGrp="1"/>
          </p:cNvSpPr>
          <p:nvPr>
            <p:ph type="sldNum" idx="10"/>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59AF-31E2-4F6E-B188-00E04ECB4D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10" descr="alt=&quot;&quot;"/>
          <p:cNvPicPr/>
          <p:nvPr/>
        </p:nvPicPr>
        <p:blipFill>
          <a:blip r:embed="rId2"/>
          <a:stretch/>
        </p:blipFill>
        <p:spPr>
          <a:xfrm>
            <a:off x="6696000" y="5665680"/>
            <a:ext cx="2448000" cy="1192320"/>
          </a:xfrm>
          <a:prstGeom prst="rect">
            <a:avLst/>
          </a:prstGeom>
          <a:ln w="0">
            <a:noFill/>
          </a:ln>
        </p:spPr>
      </p:pic>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3" name="PlaceHolder 3"/>
          <p:cNvSpPr>
            <a:spLocks noGrp="1"/>
          </p:cNvSpPr>
          <p:nvPr>
            <p:ph type="sldNum" idx="11"/>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9EAB-784F-4E90-9072-E6D7199030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sldNum" idx="2"/>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2174-221D-4814-80EF-A1763AEBAB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10" descr="alt=&quot;&quot;"/>
          <p:cNvPicPr/>
          <p:nvPr/>
        </p:nvPicPr>
        <p:blipFill>
          <a:blip r:embed="rId2"/>
          <a:stretch/>
        </p:blipFill>
        <p:spPr>
          <a:xfrm>
            <a:off x="6696000" y="5665680"/>
            <a:ext cx="2448000" cy="11923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sldNum" idx="3"/>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416E-C023-43D4-8A46-0EADD2CD51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0" descr="alt=&quot;&quot;"/>
          <p:cNvPicPr/>
          <p:nvPr/>
        </p:nvPicPr>
        <p:blipFill>
          <a:blip r:embed="rId2"/>
          <a:stretch/>
        </p:blipFill>
        <p:spPr>
          <a:xfrm>
            <a:off x="6696000" y="5665680"/>
            <a:ext cx="2448000" cy="119232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sldNum" idx="4"/>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946D-7DDC-49F2-B914-28295CB8B0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0" descr="alt=&quot;&quot;"/>
          <p:cNvPicPr/>
          <p:nvPr/>
        </p:nvPicPr>
        <p:blipFill>
          <a:blip r:embed="rId2"/>
          <a:stretch/>
        </p:blipFill>
        <p:spPr>
          <a:xfrm>
            <a:off x="6696000" y="5665680"/>
            <a:ext cx="2448000" cy="119232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3"/>
          <p:cNvSpPr>
            <a:spLocks noGrp="1"/>
          </p:cNvSpPr>
          <p:nvPr>
            <p:ph type="sldNum" idx="5"/>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978D-06DA-4DE0-B358-5F90598697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10" descr="alt=&quot;&quot;"/>
          <p:cNvPicPr/>
          <p:nvPr/>
        </p:nvPicPr>
        <p:blipFill>
          <a:blip r:embed="rId2"/>
          <a:stretch/>
        </p:blipFill>
        <p:spPr>
          <a:xfrm>
            <a:off x="6696000" y="5665680"/>
            <a:ext cx="2448000" cy="1192320"/>
          </a:xfrm>
          <a:prstGeom prst="rect">
            <a:avLst/>
          </a:prstGeom>
          <a:ln w="0">
            <a:noFill/>
          </a:ln>
        </p:spPr>
      </p:pic>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 name="PlaceHolder 3"/>
          <p:cNvSpPr>
            <a:spLocks noGrp="1"/>
          </p:cNvSpPr>
          <p:nvPr>
            <p:ph type="sldNum" idx="6"/>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6D6B-8068-407B-A16C-F152BE3A43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10" descr="alt=&quot;&quot;"/>
          <p:cNvPicPr/>
          <p:nvPr/>
        </p:nvPicPr>
        <p:blipFill>
          <a:blip r:embed="rId2"/>
          <a:stretch/>
        </p:blipFill>
        <p:spPr>
          <a:xfrm>
            <a:off x="6696000" y="5665680"/>
            <a:ext cx="2448000" cy="119232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3" name="PlaceHolder 3"/>
          <p:cNvSpPr>
            <a:spLocks noGrp="1"/>
          </p:cNvSpPr>
          <p:nvPr>
            <p:ph type="sldNum"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F8DF-61B5-46FE-9819-B3546E84B1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10" descr="alt=&quot;&quot;"/>
          <p:cNvPicPr/>
          <p:nvPr/>
        </p:nvPicPr>
        <p:blipFill>
          <a:blip r:embed="rId2"/>
          <a:stretch/>
        </p:blipFill>
        <p:spPr>
          <a:xfrm>
            <a:off x="6696000" y="5665680"/>
            <a:ext cx="2448000" cy="1192320"/>
          </a:xfrm>
          <a:prstGeom prst="rect">
            <a:avLst/>
          </a:prstGeom>
          <a:ln w="0">
            <a:noFill/>
          </a:ln>
        </p:spPr>
      </p:pic>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 name="PlaceHolder 3"/>
          <p:cNvSpPr>
            <a:spLocks noGrp="1"/>
          </p:cNvSpPr>
          <p:nvPr>
            <p:ph type="sldNum" idx="8"/>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8CFF-E2F4-4E95-BB2D-4C7E201086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6" name="Picture 10" descr="alt=&quot;&quot;"/>
          <p:cNvPicPr/>
          <p:nvPr/>
        </p:nvPicPr>
        <p:blipFill>
          <a:blip r:embed="rId2"/>
          <a:stretch/>
        </p:blipFill>
        <p:spPr>
          <a:xfrm>
            <a:off x="6696000" y="5665680"/>
            <a:ext cx="2448000" cy="1192320"/>
          </a:xfrm>
          <a:prstGeom prst="rect">
            <a:avLst/>
          </a:prstGeom>
          <a:ln w="0">
            <a:noFill/>
          </a:ln>
        </p:spPr>
      </p:pic>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9" name="PlaceHolder 3"/>
          <p:cNvSpPr>
            <a:spLocks noGrp="1"/>
          </p:cNvSpPr>
          <p:nvPr>
            <p:ph type="sldNum" idx="9"/>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C72A-D677-4BBF-8F8F-314E547A3F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hyperlink" Target="mailto:dflook@gha.org"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www.onthecuspstophai.org/" TargetMode="External"/><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hyperlink" Target="http://www.onthecuspstophai.org/" TargetMode="External"/><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33520" y="2209680"/>
            <a:ext cx="8076960" cy="19814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and Rural </a:t>
            </a:r>
            <a:br>
              <a:rPr sz="4400"/>
            </a:br>
            <a:r>
              <a:rPr b="0" lang="en-US" sz="4400" spc="-1" strike="noStrike">
                <a:solidFill>
                  <a:srgbClr val="000000"/>
                </a:solidFill>
                <a:latin typeface="Calibri"/>
              </a:rPr>
              <a:t>Critical Access Hospitals </a:t>
            </a:r>
            <a:endParaRPr b="0" lang="en-US" sz="4400" spc="-1" strike="noStrike">
              <a:solidFill>
                <a:srgbClr val="000000"/>
              </a:solidFill>
              <a:latin typeface="Calibri"/>
            </a:endParaRPr>
          </a:p>
        </p:txBody>
      </p:sp>
      <p:sp>
        <p:nvSpPr>
          <p:cNvPr id="518" name="PlaceHolder 2"/>
          <p:cNvSpPr>
            <a:spLocks noGrp="1"/>
          </p:cNvSpPr>
          <p:nvPr>
            <p:ph type="subTitle"/>
          </p:nvPr>
        </p:nvSpPr>
        <p:spPr>
          <a:xfrm>
            <a:off x="2438280" y="4267080"/>
            <a:ext cx="4114800" cy="9144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ly 19,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2" descr="Diagram reading from top to bottom:&#10;&#10;On the CUSP &#10;&#10;Assemble a CUSP team, Partner with a senior Executive; Baseline Data&#10;&#10;Technical Practices to Prevent Harm&#10;&#10;Evidence Based Practice&#10;1. Evaluation 2. Systems Analysis 3. Process Development &#10;&#10;Education on the evidence&#10;&#10;Quality Improvement Tools&#10;&#10;1. PDCA 2. Lean/Six Sigma 3. Reliable System Process 4. TCAB 5. Other&#10;&#10;Adaptive (CUSP)&#10;&#10;Implementation/Sustaining&#10;1. Checklist 2. Policy/Procedures 3. Protocol's 4. Monitoring 6. Feedback&#10;&#10;Science of Safety&#10;1. Science of safety presentation&#10;2. Attendance sheet&#10;&#10;Staff Identify Defects&#10;1. Staff Safety Assessment form 2. Identifying Hazards Presentation&#10;&#10;Senior Executive partnership&#10;1. Education 2. Briefings&#10;&#10;Learning from Defects&#10;1. LFD toolkit&#10;2. RCA of each incidence&#10;&#10;Implement Tools for teamwork and communication&#10;1. Daily goals 2. Shadowing 3. AM Briefing 4. Call list 5. Team Check up tool 6. Team STEPPS Tools&#10;"/>
          <p:cNvPicPr/>
          <p:nvPr/>
        </p:nvPicPr>
        <p:blipFill>
          <a:blip r:embed="rId1"/>
          <a:stretch/>
        </p:blipFill>
        <p:spPr>
          <a:xfrm>
            <a:off x="-69840" y="14400"/>
            <a:ext cx="9285120" cy="682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SP is a Continuous Effort</a:t>
            </a:r>
            <a:endParaRPr b="0" lang="en-US" sz="4400" spc="-1" strike="noStrike">
              <a:solidFill>
                <a:srgbClr val="000000"/>
              </a:solidFill>
              <a:latin typeface="Calibri"/>
            </a:endParaRPr>
          </a:p>
        </p:txBody>
      </p:sp>
      <p:sp>
        <p:nvSpPr>
          <p:cNvPr id="537" name=""/>
          <p:cNvSpPr txBox="1"/>
          <p:nvPr/>
        </p:nvSpPr>
        <p:spPr>
          <a:xfrm>
            <a:off x="457200" y="1676520"/>
            <a:ext cx="81532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Add science of safety education to orient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Learn from one defect per quarter; share or post lesso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Use quality improvement and teamwork tools that best meet the hospital/unit’s nee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Feed back timely data; investigate each ev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500" spc="-1" strike="noStrike">
                <a:solidFill>
                  <a:srgbClr val="ffffff"/>
                </a:solidFill>
                <a:latin typeface="Calibri"/>
              </a:rPr>
              <a:t> </a:t>
            </a:r>
            <a:r>
              <a:rPr b="0" lang="en-US" sz="4400" spc="-1" strike="noStrike">
                <a:solidFill>
                  <a:srgbClr val="ffffff"/>
                </a:solidFill>
                <a:latin typeface="Calibri"/>
              </a:rPr>
              <a:t>Walking Through the Process</a:t>
            </a:r>
            <a:br>
              <a:rPr sz="4400"/>
            </a:br>
            <a:endParaRPr b="0" lang="en-US" sz="4400" spc="-1" strike="noStrike">
              <a:solidFill>
                <a:srgbClr val="000000"/>
              </a:solidFill>
              <a:latin typeface="Calibri"/>
            </a:endParaRPr>
          </a:p>
        </p:txBody>
      </p:sp>
      <p:sp>
        <p:nvSpPr>
          <p:cNvPr id="539" name=""/>
          <p:cNvSpPr txBox="1"/>
          <p:nvPr/>
        </p:nvSpPr>
        <p:spPr>
          <a:xfrm>
            <a:off x="457200" y="1676520"/>
            <a:ext cx="81532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e  Hospital-Acquired Stage 3/4 Pressure Ulcers</a:t>
            </a:r>
            <a:br>
              <a:rPr sz="2800"/>
            </a:br>
            <a:r>
              <a:rPr b="0" lang="en-US" sz="2800" spc="-1" strike="noStrike">
                <a:solidFill>
                  <a:srgbClr val="000000"/>
                </a:solidFill>
                <a:latin typeface="Calibri"/>
              </a:rPr>
              <a:t>on the Uni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 team -- Include staff nurs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ther baseline data</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first team meeting; educate on science of safety, data, goal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the evidence-based practices that eliminate pressure ulcers</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61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CUSP/Improvement Intervention</a:t>
            </a:r>
            <a:endParaRPr b="0" lang="en-US" sz="4400" spc="-1" strike="noStrike">
              <a:solidFill>
                <a:srgbClr val="000000"/>
              </a:solidFill>
              <a:latin typeface="Calibri"/>
            </a:endParaRPr>
          </a:p>
        </p:txBody>
      </p:sp>
      <p:pic>
        <p:nvPicPr>
          <p:cNvPr id="541" name="Picture 2" descr="CUSP&#10;&#10;1. Educate staff on Science of Safety&#10;&#10;2. Identify defects ,study cause&#10;&#10;3. Team uses evidence research and&#10;     QI tools to improve &#10;&#10;4. Assign executive to adopt unit&#10;&#10;5. Implement teamwork tools &#10;&#10;6. Provide feedback, investigate each case &#10;&#10;&#10;Eliminate Stage 3, 4 Pressure Ulcers&#10;&#10;1. Comprehensive skin assessment&#10;&#10;2. Standardized pressure ulcer risk assessment&#10;&#10;3. Care planning and implementation to address areas of risk&#10;&#10;4. Implement other evidence based practices as needed&#10;&#10;www.onthecuspstophai.org"/>
          <p:cNvPicPr/>
          <p:nvPr/>
        </p:nvPicPr>
        <p:blipFill>
          <a:blip r:embed="rId1"/>
          <a:stretch/>
        </p:blipFill>
        <p:spPr>
          <a:xfrm>
            <a:off x="457200" y="1676520"/>
            <a:ext cx="8369280" cy="426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1" descr="On The Cusp Diagram reading from top to bottom:&#10;&#10;On the CUSP &#10;&#10;Assemble a CUSP team, Partner with a senior Executive; Baseline Data&#10;&#10;Technical Practices to Prevent Harm&#10;&#10;Evidence Based Practice&#10;1. Evaluation 2. Systems Analysis 3. Process Development &#10;&#10;Education on the evidence&#10;&#10;Quality Improvement Tools&#10;&#10;1. PDCA 2. Lean/Six Sigma 3. Reliable System Process 4. TCAB 5. Other&#10;&#10;Adaptive (CUSP)&#10;&#10;Implementation/Sustaining&#10;1. Checklist 2. Policy/Procedures 3. Protocol's 4. Monitoring 6. Feedback&#10;&#10;Science of Safety&#10;1. Science of safety presentation&#10;2. Attendance sheet&#10;&#10;Staff Identify Defects&#10;1. Staff Safety Assessment form 2. Identifying Hazards Presentation&#10;&#10;Senior Executive partnership&#10;1. Education 2. Briefings&#10;&#10;Learning from Defects&#10;1. LFD toolkit&#10;2. RCA of each incidence&#10;&#10;Implement Tools for teamwork and communication&#10;1. Daily goals 2. Shadowing 3. AM Briefing 4. Call list 5. Team Check up tool 6. Team STEPPS Tools&#10;"/>
          <p:cNvPicPr/>
          <p:nvPr/>
        </p:nvPicPr>
        <p:blipFill>
          <a:blip r:embed="rId1"/>
          <a:stretch/>
        </p:blipFill>
        <p:spPr>
          <a:xfrm>
            <a:off x="-15840" y="0"/>
            <a:ext cx="9137520" cy="6815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t Goes Back to Leadership – </a:t>
            </a:r>
            <a:br>
              <a:rPr sz="4000"/>
            </a:br>
            <a:r>
              <a:rPr b="0" lang="en-US" sz="4000" spc="-1" strike="noStrike">
                <a:solidFill>
                  <a:srgbClr val="ffffff"/>
                </a:solidFill>
                <a:latin typeface="Calibri"/>
              </a:rPr>
              <a:t>On All Levels</a:t>
            </a:r>
            <a:endParaRPr b="0" lang="en-US" sz="4000" spc="-1" strike="noStrike">
              <a:solidFill>
                <a:srgbClr val="000000"/>
              </a:solidFill>
              <a:latin typeface="Calibri"/>
            </a:endParaRPr>
          </a:p>
        </p:txBody>
      </p:sp>
      <p:sp>
        <p:nvSpPr>
          <p:cNvPr id="544" name=""/>
          <p:cNvSpPr txBox="1"/>
          <p:nvPr/>
        </p:nvSpPr>
        <p:spPr>
          <a:xfrm>
            <a:off x="457200" y="1676520"/>
            <a:ext cx="8153280" cy="4114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gage, commi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unicat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 educ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 resourc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visible and transpar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ive feedbac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vestigate and own outcomes and improvem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Keep the Focus</a:t>
            </a:r>
            <a:endParaRPr b="0" lang="en-US" sz="4000" spc="-1" strike="noStrike">
              <a:solidFill>
                <a:srgbClr val="000000"/>
              </a:solidFill>
              <a:latin typeface="Calibri"/>
            </a:endParaRPr>
          </a:p>
        </p:txBody>
      </p:sp>
      <p:sp>
        <p:nvSpPr>
          <p:cNvPr id="546"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challenges ahead, but everyone must not lose sight of our North Star – the patient -- who must be kept in the center of all we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commitment, leadership, and persistence are essential to patient quality and safet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ferences</a:t>
            </a:r>
            <a:endParaRPr b="0" lang="en-US" sz="4400" spc="-1" strike="noStrike">
              <a:solidFill>
                <a:srgbClr val="000000"/>
              </a:solidFill>
              <a:latin typeface="Calibri"/>
            </a:endParaRPr>
          </a:p>
        </p:txBody>
      </p:sp>
      <p:sp>
        <p:nvSpPr>
          <p:cNvPr id="548" name=""/>
          <p:cNvSpPr txBox="1"/>
          <p:nvPr/>
        </p:nvSpPr>
        <p:spPr>
          <a:xfrm>
            <a:off x="457200" y="1676520"/>
            <a:ext cx="8153280" cy="41148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ronovost P, Weast B, Rosenstein B, et al. Implementing and validating a comprehensive unit-based safety program. J Pat Safety. 2005; 1(1):33-40.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ronovost P, Berenholtz S, Dorman T, et al. Improving communication in the ICU using daily goals. J Crit Care. 2003; 18(2):71-75.</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ronovost PJ, Weast B, Bishop K, et al. Senior executive adopt-a-work unit: A model for safety improvement. Jt Comm J Qual Saf. 2004; 30(2):59-68.</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hompson DA, Holzmueller CG, Cafeo CL, et al. A morning briefing: Setting the stage for a clinically and operationally good day. Jt Comm J Qual and Saf. 2005; 31(8):476-479.</a:t>
            </a:r>
            <a:br>
              <a:rPr sz="1800"/>
            </a:b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685800" y="2057400"/>
            <a:ext cx="8153280" cy="2905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ise M. Flook, RN, MPH,C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or, Workforce Development/Infection Preven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70-249-4518</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dflook@gha.org</a:t>
            </a:r>
            <a:r>
              <a:rPr b="1" lang="en-US" sz="2400" spc="-1" strike="noStrike">
                <a:solidFill>
                  <a:srgbClr val="1f497d"/>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SP Resources</a:t>
            </a:r>
            <a:endParaRPr b="0" lang="en-US" sz="4400" spc="-1" strike="noStrike">
              <a:solidFill>
                <a:srgbClr val="000000"/>
              </a:solidFill>
              <a:latin typeface="Calibri"/>
            </a:endParaRPr>
          </a:p>
        </p:txBody>
      </p:sp>
      <p:sp>
        <p:nvSpPr>
          <p:cNvPr id="551" name=""/>
          <p:cNvSpPr txBox="1"/>
          <p:nvPr/>
        </p:nvSpPr>
        <p:spPr>
          <a:xfrm>
            <a:off x="457200" y="160020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your State Hospital Association quality director for more information about CUSP initiativ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t the On the CUSP: Stop HAI project Web site:  </a:t>
            </a:r>
            <a:r>
              <a:rPr b="0" lang="en-US" sz="3200" spc="-1" strike="noStrike" u="sng">
                <a:solidFill>
                  <a:srgbClr val="0000ff"/>
                </a:solidFill>
                <a:uFillTx/>
                <a:latin typeface="Calibri"/>
                <a:hlinkClick r:id="rId1"/>
              </a:rPr>
              <a:t>www.onthecuspstophai.or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genda</a:t>
            </a:r>
            <a:endParaRPr b="0" lang="en-US" sz="4400" spc="-1" strike="noStrike">
              <a:solidFill>
                <a:srgbClr val="000000"/>
              </a:solidFill>
              <a:latin typeface="Calibri"/>
            </a:endParaRPr>
          </a:p>
        </p:txBody>
      </p:sp>
      <p:sp>
        <p:nvSpPr>
          <p:cNvPr id="520" name=""/>
          <p:cNvSpPr txBox="1"/>
          <p:nvPr/>
        </p:nvSpPr>
        <p:spPr>
          <a:xfrm>
            <a:off x="457200" y="1676520"/>
            <a:ext cx="81532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nise Flook and Lorna Martin</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ing CUSP in the Small and Rural Critical Access Hospita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CUSP Beyond CLABSI and CAUT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tical Access Hospital Team Leaders</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ul Frigoli, Grant Regional Health Center</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inois Critical Access Hospital Team Lead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ggestions for future cal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609120" y="2590560"/>
            <a:ext cx="8077320" cy="19810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aring From Your Pe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676520"/>
            <a:ext cx="815328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ul Frigoli</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Directo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t Regional Health Cen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caster, 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genda</a:t>
            </a:r>
            <a:endParaRPr b="0" lang="en-US" sz="4400" spc="-1" strike="noStrike">
              <a:solidFill>
                <a:srgbClr val="000000"/>
              </a:solidFill>
              <a:latin typeface="Calibri"/>
            </a:endParaRPr>
          </a:p>
        </p:txBody>
      </p:sp>
      <p:sp>
        <p:nvSpPr>
          <p:cNvPr id="555" name=""/>
          <p:cNvSpPr txBox="1"/>
          <p:nvPr/>
        </p:nvSpPr>
        <p:spPr>
          <a:xfrm>
            <a:off x="685440" y="1828440"/>
            <a:ext cx="79246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we joined the CLABSI &amp; CAUTI pro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iers and succes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les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txBox="1"/>
          <p:nvPr/>
        </p:nvSpPr>
        <p:spPr>
          <a:xfrm>
            <a:off x="914400" y="2438280"/>
            <a:ext cx="723888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 Pfoutz, R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U Director</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SB Hospital</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xon, I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genda</a:t>
            </a:r>
            <a:endParaRPr b="0" lang="en-US" sz="4400" spc="-1" strike="noStrike">
              <a:solidFill>
                <a:srgbClr val="000000"/>
              </a:solidFill>
              <a:latin typeface="Calibri"/>
            </a:endParaRPr>
          </a:p>
        </p:txBody>
      </p:sp>
      <p:sp>
        <p:nvSpPr>
          <p:cNvPr id="558"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we joined the CLABSI &amp; CAUTI pro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iers and succes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les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SP Resources</a:t>
            </a:r>
            <a:endParaRPr b="0" lang="en-US" sz="4400" spc="-1" strike="noStrike">
              <a:solidFill>
                <a:srgbClr val="000000"/>
              </a:solidFill>
              <a:latin typeface="Calibri"/>
            </a:endParaRPr>
          </a:p>
        </p:txBody>
      </p:sp>
      <p:sp>
        <p:nvSpPr>
          <p:cNvPr id="560"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your State Hospital Association quality director for more information about CUSP initiativ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t the On the CUSP: Stop HAI project Web site:  </a:t>
            </a:r>
            <a:r>
              <a:rPr b="0" lang="en-US" sz="3200" spc="-1" strike="noStrike" u="sng">
                <a:solidFill>
                  <a:srgbClr val="0000ff"/>
                </a:solidFill>
                <a:uFillTx/>
                <a:latin typeface="Calibri"/>
                <a:hlinkClick r:id="rId1"/>
              </a:rPr>
              <a:t>www.onthecuspstophai.org</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aring From You</a:t>
            </a:r>
            <a:endParaRPr b="0" lang="en-US" sz="4400" spc="-1" strike="noStrike">
              <a:solidFill>
                <a:srgbClr val="000000"/>
              </a:solidFill>
              <a:latin typeface="Calibri"/>
            </a:endParaRPr>
          </a:p>
        </p:txBody>
      </p:sp>
      <p:sp>
        <p:nvSpPr>
          <p:cNvPr id="562"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hould future small &amp; rural critical access hospital supplemental calls addr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resources can you share with oth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dditional resources would help you improve patient safet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7200" y="1676520"/>
            <a:ext cx="815328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nise M. Flook, RN, MPH, CIC</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irector, Workforce Development &amp; Infection Prevention</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Lorna Martin, RN</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atient Safety &amp; Quality Improvement Specialist</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522" name="PlaceHolder 1"/>
          <p:cNvSpPr>
            <a:spLocks noGrp="1"/>
          </p:cNvSpPr>
          <p:nvPr>
            <p:ph type="title"/>
          </p:nvPr>
        </p:nvSpPr>
        <p:spPr>
          <a:xfrm>
            <a:off x="457200" y="0"/>
            <a:ext cx="8229600" cy="14176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pplying CUSP in the Small and Rural Critical Access Hospit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Quality and Safety are Now Key to Hospital Success</a:t>
            </a:r>
            <a:endParaRPr b="0" lang="en-US" sz="4000" spc="-1" strike="noStrike">
              <a:solidFill>
                <a:srgbClr val="000000"/>
              </a:solidFill>
              <a:latin typeface="Calibri"/>
            </a:endParaRPr>
          </a:p>
        </p:txBody>
      </p:sp>
      <p:sp>
        <p:nvSpPr>
          <p:cNvPr id="524"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ers, including the Government and the public, demand more efficient, safer ca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ed resources will necessitate efficien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Challenge</a:t>
            </a:r>
            <a:endParaRPr b="0" lang="en-US" sz="4400" spc="-1" strike="noStrike">
              <a:solidFill>
                <a:srgbClr val="000000"/>
              </a:solidFill>
              <a:latin typeface="Calibri"/>
            </a:endParaRPr>
          </a:p>
        </p:txBody>
      </p:sp>
      <p:sp>
        <p:nvSpPr>
          <p:cNvPr id="526" name=""/>
          <p:cNvSpPr txBox="1"/>
          <p:nvPr/>
        </p:nvSpPr>
        <p:spPr>
          <a:xfrm>
            <a:off x="457200" y="1676520"/>
            <a:ext cx="8153280" cy="4114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provide and sustain the highest quality and safest care for every patient, every time in the current environment of diminishing  resourc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easy to think that simply implementing a checklist is the path to better outcomes, but Changing culture is the key to sustained safety and improved outcomes for patient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afety/Quality Improvement is a </a:t>
            </a:r>
            <a:br>
              <a:rPr sz="4000"/>
            </a:br>
            <a:r>
              <a:rPr b="0" lang="en-US" sz="4000" spc="-1" strike="noStrike">
                <a:solidFill>
                  <a:srgbClr val="ffffff"/>
                </a:solidFill>
                <a:latin typeface="Calibri"/>
              </a:rPr>
              <a:t>Two-Part Process</a:t>
            </a:r>
            <a:endParaRPr b="0" lang="en-US" sz="4000" spc="-1" strike="noStrike">
              <a:solidFill>
                <a:srgbClr val="000000"/>
              </a:solidFill>
              <a:latin typeface="Calibri"/>
            </a:endParaRPr>
          </a:p>
        </p:txBody>
      </p:sp>
      <p:pic>
        <p:nvPicPr>
          <p:cNvPr id="528" name="Content Placeholder 5" descr="Table showing Safety Quality/Improvement two part process. &#10;&#10;Improve&#10;&#10;Have we created a safe culture? How do we know we learn from mistakes?&#10; &#10;CUSP Comprehensive Unit based Safety Program&#10;&#10;1. Educate staff on science of safety 2. Identify defects 3. Assign executive to adopt unit 4. Learn from one defect per quarter 5. Implement teamwork tools &#10;&#10;How often do we harm? Are Patient outcomes improving? &#10;&#10;(TRiP) Translating Evidence into Practice&#10;&#10;1. Summarize the evidence in a checklist&#10;2. Identify local barriers to implementation&#10;3. Measure Performance&#10;4. Ensure all patients get the evidence&#10;&#10;Measure&#10;"/>
          <p:cNvPicPr/>
          <p:nvPr/>
        </p:nvPicPr>
        <p:blipFill>
          <a:blip r:embed="rId1"/>
          <a:stretch/>
        </p:blipFill>
        <p:spPr>
          <a:xfrm>
            <a:off x="1031760" y="1676520"/>
            <a:ext cx="700416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CUSP?</a:t>
            </a:r>
            <a:endParaRPr b="0" lang="en-US" sz="4400" spc="-1" strike="noStrike">
              <a:solidFill>
                <a:srgbClr val="000000"/>
              </a:solidFill>
              <a:latin typeface="Calibri"/>
            </a:endParaRPr>
          </a:p>
        </p:txBody>
      </p:sp>
      <p:sp>
        <p:nvSpPr>
          <p:cNvPr id="530" name=""/>
          <p:cNvSpPr txBox="1"/>
          <p:nvPr/>
        </p:nvSpPr>
        <p:spPr>
          <a:xfrm>
            <a:off x="457200" y="1676520"/>
            <a:ext cx="81532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rehensive Unit-based Safety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n intervention to learn from mistakes and improve safety culture for sustained improved patient outcomes</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9"/>
          <p:cNvSpPr/>
          <p:nvPr/>
        </p:nvSpPr>
        <p:spPr>
          <a:xfrm>
            <a:off x="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BCCF-A107-4FD0-97E1-74159363C8E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532" name="Picture 3" descr="Comprehensive Unit-based Safety Program (CUSP)&#10;&#10;-Improve or reinforce good cross-disciplinary communication and teamwork&#10;&#10;-Enhance cooordination of care&#10;&#10;-Address overall patient safety&#10;&#10;-Work towards healthy unit culture&#10;&#10;Reduction Protocol&#10;&#10;-Best-evidence supplies, organization of supplies&#10;&#10;-Ensuringall patients receive the best practices&#10;&#10;-Checklist, protocol to ensure consistent application of evidence"/>
          <p:cNvPicPr/>
          <p:nvPr/>
        </p:nvPicPr>
        <p:blipFill>
          <a:blip r:embed="rId1"/>
          <a:srcRect l="5174" t="11764" r="2620" b="0"/>
          <a:stretch/>
        </p:blipFill>
        <p:spPr>
          <a:xfrm>
            <a:off x="457200" y="762120"/>
            <a:ext cx="8153280" cy="5715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CUSP Steps </a:t>
            </a:r>
            <a:endParaRPr b="0" lang="en-US" sz="4400" spc="-1" strike="noStrike">
              <a:solidFill>
                <a:srgbClr val="000000"/>
              </a:solidFill>
              <a:latin typeface="Calibri"/>
            </a:endParaRPr>
          </a:p>
        </p:txBody>
      </p:sp>
      <p:sp>
        <p:nvSpPr>
          <p:cNvPr id="534" name=""/>
          <p:cNvSpPr txBox="1"/>
          <p:nvPr/>
        </p:nvSpPr>
        <p:spPr>
          <a:xfrm>
            <a:off x="457200" y="1752120"/>
            <a:ext cx="8153280" cy="3886200"/>
          </a:xfrm>
          <a:prstGeom prst="rect">
            <a:avLst/>
          </a:prstGeom>
          <a:noFill/>
          <a:ln w="0">
            <a:noFill/>
          </a:ln>
        </p:spPr>
        <p:txBody>
          <a:bodyPr anchor="t">
            <a:normAutofit/>
          </a:bodyPr>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velop a team</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ssign executive to adopt unit</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Educate staff on science of safety</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dentify  and prioritize defects</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mplement teamwork tools</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Provide timely feedback</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Learn from defects – Have staff investigate each occurrence</a:t>
            </a:r>
            <a:endParaRPr b="0" lang="en-US" sz="24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ea typeface="Arial"/>
              </a:rPr>
              <a:t>Adapted from Pronovost,  </a:t>
            </a:r>
            <a:r>
              <a:rPr b="0" i="1" lang="en-US" sz="2400" spc="-1" strike="noStrike">
                <a:solidFill>
                  <a:srgbClr val="002060"/>
                </a:solidFill>
                <a:latin typeface="Calibri"/>
                <a:ea typeface="Arial"/>
              </a:rPr>
              <a:t>Patient Safety</a:t>
            </a:r>
            <a:r>
              <a:rPr b="0" lang="en-US" sz="2400" spc="-1" strike="noStrike">
                <a:solidFill>
                  <a:srgbClr val="002060"/>
                </a:solidFill>
                <a:latin typeface="Calibri"/>
                <a:ea typeface="Arial"/>
              </a:rPr>
              <a:t>, 200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8:50:20Z</dcterms:created>
  <dc:creator>dflook</dc:creator>
  <dc:description/>
  <dc:language>en-US</dc:language>
  <cp:lastModifiedBy>Karen Fleming-Michael</cp:lastModifiedBy>
  <dcterms:modified xsi:type="dcterms:W3CDTF">2013-02-04T15:45:32Z</dcterms:modified>
  <cp:revision>277</cp:revision>
  <dc:subject/>
  <dc:title>Slide 1</dc:title>
</cp:coreProperties>
</file>