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dt" idx="3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BD57-73A3-465C-9ACC-F0AC8020A2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ftr" idx="3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 type="sldNum" idx="3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A575-18B7-4454-B8B1-B3A6BD38AB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t column headers Frontline Staff, Team Leaders, Senior Execu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w Head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age: Ask how dies this make the world a better pla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ucate: What do I need to do? (Convert evidense to behaviors; evaluate awareness and agreeme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cute: how can I do it? ( Listen to resisters Standardize and learn from mistak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e: how do I know we make a differen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270D-7C2C-41BA-B6D8-0F47652FD5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t column headers Frontline Staff, Team Leaders, Senior Execu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w Head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ure: Has this become business as usual? How do I know it will last? (make policies and procedures, train new people, walk the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and: Who else needs to know this? What's next? ( Pass it on to other units, Identify and address your next challen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B456-B4FC-4F64-91A9-3B1839CB33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9E96-E5F5-4C37-B4C3-3B73279C3A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5A051-80D2-4BBD-A7A6-217605CC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33918-3A9B-4408-B590-B8A63858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B903B-C004-4843-9FB7-A6202942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18786-80BE-4A07-AC2E-2E61B17E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971BC-7DE7-4AD2-9CEE-80973962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8A55E-869C-45E4-B34F-F4C55EB3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D534A-9FEF-4CAE-B906-A77EEE4B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DBF60-F23A-4A79-82F0-C23D4C690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6263C-950A-49C7-AFCA-0287DFC11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BFDB1-DC56-4992-8D35-19FFCE452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9F18E-5619-4E7D-96F2-0CACBDD7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324DC-B119-493B-BF83-68E75527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D8E65-F1DF-4873-B1EF-98A40DB8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BA9C0-4DFD-4913-8F60-05456B60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5D119-CE88-47F9-BE51-00BA8074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C204D-0F28-4EB1-9636-9B13E7B5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353CA-EB2E-492F-B942-83F6A514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D2815-DBD9-482C-B298-D76A332C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829AD-3FDC-4FA4-B6CC-7AE4662F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904F6-AFC6-459D-B321-BB1635EEF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42873-E0B5-4BC7-BC7B-C6B2DDA2D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1420B-30E3-4BBD-A670-401BCC3CA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65C98-5665-4F49-8083-E963C1C6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BF3E3-9E64-49D8-B4AF-D1F76C25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074B1-516D-47A9-BD8D-EA0B73EC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21B91-8C95-4E96-9B7C-AB43D707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E6840-2C33-4906-8C30-9248A1BC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42222-C6FC-4E89-9AE9-D5BD18AB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16742-93FF-49F2-9072-F9F651D2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748AB-AD89-4C63-B618-C48C423B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FB142-2FDE-409C-AB04-A70B58B8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75161-B219-49CC-BDC4-BE6CDB26A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0BAB8-2946-4782-949A-C2A4218D3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BB611-EA6A-4C7D-9F4D-65259AC65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D7390-CAA1-4EEF-8B1F-14B32592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5C964-0747-4FA1-B9E0-565847E2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A9061-C93C-4257-AB39-16E96EA7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81184-B40E-4821-BD40-774AC15A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36F7E-269B-470A-8A0E-5E51A0AA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70361-444E-4448-B1C9-FFB01EC3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E72A4-4434-4BD4-9BD5-8EA2547B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30F2D-9A73-4766-9666-873C1AA5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A7064-ADA5-4E31-9027-D8A5C3A6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129BB-CEBC-4458-B04D-547FBB796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093BE-DCB7-43CC-97EA-954F46480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6A9FC7-0C56-4D5A-B46D-084DE211F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7D267F-F2DE-4F63-B622-364707AA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AEEBAF-4C57-45A7-B889-4BEADB4E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C80CDD-7EF6-43FF-8D63-90677BC2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EB5F3C-A3DC-4A74-B837-2D2FA8CE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4663F-621D-4D1F-B953-B2D70B88F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2144A9-82A3-4707-8C06-6600C035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41B414-AA92-44B7-B6A2-0862CE23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AE17F9-1C8C-4493-96C5-F52DAA68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012DC3-3C66-4EA4-9288-6CCEEA07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EF4092-3B28-4756-B799-59013A106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2F07CB-6B8F-4BCE-9022-493770DAD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E874F-CA43-43F4-95CB-786747B13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8424-6C21-40AD-860A-8DC2A5AC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270B-AA9A-4037-A735-C861974F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6BA9-8AE9-4244-9AFB-A63A208A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FE35-1911-4D01-9A9E-BC300560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77DC-FE80-457F-B4AF-9A06CD9B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E4FF-B0E8-4DC4-92D7-6558D533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AD3C-5AE4-483B-BB1D-702F4ACB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53D7-B99F-48B9-BCC8-9C058C17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437A-7FBB-47FF-A8D3-CCF2103F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5B3F-A20D-4125-8044-8195D42BC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C8DAD-4FFB-4552-9425-427A69912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ED12F-CBE5-40DA-8933-72A81C52E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2B486-CCAD-40A5-94AD-4DD6EB59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FA36D-39E6-4820-A528-97A7420A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70E87-1E89-4384-AEBE-BC7FCA90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E34FD-3BC2-4FE2-83AE-D2D20CA1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D4731-F938-4B2C-9E34-D3DAB2BC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6A9BB-F60F-4828-A97F-A7DF8BAD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72E5F-433B-4872-897E-6966A284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16F6C-8593-4F21-A44F-B0D76552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00C19-1726-43BF-BD9F-5A3B51FA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166AF-653C-46BB-BC16-0B223568C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512C7-0CC9-4346-A1E1-AB2ACCFB4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0D94A-C6E2-42B7-B51B-A9196862B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6CBEB-1426-4C4C-8BFE-E7D5BC55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0135A-595B-402E-9C02-F0B6055E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6B752-AC69-4FCA-BD2B-85FC5BA8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B81F2-F91B-443C-A900-56FAAE05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A12D8-FFB6-47F2-BB1F-96A2573F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A1309-56D9-414B-BB83-57D94000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72140-9D81-4D8F-8AB0-F6FB6631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4B401-3722-47C5-9E41-98EF81A4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9558E-7779-4E11-BB54-32D43C6C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1956D-54A1-40C2-9645-317FC4816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B9A28-16EE-4671-B0D7-DDB00D3AE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3A89A-ECAB-49D7-8854-D0E8E0949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AE979-1361-4992-8CD1-1E3DC965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C9955-1E4F-4D24-8421-79FA3E0F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875B-9313-44F7-8468-DD838EA093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728D-1170-44C8-803F-690D993E0D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D218-175C-4C2F-A823-FF8544E310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1FEC-F27C-4C4A-BDBC-CA9D6C2033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582E-8EE7-4BFD-8D92-1C271E7730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F2DE-DAA1-4B36-B752-9A98ABA8E0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430A-070F-4532-BC73-FE207B044E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CD7A-4915-4A4C-BFB6-902EA1D722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6D4D-4EB3-4662-8EB0-4F0AF165A5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Rounded Rectangle 5"/>
          <p:cNvGrpSpPr/>
          <p:nvPr/>
        </p:nvGrpSpPr>
        <p:grpSpPr>
          <a:xfrm>
            <a:off x="-6480" y="-6480"/>
            <a:ext cx="9156960" cy="1158840"/>
            <a:chOff x="-6480" y="-6480"/>
            <a:chExt cx="9156960" cy="1158840"/>
          </a:xfrm>
        </p:grpSpPr>
        <p:pic>
          <p:nvPicPr>
            <p:cNvPr id="541" name="Rounded Rectangle 5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"/>
            <p:cNvSpPr/>
            <p:nvPr/>
          </p:nvSpPr>
          <p:spPr>
            <a:xfrm>
              <a:off x="0" y="0"/>
              <a:ext cx="9144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ftr" idx="28"/>
          </p:nvPr>
        </p:nvSpPr>
        <p:spPr>
          <a:xfrm>
            <a:off x="624816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ftr" idx="29"/>
          </p:nvPr>
        </p:nvSpPr>
        <p:spPr>
          <a:xfrm>
            <a:off x="624816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5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traight Connector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traight Connector 7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42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traight Connector 8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87DD-32F1-44F5-BD24-50915AEE54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7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87" name="Slide Number Placeholder 5"/>
          <p:cNvSpPr/>
          <p:nvPr/>
        </p:nvSpPr>
        <p:spPr>
          <a:xfrm>
            <a:off x="0" y="6324480"/>
            <a:ext cx="8991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traight Connector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130" name="Slide Number Placeholder 5"/>
          <p:cNvSpPr/>
          <p:nvPr/>
        </p:nvSpPr>
        <p:spPr>
          <a:xfrm>
            <a:off x="0" y="6324480"/>
            <a:ext cx="8991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7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173" name="Slide Number Placeholder 5"/>
          <p:cNvSpPr/>
          <p:nvPr/>
        </p:nvSpPr>
        <p:spPr>
          <a:xfrm>
            <a:off x="0" y="6324480"/>
            <a:ext cx="8991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80B0-C38F-4662-8788-8EDCC4FA13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7418-83F1-4987-9FD9-AF6EEFC547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DFEA-EEE5-4D4F-9F6F-082E982A88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F7D5-2CE3-463F-9048-F4BFDA1763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0744-ADCF-45BA-8EF9-5A08AD9FCD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E9B9-8351-4C5B-827E-53A16F8392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D253-021E-4D2F-9AC3-E782E30FBC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1E25-88D4-409F-937D-B5B8316BCF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 txBox="1"/>
          <p:nvPr/>
        </p:nvSpPr>
        <p:spPr>
          <a:xfrm>
            <a:off x="380520" y="27428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Two More E’s and How to Spre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Arial"/>
              </a:rPr>
              <a:t>IHI’s A Framework for Sprea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304920" y="16761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Make the project an organizational goal or strategic initiativ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Identify an owner or executive responsible for sprea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Identify person or team to manage day-to-day spread activ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Bundle changes (or interventions) in an easily adopted and tested packag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Develop plan and targets for spread initiative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Define specific goals of sprea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Define specific improvements that will be mad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Define timeframe of the spread effort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Create template for feedback report to the sites for monitoring progres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304920" y="6095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Massoud MR, Nielsen GA, Nolan K, et al. A Framework for Spread: From Local Improvements to System-Wide Change. IHI Innovation Series white paper. Cambridge, MA: Institute for Healthcare Improvement; 200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Action 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Start planning now for sustaining the intervention for years to c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Work with your executive partner and unit heads to expand the intervention into other un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Engage staff in thinking about the next mountain they would like to climb while maintaining low BSI r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Reference L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Buchanan D, Fitzgerald L, Ketley D, et al. No going back: A review of the literature on sustaining organizational change. International Journal of Management Reviews 2005; 7(3):189-20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Evashwick C, Ory M.  Organizational characteristics of successful innovative health care programs sustained over time. Fam Community Health. 2003 Jul-Sep;26(3):177-93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Greenhalgh T, Robert G, Macfarlane F, et al. Diffusion of innovations in service organizations: systematic review and recommendations. Milbank Q 2004;82(4):581-629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To think ahead about ways to make your investment of time and improvements in BSI rates last fore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To make sure all patients in your institution have access to the same level of safety in their ca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Implementation Fra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2" name="Picture 2" descr="Chart column headers Frontline Staff, Team Leaders, Senior Executives&#13;&#10;&#13;&#10;Row Headers &#13;&#10;Engage: Ask how dies this make the world a better place?&#13;&#10;Educate: What do I need to do? (Convert evidense to behaviors; evaluate awareness and agreement)&#13;&#10;Execute: how can I do it? ( Listen to resisters Standardize and learn from mistakes)&#13;&#10;Evaluate: how do I know we make a difference?"/>
          <p:cNvPicPr/>
          <p:nvPr/>
        </p:nvPicPr>
        <p:blipFill>
          <a:blip r:embed="rId1"/>
          <a:stretch/>
        </p:blipFill>
        <p:spPr>
          <a:xfrm>
            <a:off x="341280" y="1773360"/>
            <a:ext cx="8483760" cy="3941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Implementation Fra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4" descr="Chart column headers Frontline Staff, Team Leaders, Senior Executives&#13;&#10;&#13;&#10;Row Headers &#13;&#10;Endure: Has this become business as usual? How do I know it will last? (make policies and procedures, train new people, walk the process&#13;&#10;Expand: Who else needs to know this? What's next? ( Pass it on to other units, Identify and address your next challenge)&#13;&#10;&#13;&#10;&#13;&#10;"/>
          <p:cNvPicPr/>
          <p:nvPr/>
        </p:nvPicPr>
        <p:blipFill>
          <a:blip r:embed="rId1"/>
          <a:stretch/>
        </p:blipFill>
        <p:spPr>
          <a:xfrm>
            <a:off x="355680" y="1766880"/>
            <a:ext cx="8483400" cy="3003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-7632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Endure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Arial"/>
              </a:rPr>
              <a:t>—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Plan for Sustainabilit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4572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Why worry about the distant futur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What you can anticip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Turnover of staff and new staf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New projects and distra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Complac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Emergencies and complex cases (someone will call for exceptions to be mad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/>
          </p:nvPr>
        </p:nvSpPr>
        <p:spPr>
          <a:xfrm>
            <a:off x="151920" y="1752480"/>
            <a:ext cx="8991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Things you can do now to support long-term viabilit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of BSI re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Century Gothic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ahoma"/>
              </a:rPr>
              <a:t>Write it into poli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Century Gothic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ahoma"/>
              </a:rPr>
              <a:t>Include in training for all new memb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Century Gothic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ahoma"/>
              </a:rPr>
              <a:t>Audit or monitor to be sure it is routine practi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Century Gothic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ahoma"/>
              </a:rPr>
              <a:t>Set up reliable supply chain (borrowing protocol, alert system, assign someon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Century Gothic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ahoma"/>
              </a:rPr>
              <a:t>Have a quarterly review by executive partn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Century Gothic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ahoma"/>
              </a:rPr>
              <a:t>Set up a learning network of pe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Century Gothic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ahoma"/>
              </a:rPr>
              <a:t>Have regular meetings with you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ahoma"/>
              </a:rPr>
              <a:t>infection preventionist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Endure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—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Plan for Sustainabilit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Endure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Arial"/>
              </a:rPr>
              <a:t>—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Plan for Sustainabilit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ahoma"/>
              </a:rPr>
              <a:t>Practices that aided sustainability in the Michigan Proj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ahoma"/>
              </a:rPr>
              <a:t>Continued feedback of infection data that the team perceived as val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ahoma"/>
              </a:rPr>
              <a:t>Improvements in safety culture that occurred as part of the overall Keystone ICU proj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ahoma"/>
              </a:rPr>
              <a:t>Unremitting belief in the preventability of blood stream infe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ahoma"/>
              </a:rPr>
              <a:t>Involvement of senior leaders who reviewed infection data and provided teams with needed resour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ahoma"/>
              </a:rPr>
              <a:t>Shared goal rather than a competition to reduce infec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rates throughout the St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380520" y="6248160"/>
            <a:ext cx="63248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Pronovost, PJ; Goeschel C., et al. “Sustaining Reductions in Catheter-Related Bloodstream Infections in Michigan Intensive Care Units” British Medical Journal, February 4, 2010; 340:c30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-266760" y="-360"/>
            <a:ext cx="967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Expand—Spread the Interven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0769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Why think about expanding to other units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Requires self stu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Solidifies own understa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Provides equal protection for all patients (lines are placed elsewhe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May offer new ideas and methods or may change your perceptions of your own implementation when you see other units’ unique challe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Expand—Spread to New Pro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30492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Why think about your next projec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Can always improve qu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Use new capacity to change to make care bett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Maintain engagement of staff and interest and attention of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Permits some control over what the next initiative will 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Offers a more rewarding enviro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9:33:12Z</dcterms:created>
  <dc:creator>Heon-Jae Jeong, MD, MPH, MBA</dc:creator>
  <dc:description/>
  <dc:language>en-US</dc:language>
  <cp:lastModifiedBy>Karen Fleming-Michael</cp:lastModifiedBy>
  <dcterms:modified xsi:type="dcterms:W3CDTF">2013-02-12T19:27:02Z</dcterms:modified>
  <cp:revision>381</cp:revision>
  <dc:subject/>
  <dc:title>Project Report - Lean Sigma</dc:title>
</cp:coreProperties>
</file>