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dt" idx="3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1F4A-2F0C-4FD6-B72E-85410B51C7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ftr" idx="3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 type="sldNum" idx="3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97BC-D11D-4EBD-AEFA-BAF5487EAD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t column headers Frontline Staff, Team Leaders, Senior Execu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w Head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age: Ask how dies this make the world a better pla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ucate: What do I need to do? (Convert evidense to behaviors; evaluate awareness and agreeme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cute: how can I do it? ( Listen to resisters Standardize and learn from mistak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e: how do I know we make a differen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557F-42EA-4FD4-AA59-2733AA9980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t column headers Frontline Staff, Team Leaders, Senior Execu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w Head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ure: Has this become business as usual? How do I know it will last? (make policies and procedures, train new people, walk the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and: Who else needs to know this? What's next? ( Pass it on to other units, Identify and address your next challen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859A-6B7E-483E-80A4-6777EEB369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2597-7A2F-45FC-BFCA-DE037B464C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2996B-9D89-4D1D-AF39-8CBD7639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9D191-D1EC-4604-9334-941C94F1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C67D7-7887-4B87-9CA0-0A8FB725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5C2D8-EFF2-4BEE-88A4-E1C452F1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65205-BE9B-478F-8CBE-21ED2366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C1925-E26F-404F-B33B-FF2297F4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07D56-A71D-4FD4-827C-64C55CE4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01777-27ED-4795-BD81-B9147B953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2B9E4-839D-477C-9AC0-D9E9B7B56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AD234-AD1A-4828-9EE6-55FD3EB53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04DA5-7FE3-4BA8-9A75-283C46E8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B2B52-BED4-4E2E-87B8-152BBC90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0A6CD-946B-4729-B642-E875DE81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B30D0-C395-4217-907A-CC5DB135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6B7C6-0473-4AB5-93D0-4C20B219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8EF1E-FABC-42D8-8745-013DEA4B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803FF-C208-4BD0-B710-E2562FEF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40C0C-9656-4E43-9DC8-DDB7B361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1A605-651E-483A-B35C-4AB0BDEE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3629B-E554-4813-B794-1239BBD41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0EB5A-3127-4EFB-A0B6-E7BE15223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037D5-383B-4D95-B062-C50564E0A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59E3F-ABB8-4F8D-AE54-566B01DC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6F1DD-07D2-4CBF-B531-FF0E4B0C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6160A-8AE8-4733-857E-3384D2EB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AB74E-FC47-4ED0-9048-1C392702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B5427-59BD-4A44-B460-46E43049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6C704-0CE6-42C0-84A8-C05F1F44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FBE4A-B13E-42AF-94C2-E7DA4A2C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15AFE-F190-4789-B6D6-A3C6DCF0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02778-B205-4CC8-85DA-63DBB474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C6B05-A390-4E5C-9517-7ACFFB29F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3231D-FA15-41A8-8492-0A28CB9F6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6D8B6-EDA3-4501-BAC3-F641CA15C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82EF7-51E0-4D10-A029-AFEA28C4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9C2B0-08E4-40E8-B1B1-4C2974AF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5E208-4D70-4B8B-89A3-A027BFEA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BCFD9-BC00-459E-8049-D9747742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39104-49E7-4A10-A1F2-9A4D6051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3EFA6-BCC6-46BB-98CF-E506E74A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E07C1-CDDB-4A4C-8DF5-922EEC07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1B951-C094-4A0E-8FA8-449E79E3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40DA5-5533-49CC-B8D2-9D9F60EB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09DCD-6507-4963-9EFC-939193663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8D8AD-6D36-448E-83CB-5EF7CF504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186516-B0E5-4792-AD1F-1573B9841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356E6E-54E2-4B68-8D9D-515F1D0F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42DBF4-7EB7-45AA-BF24-51466CBC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029466-0771-40B5-A36A-0CBF22A9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34C31D-23ED-4CA6-BCA9-508DFE41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A088F7-61A9-4430-B23E-11D15B20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DDB015-7E68-4F8A-ACEC-493BAE90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8F2E71-61A3-4B32-9C99-902B62F9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8FE19D-ECD0-44FF-9E89-BD9BD30C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61E36B-1584-4302-90CB-61C9C5FB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56C79-5BAF-47C1-8BB1-59F919BA9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32465D-18FE-425C-8244-9B93CCD97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7BF4-5199-4D85-A07C-90456022C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CEE2-F6AB-4C72-9876-B188EB6B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DA06-127B-4839-A18A-A9A8AB8C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0470D-BBE8-4797-89DB-A49D20D0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4C1C-E183-4A1B-89A4-E601EF81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6F64-382B-4104-9ABA-6FA9C8C5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35CE-5624-4329-85A4-F65BFC5D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482AF-DF47-4056-B6DD-F2A783EC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4805-9F74-44DD-9A48-4A9007E5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707A-914B-45AC-8AFC-93E256F8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AEA2-F9F7-43E9-A384-2D7A20631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E5C8-81A1-4C6B-908E-EFA024970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129DE-CBF8-40F0-806B-F86A6B9F7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79278-9552-46B2-8976-67EAEE4C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B65CE-EE70-43F8-8EDB-29BB37B6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9F687-C710-48DF-8CA6-22BC62B9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8F021-0C71-41A2-9269-4B3BDCC8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2C7DC-8DD6-4AD8-820E-2C40B99F8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5E29F-9187-4692-95F8-84407E05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D5C6E-4678-4EE9-AA9B-EF8BD42E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46BAC-CE26-4D17-AC3F-3A9AD862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9845B-2DE8-4901-AE01-D4F70BEF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C9ED2-650C-4197-B4D7-2EA44394D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FFD90-E124-46B6-A0BB-6B8C0D3C9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7225B-86B0-4A9D-AB25-9074E1344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4B693-1C81-48CD-93C6-9BE0E5B7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3E021-442B-4FDD-AC07-C07D197A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82507-65BE-4FB3-9913-A08BD539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96D21-0DE4-4363-A5BB-B26D78C9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DBFB3-3E60-47B8-8E97-15FF7D96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78701-FB46-4CF9-B09A-258A5E91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7E785-6FD1-49E9-9C72-B2DF596B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55CB9-ED43-44B0-A686-2C31D95B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28C26-D366-4F8B-BC39-AF2EFA7A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CB64C-28BD-40EE-9665-01A0391F1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61B5F-6A15-45ED-B5F7-F7A4D4CA6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EA7A0-130E-4448-84F5-47D866E60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7B3F5-5603-40F2-96E3-DFC90052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E5A49-373D-4D8E-AA1B-79EC0A67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902C-40A0-4657-8273-244C876D8C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6CB4-E659-4790-8FDD-A033E8E2FA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04E3-F6BC-4900-A558-E6952F2B93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E03D-2779-4CC5-8AAF-4E5965623E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3DC5-99BE-4D43-A7E8-C4330D4E08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80BD-EEBB-4C82-8075-6CDE560BB8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78C0-DB43-4541-87CA-D924470824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EDC6-703C-4801-BE1B-344F53CB39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C066-D3D9-4FFE-99AF-3895B3EDFB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Rounded Rectangle 5"/>
          <p:cNvGrpSpPr/>
          <p:nvPr/>
        </p:nvGrpSpPr>
        <p:grpSpPr>
          <a:xfrm>
            <a:off x="-6480" y="-6480"/>
            <a:ext cx="9156960" cy="1158840"/>
            <a:chOff x="-6480" y="-6480"/>
            <a:chExt cx="9156960" cy="1158840"/>
          </a:xfrm>
        </p:grpSpPr>
        <p:pic>
          <p:nvPicPr>
            <p:cNvPr id="541" name="Rounded Rectangle 5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"/>
            <p:cNvSpPr/>
            <p:nvPr/>
          </p:nvSpPr>
          <p:spPr>
            <a:xfrm>
              <a:off x="0" y="0"/>
              <a:ext cx="9144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ftr" idx="28"/>
          </p:nvPr>
        </p:nvSpPr>
        <p:spPr>
          <a:xfrm>
            <a:off x="624816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ftr" idx="29"/>
          </p:nvPr>
        </p:nvSpPr>
        <p:spPr>
          <a:xfrm>
            <a:off x="624816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5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traight Connector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traight Connector 7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42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traight Connector 8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F110-34DE-4230-8C4D-5AA6C150E2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7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87" name="Slide Number Placeholder 5"/>
          <p:cNvSpPr/>
          <p:nvPr/>
        </p:nvSpPr>
        <p:spPr>
          <a:xfrm>
            <a:off x="0" y="6324480"/>
            <a:ext cx="8991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traight Connector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130" name="Slide Number Placeholder 5"/>
          <p:cNvSpPr/>
          <p:nvPr/>
        </p:nvSpPr>
        <p:spPr>
          <a:xfrm>
            <a:off x="0" y="6324480"/>
            <a:ext cx="8991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7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173" name="Slide Number Placeholder 5"/>
          <p:cNvSpPr/>
          <p:nvPr/>
        </p:nvSpPr>
        <p:spPr>
          <a:xfrm>
            <a:off x="0" y="6324480"/>
            <a:ext cx="8991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213F-711F-49AD-B841-54BEF898DE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ECD4-5DEA-4DBE-8906-BEB2416915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BBAF-2C96-4D1A-A4AC-D397263FE2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438A-1C7B-4DAB-8E66-9ABF574637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955B-F323-4BA7-B4E9-B38878F354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47F6-560E-4DC0-8752-DE99308F1F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18F9-119A-4C11-B835-591C868661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9639-E924-4F2A-9489-60CA56C922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 txBox="1"/>
          <p:nvPr/>
        </p:nvSpPr>
        <p:spPr>
          <a:xfrm>
            <a:off x="380520" y="27428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Two More E’s and How to Spre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Arial"/>
              </a:rPr>
              <a:t>IHI’s A Framework for Sprea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304920" y="16761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Make the project an organizational goal or strategic initiativ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Identify an owner or executive responsible for sprea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Identify person or team to manage day-to-day spread activ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Bundle changes (or interventions) in an easily adopted and tested packag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Develop plan and targets for spread initiative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Define specific goals of sprea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Define specific improvements that will be mad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Define timeframe of the spread effort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Create template for feedback report to the sites for monitoring progres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304920" y="6095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Massoud MR, Nielsen GA, Nolan K, et al. A Framework for Spread: From Local Improvements to System-Wide Change. IHI Innovation Series white paper. Cambridge, MA: Institute for Healthcare Improvement; 200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Action 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Start planning now for sustaining the intervention for years to c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Work with your executive partner and unit heads to expand the intervention into other un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Engage staff in thinking about the next mountain they would like to climb while maintaining low BSI r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Reference L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Buchanan D, Fitzgerald L, Ketley D, et al. No going back: A review of the literature on sustaining organizational change. International Journal of Management Reviews 2005; 7(3):189-20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Evashwick C, Ory M.  Organizational characteristics of successful innovative health care programs sustained over time. Fam Community Health. 2003 Jul-Sep;26(3):177-93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Greenhalgh T, Robert G, Macfarlane F, et al. Diffusion of innovations in service organizations: systematic review and recommendations. Milbank Q 2004;82(4):581-629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To think ahead about ways to make your investment of time and improvements in BSI rates last fore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To make sure all patients in your institution have access to the same level of safety in their ca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Implementation Fra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2" name="Picture 2" descr="Chart column headers Frontline Staff, Team Leaders, Senior Executives&#13;&#10;&#13;&#10;Row Headers &#13;&#10;Engage: Ask how dies this make the world a better place?&#13;&#10;Educate: What do I need to do? (Convert evidense to behaviors; evaluate awareness and agreement)&#13;&#10;Execute: how can I do it? ( Listen to resisters Standardize and learn from mistakes)&#13;&#10;Evaluate: how do I know we make a difference?"/>
          <p:cNvPicPr/>
          <p:nvPr/>
        </p:nvPicPr>
        <p:blipFill>
          <a:blip r:embed="rId1"/>
          <a:stretch/>
        </p:blipFill>
        <p:spPr>
          <a:xfrm>
            <a:off x="341280" y="1773360"/>
            <a:ext cx="8483760" cy="3941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Implementation Fra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4" descr="Chart column headers Frontline Staff, Team Leaders, Senior Executives&#13;&#10;&#13;&#10;Row Headers &#13;&#10;Endure: Has this become business as usual? How do I know it will last? (make policies and procedures, train new people, walk the process&#13;&#10;Expand: Who else needs to know this? What's next? ( Pass it on to other units, Identify and address your next challenge)&#13;&#10;&#13;&#10;&#13;&#10;"/>
          <p:cNvPicPr/>
          <p:nvPr/>
        </p:nvPicPr>
        <p:blipFill>
          <a:blip r:embed="rId1"/>
          <a:stretch/>
        </p:blipFill>
        <p:spPr>
          <a:xfrm>
            <a:off x="355680" y="1766880"/>
            <a:ext cx="8483400" cy="3003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-7632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Endure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Arial"/>
              </a:rPr>
              <a:t>—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Plan for Sustainabilit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4572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Why worry about the distant futur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What you can anticip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Turnover of staff and new staf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New projects and distra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Complac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Emergencies and complex cases (someone will call for exceptions to be mad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/>
          </p:nvPr>
        </p:nvSpPr>
        <p:spPr>
          <a:xfrm>
            <a:off x="151920" y="1752480"/>
            <a:ext cx="8991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Things you can do now to support long-term viabilit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of BSI re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Century Gothic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ahoma"/>
              </a:rPr>
              <a:t>Write it into poli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Century Gothic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ahoma"/>
              </a:rPr>
              <a:t>Include in training for all new memb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Century Gothic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ahoma"/>
              </a:rPr>
              <a:t>Audit or monitor to be sure it is routine practi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Century Gothic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ahoma"/>
              </a:rPr>
              <a:t>Set up reliable supply chain (borrowing protocol, alert system, assign someon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Century Gothic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ahoma"/>
              </a:rPr>
              <a:t>Have a quarterly review by executive partn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Century Gothic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ahoma"/>
              </a:rPr>
              <a:t>Set up a learning network of pe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Century Gothic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ahoma"/>
              </a:rPr>
              <a:t>Have regular meetings with you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ahoma"/>
              </a:rPr>
              <a:t>infection preventionist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Endure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—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Plan for Sustainabilit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Endure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Arial"/>
              </a:rPr>
              <a:t>—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Plan for Sustainabilit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ahoma"/>
              </a:rPr>
              <a:t>Practices that aided sustainability in the Michigan Proj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ahoma"/>
              </a:rPr>
              <a:t>Continued feedback of infection data that the team perceived as val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ahoma"/>
              </a:rPr>
              <a:t>Improvements in safety culture that occurred as part of the overall Keystone ICU proj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ahoma"/>
              </a:rPr>
              <a:t>Unremitting belief in the preventability of blood stream infe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ahoma"/>
              </a:rPr>
              <a:t>Involvement of senior leaders who reviewed infection data and provided teams with needed resour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ahoma"/>
              </a:rPr>
              <a:t>Shared goal rather than a competition to reduce infec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rates throughout the St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380520" y="6248160"/>
            <a:ext cx="63248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Pronovost, PJ; Goeschel C., et al. “Sustaining Reductions in Catheter-Related Bloodstream Infections in Michigan Intensive Care Units” British Medical Journal, February 4, 2010; 340:c30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-266760" y="-360"/>
            <a:ext cx="967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Expand—Spread the Interven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0769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Why think about expanding to other units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Requires self stu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Solidifies own understa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Provides equal protection for all patients (lines are placed elsewhe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May offer new ideas and methods or may change your perceptions of your own implementation when you see other units’ unique challe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Expand—Spread to New Pro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30492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Why think about your next projec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Can always improve qu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Use new capacity to change to make care bett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Maintain engagement of staff and interest and attention of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Permits some control over what the next initiative will 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Offers a more rewarding enviro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9:33:12Z</dcterms:created>
  <dc:creator>Heon-Jae Jeong, MD, MPH, MBA</dc:creator>
  <dc:description/>
  <dc:language>en-US</dc:language>
  <cp:lastModifiedBy>Karen Fleming-Michael</cp:lastModifiedBy>
  <dcterms:modified xsi:type="dcterms:W3CDTF">2013-02-12T19:27:02Z</dcterms:modified>
  <cp:revision>381</cp:revision>
  <dc:subject/>
  <dc:title>Project Report - Lean Sigma</dc:title>
</cp:coreProperties>
</file>