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7ECE-9A3A-40B3-99F0-75F9213281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C37F-BA8B-44E1-8AFD-5F6A038EB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 column headers Frontline Staff, Team Leaders, Senior Execu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w Hea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age: Ask how dies this make the world a better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e: What do I need to do? (Convert evidense to behaviors; evaluate awareness and agree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e: how can I do it? ( Listen to resisters Standardize and learn from mistak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: how do I know we make a differe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ADCE-C5B0-427B-A050-492939819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 column headers Frontline Staff, Team Leaders, Senior Execu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w Hea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ure: Has this become business as usual? How do I know it will last? (make policies and procedures, train new people, walk the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d: Who else needs to know this? What's next? ( Pass it on to other units, Identify and address your next challe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D52A-59CD-40EE-A699-3A0054CE5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CDEC-FAFB-47E8-8A31-56A606DC2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055F6-F7E9-4D4B-BF82-5E94A78A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55A3F-ABE5-40C3-A77A-2637BD10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31584-3A2F-4839-ABDC-AA15D701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B37D3-9B78-42C5-BECC-106E6EA8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2761A-8A1A-4121-9F70-FF09D2EA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92FB1-F852-4CD7-8784-5F74B39E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6D870-4908-4DC3-8BC4-76B3AD97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5A91B-5C51-4574-8423-46669382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59FAA-87D8-4C91-A708-162A300E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4A90D-6D0B-479C-AE26-62F30D1A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3A015-66C4-41FF-AC7A-7075C81F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165D8-9B78-43EA-BF13-1507ACBE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5E7F9-54EF-41D3-B834-871252E6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B65CC-956F-40F7-9305-550B76D1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A4BEC-EDF2-4E62-89CA-8AE3A15C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92F5A-84CF-468E-8448-C883AFFA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FC7F6-E2DE-4544-AFB7-BD0C737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C0814-5C63-4DE7-A3A2-CC26BB5E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D6DB9-1282-4D93-A922-820DE32D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67336-31E9-4808-BC66-3F0BE830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54566-C230-453D-B2B0-BFA17785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8554A-0633-4F31-AF35-084B09A4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53CE7-970A-424B-A224-C83E1452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964BB-EC5E-4979-906B-3E097DF5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E2180-6992-48F2-90B5-64161AFD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2D49C-30E4-49C6-8F2A-69B43F7F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621F8-1174-4DFE-BF81-06F0AE90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9E925-8157-4B06-A89D-ACA4545A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6B9BD-2516-4B66-A88E-9C4232F2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5E453-F574-4561-9D97-815A7736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03B63-82C4-4539-B71C-193C1212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363B0-F346-4F76-ABEE-86174ED8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93AFB-B0E1-4B48-953B-F8800422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A5296-9A38-406B-9609-A2F7E46A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63CDD-4C18-4D7C-AD33-22FC24D7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0C497-9F6E-49F8-B41F-6F8305C6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3733C-2148-4763-9929-AD413EE5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E126F-1C2B-405D-9B3D-9BA1C192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11FE9-D37B-4515-A7C0-1FBCE066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AB25E-ABB2-49DE-A882-BF4FEB60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6C031-B631-485E-B22E-A1AEA697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00382-7FCC-4287-8FBA-E94DBBF3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5469D-F9C6-444C-B523-A48FEC10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99D24-F258-4255-A55D-DF6B276D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746B9-0851-4367-923A-A971BF93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A8030-312F-482E-8BAB-B49305DC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1F3AE-06DA-4790-ACEA-E948F31F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36C95-34C1-48D4-AD3C-A7595E65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E3815-1FB7-4AB7-9E90-411284BB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C00B0-2DC7-4091-8A16-6747D42D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DE28A-0AC9-4B29-BE84-C7B1C419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FF3C7-4E55-44D0-BD40-377E4E29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EBB6E-61AD-4C62-BAF9-6AD672F0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2D5D7-E020-4C62-90A8-F337FF13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76EEA-A63A-4E13-A4F7-150B393F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86B71-7855-4AB4-93FB-1639A42E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45EF8-DCB8-4F0B-8E1B-08BAEEEC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8899-72A6-4414-B3EF-5620D9CA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069B-233A-4236-AD07-1562D9CE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CF90-4FC7-4D22-976C-8617DA67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3B45-48A7-46FE-BA59-97F35691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0C3E-A415-45FC-826E-99E8A5D2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42D5-673A-4F0C-A77E-2FD9C8F3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FD22-3783-4181-A45B-04C6CF28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F535-9FA2-4229-BBBC-25942229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2038-D934-439D-A763-AF22C6C1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0A54-D94D-4F7C-82CF-287FEE9B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0BD2-2C2F-4DE4-87E7-BEEA379C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E943-7355-4F40-9797-ADE40A41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D4F4B-C598-4354-8B07-C7DA8E7D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56F92-3930-4879-B452-BAF54F89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5BEC-64AC-4D67-98C0-EF0B365A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C814-87DD-47AE-AECE-4AB50DB7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1774-29D3-4E85-B02A-2DF1A8FB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95053-D1B1-4D48-B09D-3E9B09D0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11C5-D0B8-446C-AB7A-AEE723E4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7CC1-5BC7-4ED1-96D5-BD3C1F39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E21A-D870-46B6-A017-754B1172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E461-E6CF-4363-A174-FCA8E796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7F4B-8AEF-410E-911F-DC13AB7C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947C-9FC6-47C5-A566-745BD2A1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2EE1-6E85-4619-8CAE-110DBAB9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0ADF-F4E4-494D-B082-5C0751D0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870C6-6E95-42C9-B8FF-05CA96F2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04EC-199F-43D0-A87D-607CA9E0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606A4-8886-4C28-9180-17CA9537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7E408-F28D-4751-8311-E5D4575B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2D88-C7F5-4F9C-BACB-21B82DC7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25CA-F6C3-49FD-8464-2A353F2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3E5DF-2D5E-4E31-8D03-6876ACC4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D2198-61E1-4327-B01B-45692C54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010E-D58A-49E0-9239-309A4215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F42B0-BA2A-4BDA-8F2E-6FBAC8D0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53B23-5811-4917-92C4-11F4E9E7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663F3-B759-4434-BF2F-0646708F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64F3-DE09-43A4-83F3-C64CFCED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B9F4-7959-413D-89AA-A111878005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E8AF-D61D-418E-9074-98372D3BB5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375F-10F9-4BED-991B-F300F65FAD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F2C9-22CD-4231-93AF-4588A63971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1815-C88C-41BA-9F97-C8F4660335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9D88-A1C2-4CAB-8263-9A234CA6A7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6100-0A0E-4849-9E76-4139F4095E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E52D-5241-4F9C-8E73-D45FDE3A1A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AE99-FE3F-4B0E-A73E-E33416858A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Rounded Rectangle 5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541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28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29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7850-275E-41AB-BE91-DEFA97EAD7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7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CUSP-LOGO-no-tagline.gif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5"/>
          <p:cNvSpPr/>
          <p:nvPr/>
        </p:nvSpPr>
        <p:spPr>
          <a:xfrm>
            <a:off x="0" y="6324480"/>
            <a:ext cx="899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E63D-DD03-41D3-B120-B39DF8C030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7AAC-69E8-476C-A716-F415F90948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071F-3BF9-4F40-A3EA-8A149F1DB3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36A5-C9F7-4CFA-A4F3-4C4EB3D582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A6D6-54F4-44FD-B1CC-51AB0F1ED5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50DB-4C38-4505-B670-0C05D9B7A0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1561-5003-4C54-8601-924117732E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2DD3-D00D-4319-B4E7-BD74981990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80520" y="27428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wo More E’s and How to Spr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IHI’s A Framework for Sprea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04920" y="16761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Make the project an organizational goal or strategic initiati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dentify an owner or executive responsible for spre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Identify person or team to manage day-to-day spread ac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Bundle changes (or interventions) in an easily adopted and tested packa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evelop plan and targets for spread initiativ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efine specific goals of spre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efine specific improvements that will be ma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Define timeframe of the spread effor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Tahoma"/>
              </a:rPr>
              <a:t>Create template for feedback report to the sites for monitoring progr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0492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assoud MR, Nielsen GA, Nolan K, et al. A Framework for Spread: From Local Improvements to System-Wide Change. IHI Innovation Series white paper. Cambridge, MA: Institute for Healthcare Improvement; 20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Start planning now for sustaining the intervention for years to 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ork with your executive partner and unit heads to expand the intervention into other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Engage staff in thinking about the next mountain they would like to climb while maintaining low BSI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Reference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Buchanan D, Fitzgerald L, Ketley D, et al. No going back: A review of the literature on sustaining organizational change. International Journal of Management Reviews 2005; 7(3):189-2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Evashwick C, Ory M.  Organizational characteristics of successful innovative health care programs sustained over time. Fam Community Health. 2003 Jul-Sep;26(3):177-9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Greenhalgh T, Robert G, Macfarlane F, et al. Diffusion of innovations in service organizations: systematic review and recommendations. Milbank Q 2004;82(4):581-62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To think ahead about ways to make your investment of time and improvements in BSI rates last for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To make sure all patients in your institution have access to the same level of safety in their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Implementation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Picture 2" descr="Chart column headers Frontline Staff, Team Leaders, Senior Executives&#13;&#10;&#13;&#10;Row Headers &#13;&#10;Engage: Ask how dies this make the world a better place?&#13;&#10;Educate: What do I need to do? (Convert evidense to behaviors; evaluate awareness and agreement)&#13;&#10;Execute: how can I do it? ( Listen to resisters Standardize and learn from mistakes)&#13;&#10;Evaluate: how do I know we make a difference?"/>
          <p:cNvPicPr/>
          <p:nvPr/>
        </p:nvPicPr>
        <p:blipFill>
          <a:blip r:embed="rId1"/>
          <a:stretch/>
        </p:blipFill>
        <p:spPr>
          <a:xfrm>
            <a:off x="341280" y="1773360"/>
            <a:ext cx="8483760" cy="394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Implementation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4" descr="Chart column headers Frontline Staff, Team Leaders, Senior Executives&#13;&#10;&#13;&#10;Row Headers &#13;&#10;Endure: Has this become business as usual? How do I know it will last? (make policies and procedures, train new people, walk the process&#13;&#10;Expand: Who else needs to know this? What's next? ( Pass it on to other units, Identify and address your next challenge)&#13;&#10;&#13;&#10;&#13;&#10;"/>
          <p:cNvPicPr/>
          <p:nvPr/>
        </p:nvPicPr>
        <p:blipFill>
          <a:blip r:embed="rId1"/>
          <a:stretch/>
        </p:blipFill>
        <p:spPr>
          <a:xfrm>
            <a:off x="355680" y="1766880"/>
            <a:ext cx="8483400" cy="300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-7632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ndur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—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lan for Sustaina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hy worry about the distant fu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hat you can an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Turnover of staff and new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New projects and dist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Complac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Emergencies and complex cases (someone will call for exceptions to be ma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Things you can do now to support long-term viabil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of BSI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Write it into poli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Include in training for all new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Audit or monitor to be sure it is routine pract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Set up reliable supply chain (borrowing protocol, alert system, assign someon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Have a quarterly review by executive partn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Set up a learning network of pe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Century Gothic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Have regular meetings with you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infection preventionist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ndur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—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lan for Sustaina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ndur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—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Plan for Sustaina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Practices that aided sustainability in the Michigan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Continued feedback of infection data that the team perceived as 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Improvements in safety culture that occurred as part of the overall Keystone ICU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Unremitting belief in the preventability of blood stream inf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Involvement of senior leaders who reviewed infection data and provided teams with needed re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ahoma"/>
              </a:rPr>
              <a:t>Shared goal rather than a competition to reduce infe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rates throughout th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0520" y="6248160"/>
            <a:ext cx="6324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ronovost, PJ; Goeschel C., et al. “Sustaining Reductions in Catheter-Related Bloodstream Infections in Michigan Intensive Care Units” British Medical Journal, February 4, 2010; 340:c3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-26676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xpand—Spread the 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hy think about expanding to other unit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Requires self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Solidifies own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Provides equal protection for all patients (lines are placed elsewhe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May offer new ideas and methods or may change your perceptions of your own implementation when you see other units’ uniqu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ahoma"/>
              </a:rPr>
              <a:t>Expand—Spread to New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0492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Why think about your next proj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Can always improve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Use new capacity to change to make care bet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Maintain engagement of staff and interest and attention of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Permits some control over what the next initiative will 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Offers a more rewarding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9:33:12Z</dcterms:created>
  <dc:creator>Heon-Jae Jeong, MD, MPH, MBA</dc:creator>
  <dc:description/>
  <dc:language>en-US</dc:language>
  <cp:lastModifiedBy>Karen Fleming-Michael</cp:lastModifiedBy>
  <dcterms:modified xsi:type="dcterms:W3CDTF">2013-02-12T19:27:02Z</dcterms:modified>
  <cp:revision>381</cp:revision>
  <dc:subject/>
  <dc:title>Project Report - Lean Sigma</dc:title>
</cp:coreProperties>
</file>