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6A8F5-BED6-4F8C-978E-4C0249139B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Virginia's Cohort 3 units, CLABSI rates decreased from 1.1 per 1,000 line days in the first quarter of 2010 to 0.6 per 1,000 line days in the first quarter of 2012.  This is in line with a similar nationwide trend, in which rates dropped from 1.5 in the first quarter of 2010 to 0.9 by the first quarter of 2012.</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2911-2542-44AF-B7F8-1615251287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BSI rates among Virginia's Cohort 6 CLABSI teams fell 27 percent from 1.1 per 1,000 line days in the first quarter of 2011 to 0.8 in the first quarter of 2012.  This echoed a similar nationwide decrease from 1.3 per 1,000 line days in the first quarter of 2011 to 1.0 in the first quarter of 2012.</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6193B-C97A-4C62-9FE1-3AFD3C9598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rease in CLABSI rates among Virginia's Cohort 3 teams from early 2010 to early 2012 had a bump along the way.  In the second and third quarters in 2011, there was a slight increase in CLABSIs.</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FEBD6-F6F6-4CE7-A9AA-93FF118537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ginia's Cohort 3 teams reviewed compliance on a quarterly basis with technical work toward reducing CLABSI, tracking data on hand hygiene, proper use of Chlorhexidine, and full patient barriers.</a:t>
            </a: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66FB-6AA2-4B3D-A90B-0D4C41E88C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ginia's Cohort 3 teams reviewed compliance on a quarterly basis with technical work toward reducing CLABSI, tracking data on avoidance of the femoral site and removal of unnecessary lines.</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983D-780B-4DAA-8236-BF161F185B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ginia's Cohort 3 teams reviewed quarterly team check-up tool data on adaptive work toward reducing CLABSI, tracking data on use of senior executive rounds, identifying defects, learning from defects, and sharing findings of the LFD process.</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A3D58-E344-4BAB-AA21-C16E13C1DD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ly Team Check-up Tool data collected from Virginia's Cohort 3 teams tracked  a range of barriers in reducing CLABSI rates, including lack of time, lack of physician buy-in, lack of physician leadership, confusion around CUSP, and lack of nursing buy-in.</a:t>
            </a: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51A8-36C2-49DB-9F1A-29BBCD8F40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data submission for all of Cohort 3 fell somewhat, moving from 90 percent in February 2010 to 70 percent in December 2011, data submission among Virginia Cohort 3 units remained high.  In February 2010, 86 percent of Virginia's Cohort 3 units submitted data, and the rates increased through 2010 and by December 2011 had remained high, at 97 percent.</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72F9-C56E-41B0-9857-167C0EA584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s of data submission among Virginia's Cohort 6 units remained consistently higher than the rest of the Cohort for March through December 2011.  Virginia's Cohort 6 units achieved 100 percent data submission in March 2011 while the rate for all of Cohort 6 was only 73 percent.  In December 2011, 95 percent of Virginia's Cohort 6 teams submitted data, compared to a Cohort-wide rate of 54 percent.</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46EF-F7CB-4A42-B5CD-EC49EB847E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m Checkup Tool submission proved to be challenging among all of Cohort 3, falling slightly from June 2010 to December 2011.  While the slight, prolonged decrease is similar to trends across all of Cohort 3, Virginia's Cohort 3 Team Checkup Tool submission rates were consistently higher than those of Cohort 3 overall.</a:t>
            </a: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E4DED-1A8F-44B9-9DC1-9F4CF586D0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March to December 2011, rates of Team Checkup Tool data submission among Virginia's Cohort 6 teams increased steadily from 46 percent to 64 percent.  Among the rest of Cohort 6, Team Checkup Tool data submission was at 20 percent in March 2011, increased slightly until August, and decreased slightly to end up at 22 percent in December.</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65C3-BD46-4B4E-A046-3B2370AB85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FBECD9-D57D-4817-A4A9-742E961047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210279D-7B65-4261-B336-301FBB6472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939D15D-493F-4A2C-9C54-C08741EC8A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C76AF1F-9E22-4D71-AA36-DECF591F62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7945EC-2512-409A-8E1A-D794379CF9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60498A0-97C2-4046-AEC6-963D33FD32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9972B73-BB4F-4C63-95C0-8F30A73F87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E15FA60-3355-474C-8710-F8D34CB596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1ADA320-25AA-4E6F-9598-9A789B0521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7263055-2EB6-4907-BB8A-3E02F49219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490D068-7CED-4670-9F86-D9EDFCD4B5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006A707-37F5-43DC-A1ED-E364D91C53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C1454E0-2886-4AF8-84B2-EA1493570B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2574204-74E2-4AE5-AD4C-B48C212233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985DF29-201A-4DE0-B8FE-C52AABC8AB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0AA8451-5461-4B06-AB1B-F00EDCB336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4F55E6E-ED6F-4EB7-8444-248DF349700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711A55-6DD0-4242-97FF-962F38D45F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5DD4F3-2B09-4BCE-B4F6-01887E0DE8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66F2B8-EF76-4FDC-AAF2-3D0E40E59C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B40CA1-4A8A-41D5-B6AC-4880D945E3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A49F08-473D-4767-8E86-830E935539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87C31A2-C33E-45E0-BE9A-666FD3F246F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47057D-A3AD-41FD-9679-B5F7063BAF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662BAD-0BCB-4416-9DBE-6157E730E6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2D95EC-6C39-405C-B6F2-F6750C3961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BB1F38-BC24-4271-8311-EFCEEC044E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77AF28-8A67-4281-A694-09251DBD93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5BB97E-43A4-452F-A540-900F40515D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6EA7FD-E787-487D-89AC-12C0C67EA2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F1E905F-B945-4485-9546-28086EB573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51B2D225-661D-4AAF-BD49-BCDF1EC0F1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E863315-0DCC-4703-B1B3-2CAC0500E5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81791E1-0FB1-43A0-BA37-BAD32DF4D8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87AECD2-A942-4914-92DC-67450A5A4F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DC3B6AB-91CF-481D-BD53-1C432DC08C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512BD-5037-4147-BFCA-38A3364A321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 name="Picture 10" descr="alt=&quot;&quot;"/>
          <p:cNvPicPr/>
          <p:nvPr/>
        </p:nvPicPr>
        <p:blipFill>
          <a:blip r:embed="rId2"/>
          <a:stretch/>
        </p:blipFill>
        <p:spPr>
          <a:xfrm>
            <a:off x="6696000" y="5665680"/>
            <a:ext cx="2448000" cy="1192320"/>
          </a:xfrm>
          <a:prstGeom prst="rect">
            <a:avLst/>
          </a:prstGeom>
          <a:ln w="0">
            <a:noFill/>
          </a:ln>
        </p:spPr>
      </p:pic>
      <p:sp>
        <p:nvSpPr>
          <p:cNvPr id="6"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5" name="Picture 10" descr="alt=&quot;&quot;"/>
          <p:cNvPicPr/>
          <p:nvPr/>
        </p:nvPicPr>
        <p:blipFill>
          <a:blip r:embed="rId2"/>
          <a:stretch/>
        </p:blipFill>
        <p:spPr>
          <a:xfrm>
            <a:off x="6696000" y="5665680"/>
            <a:ext cx="2448000" cy="1192320"/>
          </a:xfrm>
          <a:prstGeom prst="rect">
            <a:avLst/>
          </a:prstGeom>
          <a:ln w="0">
            <a:noFill/>
          </a:ln>
        </p:spPr>
      </p:pic>
      <p:sp>
        <p:nvSpPr>
          <p:cNvPr id="46"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sldNum" idx="2"/>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7E69-E5FC-482A-B5EB-D2317647134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9" name="Picture 10" descr="alt=&quot;&quot;"/>
          <p:cNvPicPr/>
          <p:nvPr/>
        </p:nvPicPr>
        <p:blipFill>
          <a:blip r:embed="rId2"/>
          <a:stretch/>
        </p:blipFill>
        <p:spPr>
          <a:xfrm>
            <a:off x="6696000" y="5665680"/>
            <a:ext cx="2448000" cy="1192320"/>
          </a:xfrm>
          <a:prstGeom prst="rect">
            <a:avLst/>
          </a:prstGeom>
          <a:ln w="0">
            <a:noFill/>
          </a:ln>
        </p:spPr>
      </p:pic>
      <p:sp>
        <p:nvSpPr>
          <p:cNvPr id="90"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1" name="Picture 10" descr="CUSP-LOGO-no-tagline.gif"/>
          <p:cNvPicPr/>
          <p:nvPr/>
        </p:nvPicPr>
        <p:blipFill>
          <a:blip r:embed="rId3"/>
          <a:stretch/>
        </p:blipFill>
        <p:spPr>
          <a:xfrm>
            <a:off x="6696000" y="5665680"/>
            <a:ext cx="2448000" cy="119232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3B1A5-962B-4D10-87D7-E1F28B263F53}" type="datetime">
              <a:rPr b="0" lang="en-US" sz="1800" spc="-1" strike="noStrike">
                <a:solidFill>
                  <a:srgbClr val="000000"/>
                </a:solidFill>
                <a:latin typeface="Calibri"/>
              </a:rPr>
              <a:t>07/31/26</a:t>
            </a:fld>
            <a:endParaRPr b="0" lang="en-US" sz="1800" spc="-1" strike="noStrike">
              <a:solidFill>
                <a:srgbClr val="000000"/>
              </a:solidFill>
              <a:latin typeface="Calibri"/>
            </a:endParaRPr>
          </a:p>
        </p:txBody>
      </p:sp>
      <p:sp>
        <p:nvSpPr>
          <p:cNvPr id="9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PlaceHolder 5"/>
          <p:cNvSpPr>
            <a:spLocks noGrp="1"/>
          </p:cNvSpPr>
          <p:nvPr>
            <p:ph type="sldNum" idx="5"/>
          </p:nvPr>
        </p:nvSpPr>
        <p:spPr>
          <a:xfrm>
            <a:off x="3805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F64C-9434-44B9-979E-BD6823FD010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533160" y="1980720"/>
            <a:ext cx="8305560" cy="2133720"/>
          </a:xfrm>
          <a:prstGeom prst="rect">
            <a:avLst/>
          </a:prstGeom>
          <a:noFill/>
          <a:ln w="0">
            <a:noFill/>
          </a:ln>
        </p:spPr>
        <p:txBody>
          <a:bodyPr anchor="t">
            <a:normAutofit/>
          </a:bodyPr>
          <a:p>
            <a:pPr marL="343080" indent="0" algn="ctr">
              <a:lnSpc>
                <a:spcPct val="9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 </a:t>
            </a:r>
            <a:r>
              <a:rPr b="0" lang="en-US" sz="4100" spc="-1" strike="noStrike">
                <a:solidFill>
                  <a:srgbClr val="000000"/>
                </a:solidFill>
                <a:latin typeface="Calibri"/>
              </a:rPr>
              <a:t>Getting to Zero and </a:t>
            </a:r>
            <a:endParaRPr b="0" lang="en-US" sz="4100" spc="-1" strike="noStrike">
              <a:solidFill>
                <a:srgbClr val="000000"/>
              </a:solidFill>
              <a:latin typeface="Calibri"/>
            </a:endParaRPr>
          </a:p>
          <a:p>
            <a:pPr marL="343080" indent="0" algn="ctr">
              <a:lnSpc>
                <a:spcPct val="9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Sustaining Success:</a:t>
            </a:r>
            <a:endParaRPr b="0" lang="en-US" sz="4100" spc="-1" strike="noStrike">
              <a:solidFill>
                <a:srgbClr val="000000"/>
              </a:solidFill>
              <a:latin typeface="Calibri"/>
            </a:endParaRPr>
          </a:p>
          <a:p>
            <a:pPr marL="343080" indent="0" algn="ctr">
              <a:lnSpc>
                <a:spcPct val="9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The Virginia Experience</a:t>
            </a:r>
            <a:endParaRPr b="0" lang="en-US" sz="4100" spc="-1" strike="noStrike">
              <a:solidFill>
                <a:srgbClr val="000000"/>
              </a:solidFill>
              <a:latin typeface="Calibri"/>
            </a:endParaRPr>
          </a:p>
        </p:txBody>
      </p:sp>
      <p:sp>
        <p:nvSpPr>
          <p:cNvPr id="141" name="PlaceHolder 2"/>
          <p:cNvSpPr>
            <a:spLocks noGrp="1"/>
          </p:cNvSpPr>
          <p:nvPr>
            <p:ph type="subTitle"/>
          </p:nvPr>
        </p:nvSpPr>
        <p:spPr>
          <a:xfrm>
            <a:off x="1447920" y="4267080"/>
            <a:ext cx="6400800" cy="91440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bara Brown, Vice President</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rginia Hospital and Healthcare Association</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y 8, 2012</a:t>
            </a:r>
            <a:endParaRPr b="0" lang="en-US" sz="1800" spc="-1" strike="noStrike">
              <a:solidFill>
                <a:srgbClr val="000000"/>
              </a:solidFill>
              <a:latin typeface="Calibri"/>
            </a:endParaRPr>
          </a:p>
        </p:txBody>
      </p:sp>
      <p:sp>
        <p:nvSpPr>
          <p:cNvPr id="142" name="Slide Number Placeholder 1"/>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7E4E2-BBD9-4B8F-A80E-A0EF2D57459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Getting the Data Submitted:</a:t>
            </a:r>
            <a:br>
              <a:rPr sz="4000"/>
            </a:br>
            <a:r>
              <a:rPr b="0" lang="en-US" sz="4000" spc="-1" strike="noStrike">
                <a:solidFill>
                  <a:srgbClr val="ffffff"/>
                </a:solidFill>
                <a:latin typeface="Calibri"/>
              </a:rPr>
              <a:t>How did VA do it?</a:t>
            </a:r>
            <a:endParaRPr b="0" lang="en-US" sz="4000" spc="-1" strike="noStrike">
              <a:solidFill>
                <a:srgbClr val="000000"/>
              </a:solidFill>
              <a:latin typeface="Calibri"/>
            </a:endParaRPr>
          </a:p>
        </p:txBody>
      </p:sp>
      <p:sp>
        <p:nvSpPr>
          <p:cNvPr id="169" name=""/>
          <p:cNvSpPr txBox="1"/>
          <p:nvPr/>
        </p:nvSpPr>
        <p:spPr>
          <a:xfrm>
            <a:off x="304560" y="1828440"/>
            <a:ext cx="838188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of care counts submission repor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up with individual teams not submit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ication of barri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e counts training issu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changes on un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sure how to do Team Checkup Tool </a:t>
            </a:r>
            <a:endParaRPr b="0" lang="en-US" sz="2800" spc="-1" strike="noStrike">
              <a:solidFill>
                <a:srgbClr val="000000"/>
              </a:solidFill>
              <a:latin typeface="Calibri"/>
            </a:endParaRPr>
          </a:p>
        </p:txBody>
      </p:sp>
      <p:sp>
        <p:nvSpPr>
          <p:cNvPr id="170"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55BD-83BC-4B60-8EFC-7FC7DF7B8B8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VA Cohort 3 CLABSI Rate Down 46%</a:t>
            </a:r>
            <a:br>
              <a:rPr sz="4000"/>
            </a:br>
            <a:endParaRPr b="0" lang="en-US" sz="4000" spc="-1" strike="noStrike">
              <a:solidFill>
                <a:srgbClr val="000000"/>
              </a:solidFill>
              <a:latin typeface="Calibri"/>
            </a:endParaRPr>
          </a:p>
        </p:txBody>
      </p:sp>
      <p:sp>
        <p:nvSpPr>
          <p:cNvPr id="172"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8E929-837E-411F-93EE-5DDC22DBE6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Content Placeholder 4" descr="Among Virginia's Cohort 3 units, CLABSI rates decreased from 1.1 per 1,000 line days in the first quarter of 2010 to 0.6 per 1,000 line days in the first quarter of 2012.  This is in line with a similar nationwide trend, in which rates dropped from 1.5 in the first quarter of 2010 to 0.9 by the first quarter of 2012."/>
          <p:cNvPicPr/>
          <p:nvPr/>
        </p:nvPicPr>
        <p:blipFill>
          <a:blip r:embed="rId1"/>
          <a:stretch/>
        </p:blipFill>
        <p:spPr>
          <a:xfrm>
            <a:off x="406440" y="1625760"/>
            <a:ext cx="8254800" cy="452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VA Cohort 6 CLABSI Rate Down 27%</a:t>
            </a:r>
            <a:endParaRPr b="0" lang="en-US" sz="4000" spc="-1" strike="noStrike">
              <a:solidFill>
                <a:srgbClr val="000000"/>
              </a:solidFill>
              <a:latin typeface="Calibri"/>
            </a:endParaRPr>
          </a:p>
        </p:txBody>
      </p:sp>
      <p:sp>
        <p:nvSpPr>
          <p:cNvPr id="175"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86C29-E6F2-4E9F-BD29-42B71C0203B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6" name="Content Placeholder 4" descr="CLABSI rates among Virginia's Cohort 6 CLABSI teams fell 27 percent from 1.1 per 1,000 line days in the first quarter of 2011 to 0.8 in the first quarter of 2012.  This echoed a similar nationwide decrease from 1.3 per 1,000 line days in the first quarter of 2011 to 1.0 in the first quarter of 2012."/>
          <p:cNvPicPr/>
          <p:nvPr/>
        </p:nvPicPr>
        <p:blipFill>
          <a:blip r:embed="rId1"/>
          <a:stretch/>
        </p:blipFill>
        <p:spPr>
          <a:xfrm>
            <a:off x="330120" y="1930320"/>
            <a:ext cx="8255160" cy="421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76320"/>
            <a:ext cx="8839440" cy="126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ate Up for 2 Quarters; Reducing CLABSI Rates Not Smooth</a:t>
            </a:r>
            <a:endParaRPr b="0" lang="en-US" sz="4000" spc="-1" strike="noStrike">
              <a:solidFill>
                <a:srgbClr val="000000"/>
              </a:solidFill>
              <a:latin typeface="Calibri"/>
            </a:endParaRPr>
          </a:p>
        </p:txBody>
      </p:sp>
      <p:sp>
        <p:nvSpPr>
          <p:cNvPr id="178"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750F1-E794-4927-A0FA-4298DD81D1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9" name="Content Placeholder 4" descr="The decrease in CLABSI rates among Virginia's Cohort 3 teams from early 2010 to early 2012 had a bump along the way.  In the second and third quarters in 2011, there was a slight increase in CLABSIs."/>
          <p:cNvPicPr/>
          <p:nvPr/>
        </p:nvPicPr>
        <p:blipFill>
          <a:blip r:embed="rId1"/>
          <a:stretch/>
        </p:blipFill>
        <p:spPr>
          <a:xfrm>
            <a:off x="482760" y="1778040"/>
            <a:ext cx="8254800" cy="4216320"/>
          </a:xfrm>
          <a:prstGeom prst="rect">
            <a:avLst/>
          </a:prstGeom>
          <a:ln w="0">
            <a:noFill/>
          </a:ln>
        </p:spPr>
      </p:pic>
      <p:cxnSp>
        <p:nvCxnSpPr>
          <p:cNvPr id="180" name="Straight Arrow Connector 6"/>
          <p:cNvCxnSpPr/>
          <p:nvPr/>
        </p:nvCxnSpPr>
        <p:spPr>
          <a:xfrm flipH="1">
            <a:off x="6095160" y="1523880"/>
            <a:ext cx="229320" cy="1524960"/>
          </a:xfrm>
          <a:prstGeom prst="straightConnector1">
            <a:avLst/>
          </a:prstGeom>
          <a:ln w="50760">
            <a:solidFill>
              <a:srgbClr val="92d05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Trend Line Not Smooth</a:t>
            </a:r>
            <a:endParaRPr b="0" lang="en-US" sz="4000" spc="-1" strike="noStrike">
              <a:solidFill>
                <a:srgbClr val="000000"/>
              </a:solidFill>
              <a:latin typeface="Calibri"/>
            </a:endParaRPr>
          </a:p>
        </p:txBody>
      </p:sp>
      <p:sp>
        <p:nvSpPr>
          <p:cNvPr id="182" name=""/>
          <p:cNvSpPr txBox="1"/>
          <p:nvPr/>
        </p:nvSpPr>
        <p:spPr>
          <a:xfrm>
            <a:off x="685440" y="1828440"/>
            <a:ext cx="7924680" cy="4297320"/>
          </a:xfrm>
          <a:prstGeom prst="rect">
            <a:avLst/>
          </a:prstGeom>
          <a:noFill/>
          <a:ln w="0">
            <a:noFill/>
          </a:ln>
        </p:spPr>
        <p:txBody>
          <a:bodyPr anchor="t">
            <a:normAutofit/>
          </a:bodyPr>
          <a:p>
            <a:pPr marL="343080" indent="-343080">
              <a:lnSpc>
                <a:spcPct val="8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What worked to get rates back on track?</a:t>
            </a:r>
            <a:endParaRPr b="0" lang="en-US" sz="39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ied and contacted “hot spot” units with more than one CLABSI in the past 6 months (e.g., one unit accounted for 25% of all CLABSI’s in a 6-month look back)</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ncouraged use of Learning from Defects Tool for individual CAUTI events</a:t>
            </a:r>
            <a:endParaRPr b="0" lang="en-US" sz="24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endParaRPr b="0" lang="en-US" sz="1300" spc="-1" strike="noStrike">
              <a:solidFill>
                <a:srgbClr val="000000"/>
              </a:solidFill>
              <a:latin typeface="Calibri"/>
            </a:endParaRPr>
          </a:p>
        </p:txBody>
      </p:sp>
      <p:sp>
        <p:nvSpPr>
          <p:cNvPr id="183"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CABC2-C572-444D-B6AA-624311D030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 Trend Line Not Smooth (cont.)</a:t>
            </a:r>
            <a:endParaRPr b="0" lang="en-US" sz="4000" spc="-1" strike="noStrike">
              <a:solidFill>
                <a:srgbClr val="000000"/>
              </a:solidFill>
              <a:latin typeface="Calibri"/>
            </a:endParaRPr>
          </a:p>
        </p:txBody>
      </p:sp>
      <p:sp>
        <p:nvSpPr>
          <p:cNvPr id="185" name=""/>
          <p:cNvSpPr txBox="1"/>
          <p:nvPr/>
        </p:nvSpPr>
        <p:spPr>
          <a:xfrm>
            <a:off x="457200" y="1828440"/>
            <a:ext cx="815328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orked to get rates back on track?</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m presentations of success stories (e.g., changing physician and nursing behavio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oked at Team Checkup Tool data:  What does the data tell us about our technical work with central lines?</a:t>
            </a:r>
            <a:endParaRPr b="0" lang="en-US" sz="2400" spc="-1" strike="noStrike">
              <a:solidFill>
                <a:srgbClr val="000000"/>
              </a:solidFill>
              <a:latin typeface="Calibri"/>
            </a:endParaRPr>
          </a:p>
        </p:txBody>
      </p:sp>
      <p:sp>
        <p:nvSpPr>
          <p:cNvPr id="186"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1DCC-F091-4F70-9136-9A649F1594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Using TCT Data: C3 Technical Work</a:t>
            </a:r>
            <a:endParaRPr b="0" lang="en-US" sz="4000" spc="-1" strike="noStrike">
              <a:solidFill>
                <a:srgbClr val="000000"/>
              </a:solidFill>
              <a:latin typeface="Calibri"/>
            </a:endParaRPr>
          </a:p>
        </p:txBody>
      </p:sp>
      <p:pic>
        <p:nvPicPr>
          <p:cNvPr id="188" name="Content Placeholder 4" descr="Virginia's Cohort 3 teams reviewed compliance on a quarterly basis with technical work toward reducing CLABSI, tracking data on hand hygiene, proper use of Chlorhexidine, and full patient barriers."/>
          <p:cNvPicPr/>
          <p:nvPr/>
        </p:nvPicPr>
        <p:blipFill>
          <a:blip r:embed="rId1"/>
          <a:stretch/>
        </p:blipFill>
        <p:spPr>
          <a:xfrm>
            <a:off x="254160" y="1473120"/>
            <a:ext cx="8635680" cy="4749840"/>
          </a:xfrm>
          <a:prstGeom prst="rect">
            <a:avLst/>
          </a:prstGeom>
          <a:ln w="0">
            <a:noFill/>
          </a:ln>
        </p:spPr>
      </p:pic>
      <p:sp>
        <p:nvSpPr>
          <p:cNvPr id="189"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8298A-CAB0-430B-80CA-A29A3054C76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Using TCT Data: C3 Technical Work</a:t>
            </a:r>
            <a:endParaRPr b="0" lang="en-US" sz="4000" spc="-1" strike="noStrike">
              <a:solidFill>
                <a:srgbClr val="000000"/>
              </a:solidFill>
              <a:latin typeface="Calibri"/>
            </a:endParaRPr>
          </a:p>
        </p:txBody>
      </p:sp>
      <p:pic>
        <p:nvPicPr>
          <p:cNvPr id="191" name="Content Placeholder 4" descr="Virginia's Cohort 3 teams reviewed compliance on a quarterly basis with technical work toward reducing CLABSI, tracking data on avoidance of the femoral site and removal of unnecessary lines."/>
          <p:cNvPicPr/>
          <p:nvPr/>
        </p:nvPicPr>
        <p:blipFill>
          <a:blip r:embed="rId1"/>
          <a:stretch/>
        </p:blipFill>
        <p:spPr>
          <a:xfrm>
            <a:off x="254160" y="1397160"/>
            <a:ext cx="8635680" cy="4551120"/>
          </a:xfrm>
          <a:prstGeom prst="rect">
            <a:avLst/>
          </a:prstGeom>
          <a:ln w="0">
            <a:noFill/>
          </a:ln>
        </p:spPr>
      </p:pic>
      <p:sp>
        <p:nvSpPr>
          <p:cNvPr id="192"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7E2F-FE55-44EF-AB62-F3FD5DC2A65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Using TCT Data: Technical Work</a:t>
            </a:r>
            <a:endParaRPr b="0" lang="en-US" sz="4000" spc="-1" strike="noStrike">
              <a:solidFill>
                <a:srgbClr val="000000"/>
              </a:solidFill>
              <a:latin typeface="Calibri"/>
            </a:endParaRPr>
          </a:p>
        </p:txBody>
      </p:sp>
      <p:sp>
        <p:nvSpPr>
          <p:cNvPr id="194"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4FBE-F4BC-4E8B-9F0A-7AD1F3A868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5" name=""/>
          <p:cNvSpPr txBox="1"/>
          <p:nvPr/>
        </p:nvSpPr>
        <p:spPr>
          <a:xfrm>
            <a:off x="457200" y="19807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was robust: Excellent Team Checkup Tool submi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was shared on coaching ca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ies were appare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ing femoral insertion si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ily rounding for line necess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Improving Patient Safety</a:t>
            </a:r>
            <a:br>
              <a:rPr sz="4000"/>
            </a:br>
            <a:r>
              <a:rPr b="0" lang="en-US" sz="4000" spc="-1" strike="noStrike">
                <a:solidFill>
                  <a:srgbClr val="ffffff"/>
                </a:solidFill>
                <a:latin typeface="Calibri"/>
              </a:rPr>
              <a:t>Using TCT Data: C3 CUSP Work</a:t>
            </a:r>
            <a:endParaRPr b="0" lang="en-US" sz="4000" spc="-1" strike="noStrike">
              <a:solidFill>
                <a:srgbClr val="000000"/>
              </a:solidFill>
              <a:latin typeface="Calibri"/>
            </a:endParaRPr>
          </a:p>
        </p:txBody>
      </p:sp>
      <p:pic>
        <p:nvPicPr>
          <p:cNvPr id="197" name="Content Placeholder 4" descr="Virginia's Cohort 3 teams reviewed quarterly team check-up tool data on adaptive work toward reducing CLABSI, tracking data on use of senior executive rounds, identifying defects, learning from defects, and sharing findings of the LFD process."/>
          <p:cNvPicPr/>
          <p:nvPr/>
        </p:nvPicPr>
        <p:blipFill>
          <a:blip r:embed="rId1"/>
          <a:stretch/>
        </p:blipFill>
        <p:spPr>
          <a:xfrm>
            <a:off x="254160" y="1473120"/>
            <a:ext cx="8635680" cy="4749840"/>
          </a:xfrm>
          <a:prstGeom prst="rect">
            <a:avLst/>
          </a:prstGeom>
          <a:ln w="0">
            <a:noFill/>
          </a:ln>
        </p:spPr>
      </p:pic>
      <p:sp>
        <p:nvSpPr>
          <p:cNvPr id="198"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05DBE-AF45-42EE-A7E9-C0E438DAD7A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Learning Objectives</a:t>
            </a:r>
            <a:br>
              <a:rPr sz="4000"/>
            </a:br>
            <a:endParaRPr b="0" lang="en-US" sz="40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understand the challenges and successes the Commonwealth of Virginia experienced during the national collaborative i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ing and sustaining its CLABSI ra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ing the Comprehensive Unit-based Safety Program (CUSP)</a:t>
            </a:r>
            <a:endParaRPr b="0" lang="en-US" sz="2800" spc="-1" strike="noStrike">
              <a:solidFill>
                <a:srgbClr val="000000"/>
              </a:solidFill>
              <a:latin typeface="Calibri"/>
            </a:endParaRPr>
          </a:p>
        </p:txBody>
      </p:sp>
      <p:sp>
        <p:nvSpPr>
          <p:cNvPr id="145" name="Slide Number Placeholder 2"/>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C2C71-284D-4DD1-B22D-1C21034D22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Improving Patient Safety</a:t>
            </a:r>
            <a:br>
              <a:rPr sz="4000"/>
            </a:br>
            <a:r>
              <a:rPr b="0" lang="en-US" sz="4000" spc="-1" strike="noStrike">
                <a:solidFill>
                  <a:srgbClr val="ffffff"/>
                </a:solidFill>
                <a:latin typeface="Calibri"/>
              </a:rPr>
              <a:t>Using TCT Data: CUSP Work</a:t>
            </a:r>
            <a:endParaRPr b="0" lang="en-US" sz="4000" spc="-1" strike="noStrike">
              <a:solidFill>
                <a:srgbClr val="000000"/>
              </a:solidFill>
              <a:latin typeface="Calibri"/>
            </a:endParaRPr>
          </a:p>
        </p:txBody>
      </p:sp>
      <p:sp>
        <p:nvSpPr>
          <p:cNvPr id="200"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7F69-7CF8-4A54-B305-2E0873560E2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1" name=""/>
          <p:cNvSpPr txBox="1"/>
          <p:nvPr/>
        </p:nvSpPr>
        <p:spPr>
          <a:xfrm>
            <a:off x="228240" y="1676160"/>
            <a:ext cx="8458200" cy="41446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was robust: Excellent Team Checkup Tool submission</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was shared on coaching call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ms modeled CUSP on the calls</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d what defects they identified</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d how they implemented the Learning from Defects process</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d what they learned from drill dow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
            <a:ext cx="82296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Challenge #2: Improving Patient Safety</a:t>
            </a:r>
            <a:br>
              <a:rPr sz="4000"/>
            </a:br>
            <a:endParaRPr b="0" lang="en-US" sz="4000" spc="-1" strike="noStrike">
              <a:solidFill>
                <a:srgbClr val="000000"/>
              </a:solidFill>
              <a:latin typeface="Calibri"/>
            </a:endParaRPr>
          </a:p>
        </p:txBody>
      </p:sp>
      <p:sp>
        <p:nvSpPr>
          <p:cNvPr id="203"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F50C-FACE-4D95-9FE2-AB1C5F95EC5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4" name=""/>
          <p:cNvSpPr txBox="1"/>
          <p:nvPr/>
        </p:nvSpPr>
        <p:spPr>
          <a:xfrm>
            <a:off x="456840" y="1676520"/>
            <a:ext cx="8381880" cy="444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team shar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uraging senior exec round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aging nurses as patient advoca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ng patients and families re: HAIs in special populations (e.g., NICU)</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ing model checkli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ling out project across disciplines (med staff, nursing staff, house officers, med stud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Improving Patient Safety</a:t>
            </a:r>
            <a:br>
              <a:rPr sz="4000"/>
            </a:br>
            <a:r>
              <a:rPr b="0" lang="en-US" sz="4000" spc="-1" strike="noStrike">
                <a:solidFill>
                  <a:srgbClr val="ffffff"/>
                </a:solidFill>
                <a:latin typeface="Calibri"/>
              </a:rPr>
              <a:t>CUSP in action</a:t>
            </a:r>
            <a:endParaRPr b="0" lang="en-US" sz="4000" spc="-1" strike="noStrike">
              <a:solidFill>
                <a:srgbClr val="000000"/>
              </a:solidFill>
              <a:latin typeface="Calibri"/>
            </a:endParaRPr>
          </a:p>
        </p:txBody>
      </p:sp>
      <p:sp>
        <p:nvSpPr>
          <p:cNvPr id="206"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FF536-34D1-4B6B-8524-E6A9929E6BD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7" name=""/>
          <p:cNvSpPr txBox="1"/>
          <p:nvPr/>
        </p:nvSpPr>
        <p:spPr>
          <a:xfrm>
            <a:off x="456840" y="1676520"/>
            <a:ext cx="8381880" cy="444960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m Sharing Example: Shenandoah Hospital’s “Good Catch” Program</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spital leadership gives “good catch” pins to staff who identify and correct a patient safety near mis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ong medication from contract pharmacy caught before delivery to pati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elchair assists booked in advance for unstable ambulatory patie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etcher-locking mechanism failure noted and prevented patient fal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Using TCT Data: C3 Barriers</a:t>
            </a:r>
            <a:endParaRPr b="0" lang="en-US" sz="4000" spc="-1" strike="noStrike">
              <a:solidFill>
                <a:srgbClr val="000000"/>
              </a:solidFill>
              <a:latin typeface="Calibri"/>
            </a:endParaRPr>
          </a:p>
        </p:txBody>
      </p:sp>
      <p:pic>
        <p:nvPicPr>
          <p:cNvPr id="209" name="Content Placeholder 4" descr="Quarterly Team Check-up Tool data collected from Virginia's Cohort 3 teams tracked  a range of barriers in reducing CLABSI rates, including lack of time, lack of physician buy-in, lack of physician leadership, confusion around CUSP, and lack of nursing buy-in."/>
          <p:cNvPicPr/>
          <p:nvPr/>
        </p:nvPicPr>
        <p:blipFill>
          <a:blip r:embed="rId1"/>
          <a:stretch/>
        </p:blipFill>
        <p:spPr>
          <a:xfrm>
            <a:off x="254160" y="1473120"/>
            <a:ext cx="8635680" cy="4749840"/>
          </a:xfrm>
          <a:prstGeom prst="rect">
            <a:avLst/>
          </a:prstGeom>
          <a:ln w="0">
            <a:noFill/>
          </a:ln>
        </p:spPr>
      </p:pic>
      <p:sp>
        <p:nvSpPr>
          <p:cNvPr id="210"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005E-9334-49AE-9C8A-88D4A5A126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Using TCT Data: Barriers</a:t>
            </a:r>
            <a:endParaRPr b="0" lang="en-US" sz="4000" spc="-1" strike="noStrike">
              <a:solidFill>
                <a:srgbClr val="000000"/>
              </a:solidFill>
              <a:latin typeface="Calibri"/>
            </a:endParaRPr>
          </a:p>
        </p:txBody>
      </p:sp>
      <p:sp>
        <p:nvSpPr>
          <p:cNvPr id="212"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187E9-21D1-44FC-982A-91BF81BAA99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3" name=""/>
          <p:cNvSpPr txBox="1"/>
          <p:nvPr/>
        </p:nvSpPr>
        <p:spPr>
          <a:xfrm>
            <a:off x="456840" y="1752120"/>
            <a:ext cx="83818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was robust: Excellent TCT submi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was shared on coaching ca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Barrier breakthroughs” shar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ms informally shared strategies on cal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aculty shared tips on cal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mal presentations by model teams and faculty to address specific barri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 3:  Sustainability:</a:t>
            </a:r>
            <a:br>
              <a:rPr sz="4000"/>
            </a:br>
            <a:r>
              <a:rPr b="0" lang="en-US" sz="4000" spc="-1" strike="noStrike">
                <a:solidFill>
                  <a:srgbClr val="ffffff"/>
                </a:solidFill>
                <a:latin typeface="Calibri"/>
              </a:rPr>
              <a:t>Where do we go from here?</a:t>
            </a:r>
            <a:endParaRPr b="0" lang="en-US" sz="4000" spc="-1" strike="noStrike">
              <a:solidFill>
                <a:srgbClr val="000000"/>
              </a:solidFill>
              <a:latin typeface="Calibri"/>
            </a:endParaRPr>
          </a:p>
        </p:txBody>
      </p:sp>
      <p:sp>
        <p:nvSpPr>
          <p:cNvPr id="215"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409D1-8A25-4CD2-81A8-998003E5A7A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6" name=""/>
          <p:cNvSpPr txBox="1"/>
          <p:nvPr/>
        </p:nvSpPr>
        <p:spPr>
          <a:xfrm>
            <a:off x="228240" y="1676520"/>
            <a:ext cx="8915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ep CLABSI reduction/patient safety on your rada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e calls if possible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it easy for teams to stay in touch</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 a common site to share best practices, resources, FAQs, national updat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e to share data tren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ld this work into your other quality/patient safety meetings (e.g., HEN work)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 3:  Sustainability:</a:t>
            </a:r>
            <a:br>
              <a:rPr sz="4000"/>
            </a:br>
            <a:r>
              <a:rPr b="0" lang="en-US" sz="4000" spc="-1" strike="noStrike">
                <a:solidFill>
                  <a:srgbClr val="ffffff"/>
                </a:solidFill>
                <a:latin typeface="Calibri"/>
              </a:rPr>
              <a:t>Where do we go from here? (cont.)</a:t>
            </a:r>
            <a:endParaRPr b="0" lang="en-US" sz="4000" spc="-1" strike="noStrike">
              <a:solidFill>
                <a:srgbClr val="000000"/>
              </a:solidFill>
              <a:latin typeface="Calibri"/>
            </a:endParaRPr>
          </a:p>
        </p:txBody>
      </p:sp>
      <p:sp>
        <p:nvSpPr>
          <p:cNvPr id="218"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2136-3C9C-4640-ADA5-280EC7A459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9" name=""/>
          <p:cNvSpPr txBox="1"/>
          <p:nvPr/>
        </p:nvSpPr>
        <p:spPr>
          <a:xfrm>
            <a:off x="228240" y="1676520"/>
            <a:ext cx="8915400" cy="444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CUSP is the foundation that can drive all your improvement initiativ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an “add-on” but a way of making care safe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ps and tools are applicable to any projec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y Virginia? </a:t>
            </a:r>
            <a:endParaRPr b="0" lang="en-US" sz="4400" spc="-1" strike="noStrike">
              <a:solidFill>
                <a:srgbClr val="000000"/>
              </a:solidFill>
              <a:latin typeface="Calibri"/>
            </a:endParaRPr>
          </a:p>
        </p:txBody>
      </p:sp>
      <p:sp>
        <p:nvSpPr>
          <p:cNvPr id="147"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BFFE-E3CE-4062-80E3-5F25155E098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8" name=""/>
          <p:cNvSpPr txBox="1"/>
          <p:nvPr/>
        </p:nvSpPr>
        <p:spPr>
          <a:xfrm>
            <a:off x="457200" y="167652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ed data submission rates well above others in the proj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d sustained drop in CLABSI rates in both its cohor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d improved adoption of CLABSI reduction strategies and CUSP steps over the course of the proj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Virginia and the</a:t>
            </a:r>
            <a:br>
              <a:rPr sz="4000"/>
            </a:br>
            <a:r>
              <a:rPr b="0" lang="en-US" sz="4000" spc="-1" strike="noStrike">
                <a:solidFill>
                  <a:srgbClr val="ffffff"/>
                </a:solidFill>
                <a:latin typeface="Calibri"/>
              </a:rPr>
              <a:t> National Collaborative </a:t>
            </a:r>
            <a:endParaRPr b="0" lang="en-US" sz="4000" spc="-1" strike="noStrike">
              <a:solidFill>
                <a:srgbClr val="000000"/>
              </a:solidFill>
              <a:latin typeface="Calibri"/>
            </a:endParaRPr>
          </a:p>
        </p:txBody>
      </p:sp>
      <p:sp>
        <p:nvSpPr>
          <p:cNvPr id="150"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857A-DE55-4165-94D2-1A86CE3187B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1" name=""/>
          <p:cNvSpPr txBox="1"/>
          <p:nvPr/>
        </p:nvSpPr>
        <p:spPr>
          <a:xfrm>
            <a:off x="457200" y="1676520"/>
            <a:ext cx="815328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ginia enrolled units in two cohort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hort 3  (start date: February 201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hort 6  (start date: March 201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152" name=""/>
          <p:cNvGraphicFramePr/>
          <p:nvPr/>
        </p:nvGraphicFramePr>
        <p:xfrm>
          <a:off x="1295280" y="3581280"/>
          <a:ext cx="6553440" cy="1981440"/>
        </p:xfrm>
        <a:graphic>
          <a:graphicData uri="http://schemas.openxmlformats.org/drawingml/2006/table">
            <a:tbl>
              <a:tblPr/>
              <a:tblGrid>
                <a:gridCol w="1371600"/>
                <a:gridCol w="1752840"/>
                <a:gridCol w="1218960"/>
                <a:gridCol w="1067040"/>
                <a:gridCol w="1143000"/>
              </a:tblGrid>
              <a:tr h="660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Virgini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Hospital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Unit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ICU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ICU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60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hort 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2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3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2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6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60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hort 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1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2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1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National CLABSI Collaborative: Challenges Every State Faced</a:t>
            </a:r>
            <a:endParaRPr b="0" lang="en-US" sz="4000" spc="-1" strike="noStrike">
              <a:solidFill>
                <a:srgbClr val="000000"/>
              </a:solidFill>
              <a:latin typeface="Calibri"/>
            </a:endParaRPr>
          </a:p>
        </p:txBody>
      </p:sp>
      <p:sp>
        <p:nvSpPr>
          <p:cNvPr id="154" name=""/>
          <p:cNvSpPr txBox="1"/>
          <p:nvPr/>
        </p:nvSpPr>
        <p:spPr>
          <a:xfrm>
            <a:off x="457200" y="1752480"/>
            <a:ext cx="8229600" cy="4221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tting the data submitted from your team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BSI da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m Checkup Tool dat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ing CLABSI rates and improving safety depends 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ing technical change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ing CUSP to change cultur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stainability</a:t>
            </a:r>
            <a:endParaRPr b="0" lang="en-US" sz="3200" spc="-1" strike="noStrike">
              <a:solidFill>
                <a:srgbClr val="000000"/>
              </a:solidFill>
              <a:latin typeface="Calibri"/>
            </a:endParaRPr>
          </a:p>
        </p:txBody>
      </p:sp>
      <p:sp>
        <p:nvSpPr>
          <p:cNvPr id="155"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91627-9B82-43D7-8A1B-7DDA0915D0C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Challenge #1:  Data Submission</a:t>
            </a:r>
            <a:br>
              <a:rPr sz="4000"/>
            </a:br>
            <a:r>
              <a:rPr b="0" lang="en-US" sz="4000" spc="-1" strike="noStrike">
                <a:solidFill>
                  <a:srgbClr val="ffffff"/>
                </a:solidFill>
                <a:latin typeface="Calibri"/>
              </a:rPr>
              <a:t>VA CLABSI Data Submission, Cohort 3</a:t>
            </a:r>
            <a:br>
              <a:rPr sz="4000"/>
            </a:br>
            <a:endParaRPr b="0" lang="en-US" sz="4000" spc="-1" strike="noStrike">
              <a:solidFill>
                <a:srgbClr val="000000"/>
              </a:solidFill>
              <a:latin typeface="Calibri"/>
            </a:endParaRPr>
          </a:p>
        </p:txBody>
      </p:sp>
      <p:sp>
        <p:nvSpPr>
          <p:cNvPr id="157"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C304F-73A3-41B4-B2B4-54255FD39C1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58" name="Content Placeholder 4" descr="While data submission for all of Cohort 3 fell somewhat, moving from 90 percent in February 2010 to 70 percent in December 2011, data submission among Virginia Cohort 3 units remained high.  In February 2010, 86 percent of Virginia's Cohort 3 units submitted data, and the rates increased through 2010 and by December 2011 had remained high, at 97 percent."/>
          <p:cNvPicPr/>
          <p:nvPr/>
        </p:nvPicPr>
        <p:blipFill>
          <a:blip r:embed="rId1"/>
          <a:stretch/>
        </p:blipFill>
        <p:spPr>
          <a:xfrm>
            <a:off x="406440" y="1778040"/>
            <a:ext cx="8254800" cy="436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Calibri"/>
              </a:rPr>
              <a:t>Challenge #1:  Data Submission</a:t>
            </a:r>
            <a:br>
              <a:rPr sz="4000"/>
            </a:br>
            <a:r>
              <a:rPr b="0" lang="en-US" sz="4000" spc="-1" strike="noStrike">
                <a:solidFill>
                  <a:srgbClr val="ffffff"/>
                </a:solidFill>
                <a:latin typeface="Calibri"/>
              </a:rPr>
              <a:t>VA CLABSI Data Submission, Cohort 6</a:t>
            </a:r>
            <a:br>
              <a:rPr sz="4000"/>
            </a:br>
            <a:br>
              <a:rPr sz="4000"/>
            </a:br>
            <a:endParaRPr b="0" lang="en-US" sz="4000" spc="-1" strike="noStrike">
              <a:solidFill>
                <a:srgbClr val="000000"/>
              </a:solidFill>
              <a:latin typeface="Calibri"/>
            </a:endParaRPr>
          </a:p>
        </p:txBody>
      </p:sp>
      <p:sp>
        <p:nvSpPr>
          <p:cNvPr id="160"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26506-4567-498E-A814-3A7546169E1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61" name="Content Placeholder 4" descr=""/>
          <p:cNvPicPr/>
          <p:nvPr/>
        </p:nvPicPr>
        <p:blipFill>
          <a:blip r:embed="rId1"/>
          <a:stretch/>
        </p:blipFill>
        <p:spPr>
          <a:xfrm>
            <a:off x="406440" y="1625760"/>
            <a:ext cx="8254800" cy="452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Challenge #1:  Data Submission</a:t>
            </a:r>
            <a:br>
              <a:rPr sz="4000"/>
            </a:br>
            <a:r>
              <a:rPr b="0" lang="en-US" sz="4000" spc="-1" strike="noStrike">
                <a:solidFill>
                  <a:srgbClr val="ffffff"/>
                </a:solidFill>
                <a:latin typeface="Calibri"/>
              </a:rPr>
              <a:t>VA TCT Submission, Cohort 3</a:t>
            </a:r>
            <a:br>
              <a:rPr sz="4000"/>
            </a:br>
            <a:endParaRPr b="0" lang="en-US" sz="4000" spc="-1" strike="noStrike">
              <a:solidFill>
                <a:srgbClr val="000000"/>
              </a:solidFill>
              <a:latin typeface="Calibri"/>
            </a:endParaRPr>
          </a:p>
        </p:txBody>
      </p:sp>
      <p:sp>
        <p:nvSpPr>
          <p:cNvPr id="163"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0058-F3F6-4F9F-9288-3773143349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64" name="Content Placeholder 4" descr="Team Checkup Tool submission proved to be challenging among all of Cohort 3, falling slightly from June 2010 to December 2011.  While the slight, prolonged decrease is similar to trends across all of Cohort 3, Virginia's Cohort 3 Team Checkup Tool submission rates were consistently higher than those of Cohort 3 overall."/>
          <p:cNvPicPr/>
          <p:nvPr/>
        </p:nvPicPr>
        <p:blipFill>
          <a:blip r:embed="rId1"/>
          <a:stretch/>
        </p:blipFill>
        <p:spPr>
          <a:xfrm>
            <a:off x="406440" y="1778040"/>
            <a:ext cx="8254800" cy="436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Challenge #1: Data Submission</a:t>
            </a:r>
            <a:br>
              <a:rPr sz="4000"/>
            </a:br>
            <a:r>
              <a:rPr b="0" lang="en-US" sz="4000" spc="-1" strike="noStrike">
                <a:solidFill>
                  <a:srgbClr val="ffffff"/>
                </a:solidFill>
                <a:latin typeface="Calibri"/>
              </a:rPr>
              <a:t>VA TCT Submission, Cohort 6</a:t>
            </a:r>
            <a:br>
              <a:rPr sz="4000"/>
            </a:br>
            <a:endParaRPr b="0" lang="en-US" sz="4000" spc="-1" strike="noStrike">
              <a:solidFill>
                <a:srgbClr val="000000"/>
              </a:solidFill>
              <a:latin typeface="Calibri"/>
            </a:endParaRPr>
          </a:p>
        </p:txBody>
      </p:sp>
      <p:sp>
        <p:nvSpPr>
          <p:cNvPr id="166"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07DB-1E95-4800-909C-54A5EE49B64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67" name="Content Placeholder 4" descr="From March to December 2011, rates of Team Checkup Tool data submission among Virginia's Cohort 6 teams increased steadily from 46 percent to 64 percent.  Among the rest of Cohort 6, Team Checkup Tool data submission was at 20 percent in March 2011, increased slightly until August, and decreased slightly to end up at 22 percent in December."/>
          <p:cNvPicPr/>
          <p:nvPr/>
        </p:nvPicPr>
        <p:blipFill>
          <a:blip r:embed="rId1"/>
          <a:stretch/>
        </p:blipFill>
        <p:spPr>
          <a:xfrm>
            <a:off x="406440" y="1625760"/>
            <a:ext cx="8254800" cy="45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21:09:36Z</dcterms:created>
  <dc:creator>Katy O'Shea</dc:creator>
  <dc:description/>
  <dc:language>en-US</dc:language>
  <cp:lastModifiedBy>Karen Fleming-Michael</cp:lastModifiedBy>
  <dcterms:modified xsi:type="dcterms:W3CDTF">2013-02-06T16:08:31Z</dcterms:modified>
  <cp:revision>92</cp:revision>
  <dc:subject/>
  <dc:title>Slide 1</dc:title>
</cp:coreProperties>
</file>