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0" y="565200"/>
            <a:ext cx="9144000" cy="1130400"/>
          </a:xfrm>
          <a:prstGeom prst="rect">
            <a:avLst/>
          </a:prstGeom>
          <a:solidFill>
            <a:srgbClr val="eff1f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Picture 7" descr=""/>
          <p:cNvPicPr/>
          <p:nvPr/>
        </p:nvPicPr>
        <p:blipFill>
          <a:blip r:embed="rId2"/>
          <a:stretch/>
        </p:blipFill>
        <p:spPr>
          <a:xfrm>
            <a:off x="7059600" y="228600"/>
            <a:ext cx="1474920" cy="18032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/>
          <p:cNvPicPr/>
          <p:nvPr/>
        </p:nvPicPr>
        <p:blipFill>
          <a:blip r:embed="rId3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ff1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6b1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6b1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eff1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6b1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ff1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6b1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457200" y="6126120"/>
            <a:ext cx="8229600" cy="552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ol 7: Portfolio Presentation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265400"/>
            <a:ext cx="79246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rief Descripti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 slide deck that summarizes the findings of the quantitative and qualitative data review, hospital and community inventory, aim, target population, and data-informed strategy to reduce readmiss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es readmission reduction leaders and managers a customizable PowerPoint presentation to communicate your hospital’s approach to reducing readmissions. This presentation can be used for the board, executive leadership, department managers, frontline staff, and external (cross-continuum) partn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aff to Complete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dmission reduction champion and/or day-to-day lead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ime Require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hou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itional Resources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e Section 3 of th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ospital Guide to Reducing Readmission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nd Tools 1-6, which include the Data Analysis, Readmission Review, Hospital Inventory, Community Inventory, Portfolio Design, and Operational Dashboard too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r Driver Diagram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pic>
        <p:nvPicPr>
          <p:cNvPr id="535" name="Picture 2" descr="This slide shows a template for designing your own hospital's driver diagram. On the left is a box with a space to fill in a readmission reduction aim statement in the format of &quot;Reduce readmissions for X population, by X%, by X date.&quot; The accompanying instructions read, &quot;Enter your overall readmission reduction aim statement here. Specify: what, for whom, by how much, when.&quot; The aim is linked to three boxes, which read, &quot;Driver 1,&quot; &quot;Driver 2,&quot; and &quot;Driver 3.&quot; The accompanying instructions for this set of boxes read, &quot;List 3-4 main drivers of readmissions.&quot; Finally, these three primary drivers are linked to boxes displaying the secondary drivers. The accompanying instructions for this set of boxes read,&quot; List your current and/or planned specific strategies to impact each readmissions driver.&quot;"/>
          <p:cNvPicPr/>
          <p:nvPr/>
        </p:nvPicPr>
        <p:blipFill>
          <a:blip r:embed="rId1"/>
          <a:stretch/>
        </p:blipFill>
        <p:spPr>
          <a:xfrm>
            <a:off x="385920" y="874800"/>
            <a:ext cx="837072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admission Reduction Team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ve spon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mp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y-to-day l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al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l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analy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2-4 community 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thly implementation stat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 of patients who received intended service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specify services, such as completed discharge checklists, or appointments scheduled, or followup phone calls completed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m to achieve &gt;80% reliable delivery of intende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thly readmission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spitalw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target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Aim to see a measurable trend of improvement within 9 months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Aim to achieve goal by month 24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Dashboard: Volume and Implementation</a:t>
            </a:r>
            <a:endParaRPr b="0" lang="en-US" sz="2800" spc="-1" strike="noStrike">
              <a:solidFill>
                <a:srgbClr val="6b1d74"/>
              </a:solidFill>
              <a:latin typeface="Calibri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457200" y="990720"/>
          <a:ext cx="7924680" cy="2147760"/>
        </p:xfrm>
        <a:graphic>
          <a:graphicData uri="http://schemas.openxmlformats.org/drawingml/2006/table">
            <a:tbl>
              <a:tblPr/>
              <a:tblGrid>
                <a:gridCol w="6458040"/>
                <a:gridCol w="1466640"/>
              </a:tblGrid>
              <a:tr h="3625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olume, past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r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(adult non-OB) dis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#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ischarges in target populatio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#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5748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ischarges in target populatio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#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of discharges in target pop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#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5640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all discharges that are target population dis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57200" y="3438360"/>
          <a:ext cx="7924680" cy="2505240"/>
        </p:xfrm>
        <a:graphic>
          <a:graphicData uri="http://schemas.openxmlformats.org/drawingml/2006/table">
            <a:tbl>
              <a:tblPr/>
              <a:tblGrid>
                <a:gridCol w="6458040"/>
                <a:gridCol w="1466640"/>
              </a:tblGrid>
              <a:tr h="36216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ementation of 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r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ischarges in[ target population 1] that received [strategy 1]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#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discharges in [target population 1] that received [strategy 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ischarges in[ target population 2] that received [strategy 2]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#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5748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discharges in [target population 2] that received [strategy 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target population discharges that received intended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#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57120"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arget population discharges that received intended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88200" rIns="88200" tIns="43920" bIns="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200" marR="88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ional Dashboard: Outcomes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pic>
        <p:nvPicPr>
          <p:cNvPr id="544" name="Content Placeholder 3" descr="This run chart shows the readmission rate (%) over time (monthly) of a hospital for four different groups: all discharges, total target population, target population #1 and target population #2. 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xt Steps and Timeline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consider organizing the next steps by “driver” rather than department to promote interdisciplinary collaboration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1d74"/>
                </a:solidFill>
                <a:latin typeface="Calibri"/>
              </a:rPr>
              <a:t>[Hospital] Readmission Reduction Strategy</a:t>
            </a:r>
            <a:endParaRPr b="0" lang="en-US" sz="44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3700440"/>
            <a:ext cx="640080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99aa"/>
                </a:solidFill>
                <a:latin typeface="Calibri"/>
              </a:rPr>
              <a:t>[Date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admissions: Current State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Hospital’s] current readmission r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re FFS: [from data analysi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id (managed or FFS): [from data analysi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pitalwide (adult non-OB):  [from data analysi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insert 1-2-3 year monthly readmission rates with a trendline indicating whether readmission rates are improving]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insert how current rates compare to state or national averages]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insert how current rates compare to top 10% performers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Update Our Readmission Reduction Strategy?</a:t>
            </a:r>
            <a:endParaRPr b="0" lang="en-US" sz="28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[insert rationale for quality, patient experience here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 to delivering the right care, right location; many readmissions reflect a failure to deliver on that commit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ing “whole-person” needs following a hospitalization is a commitment to delivering safe, effective, and person-centered 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[insert rationale for current financial incentives here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 Medicare readmission penalty amounts since FY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 Medicare value-based purchasing gains/losses this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 [any] Medicaid penalties or gains/losses for risk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[insert rationale for future financial incentives here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 plans for transitions to risk- or value-based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[insert other vision/mission/stewardship commitment here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[Hospital] Readmission Data Analysis</a:t>
            </a:r>
            <a:endParaRPr b="0" lang="en-US" sz="3600" spc="-1" strike="noStrike">
              <a:solidFill>
                <a:srgbClr val="6b1d74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7200" y="1219320"/>
          <a:ext cx="8229600" cy="4740120"/>
        </p:xfrm>
        <a:graphic>
          <a:graphicData uri="http://schemas.openxmlformats.org/drawingml/2006/table">
            <a:tbl>
              <a:tblPr/>
              <a:tblGrid>
                <a:gridCol w="4724280"/>
                <a:gridCol w="1219320"/>
                <a:gridCol w="1143000"/>
                <a:gridCol w="11430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 P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ca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c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is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admi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miss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 3 diagnoses resulting in most readmi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all discharges with a behavioral health diagn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all readmissions occurring &lt;4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1d7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mission rate for discharges to postacute care (skilled nursing facility or home heal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atients with 4+ admissions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mission rate for those with 4+ admissions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cd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[your choice]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ghts From Readmitted Patient Interviews</a:t>
            </a:r>
            <a:endParaRPr b="0" lang="en-US" sz="32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use direct quotes when possible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provide 2-3 sentence vignettes of readmitted patients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summarize themes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highlight unexpected findings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void medicalized interpretations such as “noncompliant”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xists: Hospital and Community Inventory</a:t>
            </a:r>
            <a:endParaRPr b="0" lang="en-US" sz="32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066320"/>
            <a:ext cx="3657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spital-Based Eff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readmission flag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readmission risk assessment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automated primary care notification]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medication reconciliation effort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whole-person needs assessment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interdisciplinary care planning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goals of care discussion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palliative care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customized patient information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teach-back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schedule appointments and servic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bedside delivery of medication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warm handoff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followup phone call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transitional care program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297320" y="1066320"/>
            <a:ext cx="4114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unity-Based Eff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adult day health program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PACE, SCO, other total care providers]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comprehensive behavioral health center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community mobile crisis team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behavioral health homes]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Medicaid health hom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community health worker program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peer support program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social support servic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medical-legal advocacy servic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housing with services agenci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physician/provider home visit services]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use of INTERACT processes and tools]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SNFs with onsite clinical provider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front-loaded home care episod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home care agencies with behavioral health expertise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mission Reduction Goal and Target Population(s)</a:t>
            </a:r>
            <a:endParaRPr b="0" lang="en-US" sz="28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specify the hospital’s specific readmission reduction goal]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will be achieved [e.g., reduce readmissions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whom – specific target population [e.g., for all adult inpatients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how much [e.g., by 20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when [e.g., over the next 2 years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specify the target population or populations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e.g., Hospitalwide readmissions, all adult non-OB inpatients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e.g., patients at high risk of readmission: adult non-OB Medicaid, any behavioral health comorbidity, or any unmet social need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e.g., patients with a personal history of 4+ hospitalizations/year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e.g., all patients discharged to postacute care]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mission Reduction Goal and Target Population(s)</a:t>
            </a:r>
            <a:endParaRPr b="0" lang="en-US" sz="2800" spc="-1" strike="noStrike">
              <a:solidFill>
                <a:srgbClr val="6b1d74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: [state goal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rate: [x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number of readmissions: [y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goal reduction] in readmissions: [z fewer readmissions per year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 population: [specify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discharges per year in target population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readmissions per year in target population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discharges per month in target population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readmissions per month in target population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readmissions avoided per month in target population(s) if [goal reduction] i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5T21:25:49Z</dcterms:created>
  <dc:creator>Agency for Healthcare Research and Quality</dc:creator>
  <dc:description/>
  <cp:keywords>ASPIRE Readmissions Portfolio</cp:keywords>
  <dc:language>en-US</dc:language>
  <cp:lastModifiedBy>Angel</cp:lastModifiedBy>
  <dcterms:modified xsi:type="dcterms:W3CDTF">2016-09-02T02:28:21Z</dcterms:modified>
  <cp:revision>35</cp:revision>
  <dc:subject/>
  <dc:title>Tool 7: Portfolio Presentation</dc:title>
</cp:coreProperties>
</file>