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16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2E5E-DAF6-43CC-AB5C-744E747AD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8E4E-0611-4AE3-8DED-BA066871AA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/16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6C1C-FCD8-4F3A-B933-2C4382E904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/16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EBCF-80C5-4B5C-9424-206C79E6C0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/16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6221-2D1E-4AF7-B299-F410E78AD1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/16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7440" y="151920"/>
            <a:ext cx="69091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a51c"/>
                </a:solidFill>
                <a:latin typeface="Times New Roman"/>
              </a:rPr>
              <a:t>IDENTIFYING KEY AREAS FOR DELIVERY SYSTEM RESEARCH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400" spc="-1" strike="noStrike">
                <a:solidFill>
                  <a:srgbClr val="e1a51c"/>
                </a:solidFill>
                <a:latin typeface="Times New Roman"/>
              </a:rPr>
              <a:t>The Challenge and Promise of Delivery System Research: A Meeting of AHRQ Grantees, Experts and Stakeholders</a:t>
            </a:r>
            <a:br>
              <a:rPr sz="2800"/>
            </a:br>
            <a:endParaRPr b="0" lang="en-US" sz="2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17440" y="3200400"/>
            <a:ext cx="690912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wrence Casalino M.D., Ph.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ill Cornell Medical Colle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rling, 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bruary 16, 20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344600" y="61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Qualifications/limitations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my opinions - no compelling evi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what arbitrary choices - even with agreement on criteria, many choices are pos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the “long list” and the rest of the “short lis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the reasons given for selecting these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ter to be provocative and wrong than to be too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 areas likely to change over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52308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Key research area #1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es of the demographics of the delivery system—i.e., of each component of the conceptual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of relationships among the components of the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60012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ing the demographics is an essential first step, which would make it possible to study in a generalizable way the inter-relationships outlined in the conceptual model between structure, incentives, processes, and outco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ge gaps in 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little funding available for th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99400" y="6095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b71e"/>
                </a:solidFill>
                <a:latin typeface="Times New Roman"/>
              </a:rPr>
              <a:t>Examples of research questions</a:t>
            </a:r>
            <a:endParaRPr b="0" lang="en-US" sz="40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type of medical group performs bett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, medium, larg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specialty or multispecialt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pital or MD-own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percentage of physicians employed by hospitals increasing?  If s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this a good th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613080" y="6095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Key research area #2 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es of ways to structure incentives so that they lead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rable changes in the demography of organizations in the delivery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al efforts by these organizations to improve the health of their populations of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61308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entives likely to be cri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pite funding, we are far from having definitive ans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1308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b71e"/>
                </a:solidFill>
                <a:latin typeface="Times New Roman"/>
              </a:rPr>
              <a:t>Examples of research questions</a:t>
            </a:r>
            <a:endParaRPr b="0" lang="en-US" sz="40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re the effects of different payment methods on quality, costs, and the demography of the delivery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an undesirable unintended consequences of external incentive programs be minimiz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13080" y="6095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Key research area #3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an performance measurement be improv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676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to improve what you can’t mea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often measure less, rather than more, important th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reliance on external incentives (e.g. P4P, public reporting, “shared savings”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easures had better be go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904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b71e"/>
                </a:solidFill>
                <a:latin typeface="Times New Roman"/>
              </a:rPr>
              <a:t>Examples of research questions</a:t>
            </a:r>
            <a:endParaRPr b="0" lang="en-US" sz="40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what level is it desirable and feasible to measure quality (e.g. individual MD, medical group, accountable care organization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much weight should be given to patient experience in evaluating qualit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can electronic medical records be used to measure performan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3676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This talk - a quick overview: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delivery system researc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eria for selecting key areas for delivery system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key areas and research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 grant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685800" y="61722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Critical research area #4: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ses of interprovider/interorganizational processes for improving c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689040" y="594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be a major source of poor quality/poor patient experience/high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tle is known about this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3676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b71e"/>
                </a:solidFill>
                <a:latin typeface="Times New Roman"/>
              </a:rPr>
              <a:t>Examples of research questions</a:t>
            </a:r>
            <a:endParaRPr b="0" lang="en-US" sz="40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small practices effectively share resources (e.g. nurse care managers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valuable is phone communication among physicians about patients (even when patient is not referred)?  If valuable, how can it be encourag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3676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AHRQ ARRA CER Grantees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time to do this any sort of jus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6 evaluation grants and 4/4 demonstration grants can be categorized as falling into the key areas suggested 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53676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b71e"/>
                </a:solidFill>
                <a:latin typeface="Times New Roman"/>
              </a:rPr>
              <a:t>Why study the delivery system?</a:t>
            </a:r>
            <a:endParaRPr b="0" lang="en-US" sz="40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ients, legislators, the media, physicians mostly don’t see a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coveries of basic scientific and clinical research do not help patients unless they are effectively used in the delivery syst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75720" y="6095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1b71e"/>
                </a:solidFill>
                <a:latin typeface="Times New Roman"/>
              </a:rPr>
              <a:t>What is delivery system research?</a:t>
            </a:r>
            <a:endParaRPr b="0" lang="en-US" sz="36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es on organizations that provide health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/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-relationships among these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838080" y="624852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1b71e"/>
                </a:solidFill>
                <a:latin typeface="Times New Roman"/>
              </a:rPr>
              <a:t>Generic model of an organization and its incentives</a:t>
            </a:r>
            <a:endParaRPr b="0" lang="en-US" sz="3200" spc="-1" strike="noStrike">
              <a:solidFill>
                <a:srgbClr val="e1b71e"/>
              </a:solidFill>
              <a:latin typeface="Times New Roman"/>
            </a:endParaRPr>
          </a:p>
        </p:txBody>
      </p:sp>
      <p:pic>
        <p:nvPicPr>
          <p:cNvPr id="58" name="Picture 18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8915400" cy="28479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688320" y="6095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1b71e"/>
                </a:solidFill>
                <a:latin typeface="Times New Roman"/>
              </a:rPr>
              <a:t>Criteria for selecting key areas for delivery system research (1)</a:t>
            </a:r>
            <a:endParaRPr b="0" lang="en-US" sz="36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this research help patients—either directly or by helping providers to provide better care? (Clanc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this research have potential for a major impact on the population as a whole or on subgroups?  (IO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764640" y="6095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1b71e"/>
                </a:solidFill>
                <a:latin typeface="Times New Roman"/>
              </a:rPr>
              <a:t>Criteria for selecting key areas for delivery system research (2)</a:t>
            </a:r>
            <a:endParaRPr b="0" lang="en-US" sz="36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es on areas emphasized by the health reform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ies both intended and unintended 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75720" y="6095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1b71e"/>
                </a:solidFill>
                <a:latin typeface="Times New Roman"/>
              </a:rPr>
              <a:t>Criteria for selecting key areas for delivery system research (3)</a:t>
            </a:r>
            <a:endParaRPr b="0" lang="en-US" sz="36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ive: to get providers into high performing organizations and give these organizations incentives to continually improve care for their population of patients - therefor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y types of organizations that tend to be high perfor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y incentives likely to lead to creation of these organizations and to movement of providers into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y incentives for organizations to improve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675720" y="61722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1b71e"/>
                </a:solidFill>
                <a:latin typeface="Times New Roman"/>
              </a:rPr>
              <a:t>Major gap in research and funding:</a:t>
            </a:r>
            <a:endParaRPr b="0" lang="en-US" sz="36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us mainly on processes of care, particularly intraorganizational proce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important, but difficult to generalize, becau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cess effectiveness depends on the way it is implemented and on the context within which it is implemen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attempts to improve care involve multiple processes; how do we know which are importan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, organizations unlikely to adopt a process unless they have adequate incentives to do 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675720" y="6095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7:40:40Z</dcterms:created>
  <dc:creator>Lawrence Casalino</dc:creator>
  <dc:description/>
  <dc:language>en-US</dc:language>
  <cp:lastModifiedBy>emily.moser</cp:lastModifiedBy>
  <dcterms:modified xsi:type="dcterms:W3CDTF">2011-04-14T14:54:59Z</dcterms:modified>
  <cp:revision>160</cp:revision>
  <dc:subject/>
  <dc:title>Enhancing Performance Via Integrated Health Systems</dc:title>
</cp:coreProperties>
</file>