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/16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1b71e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1b71e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421F8-E88C-4957-8F3B-606A521874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50F12-F718-4029-95B9-B209141A69B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Date Placeholder 4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/16/201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0BB91-AF97-485B-AED5-979AB3D17B1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Date Placeholder 4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/16/201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342CB-06C0-40F6-9085-4DDD1C58842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Date Placeholder 4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/16/201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EC714-0E07-4787-ACD9-9C2DCD0A857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Date Placeholder 4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/16/201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1b71e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69091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117440" y="4130640"/>
            <a:ext cx="69091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1b71e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57680" y="19810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17440" y="413064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57680" y="413064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1b71e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53480" y="198108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789520" y="198108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117440" y="413064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453480" y="413064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789520" y="413064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1b71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117440" y="1981080"/>
            <a:ext cx="6909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1b71e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6909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1b71e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3371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57680" y="1981080"/>
            <a:ext cx="3371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1b71e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117440" y="609120"/>
            <a:ext cx="6909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1b71e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57680" y="1981080"/>
            <a:ext cx="3371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117440" y="413064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1b71e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3371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7680" y="19810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57680" y="413064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1b71e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7680" y="19810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117440" y="4130640"/>
            <a:ext cx="69091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1b71e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1b71e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17440" y="1981080"/>
            <a:ext cx="6909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017000" indent="-20340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424160" indent="-20340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830960" indent="-20340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830960" indent="-20340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830960" indent="-20340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17440" y="151920"/>
            <a:ext cx="6909120" cy="350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1a51c"/>
                </a:solidFill>
                <a:latin typeface="Times New Roman"/>
              </a:rPr>
              <a:t>IDENTIFYING KEY AREAS FOR DELIVERY SYSTEM RESEARCH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i="1" lang="en-US" sz="2400" spc="-1" strike="noStrike">
                <a:solidFill>
                  <a:srgbClr val="e1a51c"/>
                </a:solidFill>
                <a:latin typeface="Times New Roman"/>
              </a:rPr>
              <a:t>The Challenge and Promise of Delivery System Research: A Meeting of AHRQ Grantees, Experts and Stakeholders</a:t>
            </a:r>
            <a:br>
              <a:rPr sz="2800"/>
            </a:br>
            <a:endParaRPr b="0" lang="en-US" sz="2400" spc="-1" strike="noStrike">
              <a:solidFill>
                <a:srgbClr val="e1b71e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17440" y="3200400"/>
            <a:ext cx="6909120" cy="327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wrence Casalino M.D., Ph.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ill Cornell Medical Colle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erling, V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ebruary 16, 201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1344600" y="615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1b71e"/>
                </a:solidFill>
                <a:latin typeface="Times New Roman"/>
              </a:rPr>
              <a:t>Qualifications/limitations</a:t>
            </a:r>
            <a:endParaRPr b="0" lang="en-US" sz="4400" spc="-1" strike="noStrike">
              <a:solidFill>
                <a:srgbClr val="e1b71e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6909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ust my opinions - no compelling evide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mewhat arbitrary choices - even with agreement on criteria, many choices are possi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e the “long list” and the rest of the “short list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e the reasons given for selecting these are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tter to be provocative and wrong than to be too gener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ey areas likely to change over 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523080" y="60199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1b71e"/>
                </a:solidFill>
                <a:latin typeface="Times New Roman"/>
              </a:rPr>
              <a:t>Key research area #1</a:t>
            </a:r>
            <a:endParaRPr b="0" lang="en-US" sz="4400" spc="-1" strike="noStrike">
              <a:solidFill>
                <a:srgbClr val="e1b71e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6909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alyses of the demographics of the delivery system—i.e., of each component of the conceptual mod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d of relationships among the components of the mod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600120" y="60199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1b71e"/>
                </a:solidFill>
                <a:latin typeface="Times New Roman"/>
              </a:rPr>
              <a:t>Why?</a:t>
            </a:r>
            <a:endParaRPr b="0" lang="en-US" sz="4400" spc="-1" strike="noStrike">
              <a:solidFill>
                <a:srgbClr val="e1b71e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6909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nowing the demographics is an essential first step, which would make it possible to study in a generalizable way the inter-relationships outlined in the conceptual model between structure, incentives, processes, and outcom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uge gaps in knowled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ery little funding available for th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599400" y="60958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1b71e"/>
                </a:solidFill>
                <a:latin typeface="Times New Roman"/>
              </a:rPr>
              <a:t>Examples of research questions</a:t>
            </a:r>
            <a:endParaRPr b="0" lang="en-US" sz="4000" spc="-1" strike="noStrike">
              <a:solidFill>
                <a:srgbClr val="e1b71e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6909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ich type of medical group performs better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mall, medium, larg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ngle specialty or multispecialty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spital or MD-owned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 the percentage of physicians employed by hospitals increasing?  If so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y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s this a good thing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613080" y="60958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1b71e"/>
                </a:solidFill>
                <a:latin typeface="Times New Roman"/>
              </a:rPr>
              <a:t>Key research area #2 </a:t>
            </a:r>
            <a:endParaRPr b="0" lang="en-US" sz="4400" spc="-1" strike="noStrike">
              <a:solidFill>
                <a:srgbClr val="e1b71e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6909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alyses of ways to structure incentives so that they lead t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sirable changes in the demography of organizations in the delivery syst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inual efforts by these organizations to improve the health of their populations of pati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613080" y="60199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1b71e"/>
                </a:solidFill>
                <a:latin typeface="Times New Roman"/>
              </a:rPr>
              <a:t>Why?</a:t>
            </a:r>
            <a:endParaRPr b="0" lang="en-US" sz="4400" spc="-1" strike="noStrike">
              <a:solidFill>
                <a:srgbClr val="e1b71e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6909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centives likely to be critic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pite funding, we are far from having definitive answ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613080" y="60199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1b71e"/>
                </a:solidFill>
                <a:latin typeface="Times New Roman"/>
              </a:rPr>
              <a:t>Examples of research questions</a:t>
            </a:r>
            <a:endParaRPr b="0" lang="en-US" sz="4000" spc="-1" strike="noStrike">
              <a:solidFill>
                <a:srgbClr val="e1b71e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6909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are the effects of different payment methods on quality, costs, and the demography of the delivery syst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can undesirable unintended consequences of external incentive programs be minimize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613080" y="60958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1b71e"/>
                </a:solidFill>
                <a:latin typeface="Times New Roman"/>
              </a:rPr>
              <a:t>Key research area #3</a:t>
            </a:r>
            <a:endParaRPr b="0" lang="en-US" sz="4400" spc="-1" strike="noStrike">
              <a:solidFill>
                <a:srgbClr val="e1b71e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6909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can performance measurement be improve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536760" y="60199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1b71e"/>
                </a:solidFill>
                <a:latin typeface="Times New Roman"/>
              </a:rPr>
              <a:t>Why?</a:t>
            </a:r>
            <a:endParaRPr b="0" lang="en-US" sz="4400" spc="-1" strike="noStrike">
              <a:solidFill>
                <a:srgbClr val="e1b71e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6909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rd to improve what you can’t meas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often measure less, rather than more, important thin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creased reliance on external incentives (e.g. P4P, public reporting, “shared savings”)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measures had better be good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689040" y="60199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1b71e"/>
                </a:solidFill>
                <a:latin typeface="Times New Roman"/>
              </a:rPr>
              <a:t>Examples of research questions</a:t>
            </a:r>
            <a:endParaRPr b="0" lang="en-US" sz="4000" spc="-1" strike="noStrike">
              <a:solidFill>
                <a:srgbClr val="e1b71e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6909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t what level is it desirable and feasible to measure quality (e.g. individual MD, medical group, accountable care organization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much weight should be given to patient experience in evaluating quality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can electronic medical records be used to measure performanc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536760" y="60199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1b71e"/>
                </a:solidFill>
                <a:latin typeface="Times New Roman"/>
              </a:rPr>
              <a:t>This talk - a quick overview:</a:t>
            </a:r>
            <a:endParaRPr b="0" lang="en-US" sz="4400" spc="-1" strike="noStrike">
              <a:solidFill>
                <a:srgbClr val="e1b71e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6909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is delivery system research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ceptual mod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iteria for selecting key areas for delivery system resear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 key areas and research ques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RRA grante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TextBox 5"/>
          <p:cNvSpPr/>
          <p:nvPr/>
        </p:nvSpPr>
        <p:spPr>
          <a:xfrm>
            <a:off x="685800" y="617220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1b71e"/>
                </a:solidFill>
                <a:latin typeface="Times New Roman"/>
              </a:rPr>
              <a:t>Critical research area #4:</a:t>
            </a:r>
            <a:endParaRPr b="0" lang="en-US" sz="4400" spc="-1" strike="noStrike">
              <a:solidFill>
                <a:srgbClr val="e1b71e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6909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alyses of interprovider/interorganizational processes for improving ca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689040" y="594360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1b71e"/>
                </a:solidFill>
                <a:latin typeface="Times New Roman"/>
              </a:rPr>
              <a:t>Why?</a:t>
            </a:r>
            <a:endParaRPr b="0" lang="en-US" sz="4400" spc="-1" strike="noStrike">
              <a:solidFill>
                <a:srgbClr val="e1b71e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6909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y be a major source of poor quality/poor patient experience/high cos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ttle is known about this are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536760" y="60199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1b71e"/>
                </a:solidFill>
                <a:latin typeface="Times New Roman"/>
              </a:rPr>
              <a:t>Examples of research questions</a:t>
            </a:r>
            <a:endParaRPr b="0" lang="en-US" sz="4000" spc="-1" strike="noStrike">
              <a:solidFill>
                <a:srgbClr val="e1b71e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6909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n small practices effectively share resources (e.g. nurse care managers)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valuable is phone communication among physicians about patients (even when patient is not referred)?  If valuable, how can it be encourage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536760" y="60199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1b71e"/>
                </a:solidFill>
                <a:latin typeface="Times New Roman"/>
              </a:rPr>
              <a:t>AHRQ ARRA CER Grantees</a:t>
            </a:r>
            <a:endParaRPr b="0" lang="en-US" sz="4400" spc="-1" strike="noStrike">
              <a:solidFill>
                <a:srgbClr val="e1b71e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6909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ck time to do this any sort of justi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/6 evaluation grants and 4/4 demonstration grants can be categorized as falling into the key areas suggested 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536760" y="60199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1b71e"/>
                </a:solidFill>
                <a:latin typeface="Times New Roman"/>
              </a:rPr>
              <a:t>Why study the delivery system?</a:t>
            </a:r>
            <a:endParaRPr b="0" lang="en-US" sz="4000" spc="-1" strike="noStrike">
              <a:solidFill>
                <a:srgbClr val="e1b71e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6909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tients, legislators, the media, physicians mostly don’t see a probl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ut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discoveries of basic scientific and clinical research do not help patients unless they are effectively used in the delivery syste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675720" y="609588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1b71e"/>
                </a:solidFill>
                <a:latin typeface="Times New Roman"/>
              </a:rPr>
              <a:t>What is delivery system research?</a:t>
            </a:r>
            <a:endParaRPr b="0" lang="en-US" sz="3600" spc="-1" strike="noStrike">
              <a:solidFill>
                <a:srgbClr val="e1b71e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6909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cuses on organizations that provide health ca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d/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r-relationships among these organiz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TextBox 3"/>
          <p:cNvSpPr/>
          <p:nvPr/>
        </p:nvSpPr>
        <p:spPr>
          <a:xfrm>
            <a:off x="838080" y="6248520"/>
            <a:ext cx="18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1b71e"/>
                </a:solidFill>
                <a:latin typeface="Times New Roman"/>
              </a:rPr>
              <a:t>Generic model of an organization and its incentives</a:t>
            </a:r>
            <a:endParaRPr b="0" lang="en-US" sz="3200" spc="-1" strike="noStrike">
              <a:solidFill>
                <a:srgbClr val="e1b71e"/>
              </a:solidFill>
              <a:latin typeface="Times New Roman"/>
            </a:endParaRPr>
          </a:p>
        </p:txBody>
      </p:sp>
      <p:pic>
        <p:nvPicPr>
          <p:cNvPr id="58" name="Picture 18" descr=""/>
          <p:cNvPicPr/>
          <p:nvPr/>
        </p:nvPicPr>
        <p:blipFill>
          <a:blip r:embed="rId1"/>
          <a:stretch/>
        </p:blipFill>
        <p:spPr>
          <a:xfrm>
            <a:off x="76320" y="2057400"/>
            <a:ext cx="8915400" cy="284796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3"/>
          <p:cNvSpPr/>
          <p:nvPr/>
        </p:nvSpPr>
        <p:spPr>
          <a:xfrm>
            <a:off x="688320" y="609588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1b71e"/>
                </a:solidFill>
                <a:latin typeface="Times New Roman"/>
              </a:rPr>
              <a:t>Criteria for selecting key areas for delivery system research (1)</a:t>
            </a:r>
            <a:endParaRPr b="0" lang="en-US" sz="3600" spc="-1" strike="noStrike">
              <a:solidFill>
                <a:srgbClr val="e1b71e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6909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ll this research help patients—either directly or by helping providers to provide better care? (Clancy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es this research have potential for a major impact on the population as a whole or on subgroups?  (IOM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764640" y="609588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1b71e"/>
                </a:solidFill>
                <a:latin typeface="Times New Roman"/>
              </a:rPr>
              <a:t>Criteria for selecting key areas for delivery system research (2)</a:t>
            </a:r>
            <a:endParaRPr b="0" lang="en-US" sz="3600" spc="-1" strike="noStrike">
              <a:solidFill>
                <a:srgbClr val="e1b71e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6909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cuses on areas emphasized by the health reform la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udies both intended and unintended 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675720" y="609588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1b71e"/>
                </a:solidFill>
                <a:latin typeface="Times New Roman"/>
              </a:rPr>
              <a:t>Criteria for selecting key areas for delivery system research (3)</a:t>
            </a:r>
            <a:endParaRPr b="0" lang="en-US" sz="3600" spc="-1" strike="noStrike">
              <a:solidFill>
                <a:srgbClr val="e1b71e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6909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bjective: to get providers into high performing organizations and give these organizations incentives to continually improve care for their population of patients - therefore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dentify types of organizations that tend to be high perform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dentify incentives likely to lead to creation of these organizations and to movement of providers into th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dentify incentives for organizations to improve ca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TextBox 3"/>
          <p:cNvSpPr/>
          <p:nvPr/>
        </p:nvSpPr>
        <p:spPr>
          <a:xfrm>
            <a:off x="675720" y="617220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1b71e"/>
                </a:solidFill>
                <a:latin typeface="Times New Roman"/>
              </a:rPr>
              <a:t>Major gap in research and funding:</a:t>
            </a:r>
            <a:endParaRPr b="0" lang="en-US" sz="3600" spc="-1" strike="noStrike">
              <a:solidFill>
                <a:srgbClr val="e1b71e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6909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cus mainly on processes of care, particularly intraorganizational proces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s is important, but difficult to generalize, becaus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ocess effectiveness depends on the way it is implemented and on the context within which it is implement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ost attempts to improve care involve multiple processes; how do we know which are important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so, organizations unlikely to adopt a process unless they have adequate incentives to do s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675720" y="609588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8T17:40:40Z</dcterms:created>
  <dc:creator>Lawrence Casalino</dc:creator>
  <dc:description/>
  <dc:language>en-US</dc:language>
  <cp:lastModifiedBy>emily.moser</cp:lastModifiedBy>
  <dcterms:modified xsi:type="dcterms:W3CDTF">2011-04-14T14:54:59Z</dcterms:modified>
  <cp:revision>160</cp:revision>
  <dc:subject/>
  <dc:title>Enhancing Performance Via Integrated Health Systems</dc:title>
</cp:coreProperties>
</file>