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dt" idx="4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ftr" idx="4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 type="sldNum" idx="4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E5E7-F562-4DF5-ADCB-A2CBAB25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043-AB12-46A7-8F1D-DAB3E1AA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E47-1B2E-44F0-A458-2FA0BB05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D0C7-FD2F-42B2-9088-2330B0D27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67D-AFC9-4DA9-9010-C7A7E9E2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FE7-7A01-4857-84A7-2658342E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9A7-351C-4E82-8129-6C11B69F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scale-up programs select their aims? What are typical (aggressive) patterns of spread, in terms of rate and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hange efforts introduce narrative methods in order to increase emotional engagement of prospective particip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C611-8E56-4E35-9A64-C42C581F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1BC-0856-4B58-B715-A2505495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225-14B4-476A-8289-4AB34342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00B-A182-49DD-9E92-2F15C507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9568-9BFB-43FA-90C2-90129EAF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0231-5C63-4C47-8CC1-8808FBAA0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EE7-F372-4C16-8415-F1EB812F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524-077B-4E0E-84C1-72C7491E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EFB4-9B9E-4DA7-AC46-998457C0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8989-B511-4269-8628-4B891305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840A-7C22-4CEF-932D-4416B2E1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88A-F576-41C4-BECC-3DF16E97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D3EE-DE60-409A-98A0-0BBC76F5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6A1C-E795-4E93-9459-F905AB998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9DE-3A43-4EA6-9DD2-E0AF27CB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215-2C0B-4DDD-9E36-6388709E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078-6591-4D89-9777-A5F06333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7E3C-AA5A-4ED6-BB28-9584EFA07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7E28-EE6F-4AFF-A36D-6E839BE943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57A89-30C4-4501-990C-3F53289370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5D9B2-57B0-4B17-889F-F252205DD2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1767B-F300-440B-B722-4D180083DA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3EBCC-B885-46E4-AAEA-2BB14B628A9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AF9E3-90EF-41BB-982C-E710EDC895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2CB31-E5D3-4E03-AB5D-ED086E744E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5672E-982B-4924-9869-984D61B006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6DD75-93F9-46C2-AC7C-1069B285D2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BBA1FE-2744-4B2C-985B-AA6EABEED2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9F55-54DF-4A71-A933-FE744D6D2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F9A5-FAF5-4284-A148-87FC468262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60CA-BD04-41F0-88FD-8350480890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04DB5-0E71-459E-B634-404DAF0C8B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41B3-61F3-4CF9-A817-2A53FD3963C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541D-AF4C-4C6C-B5C0-5634DC5D13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9AFE1-DD6F-439F-B6D2-047A29130FE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AF8A-58A0-4C64-8277-61FCEC5F4D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81EE-9EA8-4DBD-B127-982CE681255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E640-1E05-4520-B93C-64E62BD6FB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8DC3-B43A-441C-8CCD-30D182686B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2155-1C1A-409D-899F-D86532D93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299C-FB58-47A3-97BB-B7CD3B0CFF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9153-73FC-41B3-A3A7-B1044F29D5F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22FA1-8E07-4B20-AD1E-885229BCC1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BC640-AEAE-4A00-B5C0-8E3FB91D6C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F3433-596D-423D-AA24-B263BA849F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87F02-2ABD-4C03-BF67-A5E6A8146D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E474A-7301-422E-9EA7-B915C21476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CDCCB-2EEF-4053-8793-9EC7E9BFAE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45E76-2C37-4F02-8174-E251A1C27A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8C93C-CC16-4418-8FBE-3BF8F489D4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D5F02-A095-45DA-A28C-55602375D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BB6DC-E27E-4A0F-BD87-676EE04A42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6ACF7-AA06-4511-B01C-41092F9191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D0C92-42F2-4262-BD57-472920B1A0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6D8CB-E3DA-4C58-9F15-428FC10729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3873F-6FA9-4966-A5DD-99C98B38446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F557F0-79AB-4BA5-B61E-791E1343D2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DEBDAE-3D03-496D-9117-DA688FEA73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ABAD15-2BE6-46E6-9245-EF4A4072B3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2CE88-07F3-467E-95AA-8FAB1E49CF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AFE5C-9A31-4D29-93E9-368DE8AA21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59AF5-B115-46BF-8B75-2B279E9009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3B9ED-B3C6-479E-9C7F-FACC3808AB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EF71C-3F53-4CCA-AAC5-9207C7A5EA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12AAD-4FBB-45C6-A283-C01E4B519F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DA774B-8D3A-42D3-96B2-3275A7C370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EB0FD-D134-4039-BC7B-F48FCFC06C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592B7E-EADB-4CF0-A7F9-15DB61877D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A3D6-A5AF-431C-83EE-75EA7D7D3A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2B101-D1FA-4E33-93F8-AEAA8F2C04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E2AE6-ABB0-4056-A121-955E80C55B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669F4-4BF4-44AF-8566-D89E34AE73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3B81-C7F8-497C-BC5A-85902CB45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377A4-540B-4AB0-AB46-0487B5F759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5B71-68DA-4A11-AE5D-C6E5F3D654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A779-8DF4-45EC-9F66-3B92AC5B51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88EAE-AF5B-44F6-80B1-E6101B9326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F4051-26F9-45B1-B61A-4902ABEB46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FE76D-EAB9-4AC9-8D05-EC555476176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DCD00-1A64-492B-8E21-B3A0ADEBD4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73723-3F72-421F-AD65-3B46AE976D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C094D-434B-4813-A909-D1E7C630CC0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1D842-CA16-4A96-A939-501252D96F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23703-59E8-4B71-84CB-6EBD527BF75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5F732-5683-4909-B0AB-E39AB380ADB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0988F-6390-4A79-A468-4F1D3CD335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5267B-B996-4609-9050-9C700D27A8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F637E-BE37-4D70-93D8-DDB5C1A697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7216C-45BA-4403-9241-BDBC25C6CE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724C2-E62C-434F-BDEC-B89F9A3A698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97C31-5566-450B-BD9F-951722B8874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9B1A3-C5C2-47E8-B2FB-F03A93D6669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0E1CD-7413-45A8-ABB7-6A0D07F434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F554D-E8DA-44AC-B9EE-CCACA7CADB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D5A88-4E22-463B-AF3C-5482ED52012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3FF4F-DD28-4625-B575-F1E0301E80D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D5DC0-B225-4DD0-99BB-813A54CB60A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2824A-5879-4D0C-81B2-1EF7CC7E33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70A8C-1E3F-4160-887A-12B1F6668C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AD4A1-7DDA-4D93-8CBC-F15C22555AD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C7E1E-2DCC-4D9D-AD74-6B835B1A7E5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58B51-C9B6-4235-9350-1C9F229C463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F53BF-EAF1-413D-AC2D-76CEFB3D631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FBAAD-A72C-4499-990A-F7AE56C0B2A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6A156-2F12-4F5C-8B1A-0A7CCC2D2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F411D-BD49-487E-8821-C2EEDC51258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9C0B0-BC0D-470F-A666-38377AE2BF2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A3FA4-E838-4A96-BBA8-D7EFCAEA4F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5D908-A89F-481B-960B-0FF1B00FA0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09345-9B4E-41C3-B4AC-5E07C300328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177F-69AB-4D9D-8006-C21BD9E4FE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D35A0-4C7B-470B-8A61-C38AE8650A8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5AB6-A1D2-4589-A09D-ADA177662D8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52E0D-4C4A-4893-BAE3-65F66E7EB2F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E0261-8A29-4CEC-8352-5487299B650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7E859-C0A7-418D-A29F-658817D41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E66D-BA6A-4373-87CB-F1C2A4AD0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BD27D-3BAC-4612-A1B5-A2426662D41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D3E20-D33C-43FD-99DB-C082B25CF7A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FD2A7-C14D-4EC7-8A93-BD01DEBCC0A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186F3-518E-4EB3-A52C-119238B435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CD375-84D1-4F01-81E0-60FE8F6673A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EC38-D755-44BD-996F-F5E60157CE7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1EBE5-7252-4B3A-AFFC-69B8A9F2581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F05619-DE37-4180-A550-C2FB8B4364E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992447-A27B-44C0-B25B-19E5633F4D7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0B56B4-7F86-4A96-9538-76FCD433B00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9F88E0-2FAF-4A57-AAA8-053C341F3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57FB3-E1D7-420D-9EFD-422B071018E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D5E99D-6A44-4054-B599-AA11B14D1DE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F8204D-2B7D-456D-BB23-5D1FCA259EF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8B52D2-3C4D-4960-91E2-8EEE20F3B99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378BD7-0E4D-4820-A2D0-8C01EBA84E5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93889-C972-4F8C-8D0C-50BE6A1DC38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CEB52D-23C0-412F-82BD-13AFD89F526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15C3D8-2DDE-479E-84C9-5DB7E442016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5D3C3-B1A5-46C8-AFBB-F6C518C24CB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244D6-6FB2-46BB-8739-1C3B258547B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58D76-83E8-4385-9FE4-21B9D31979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2DC6-BBED-40A9-8156-49BD2470F3F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A4E6-71DE-42F3-BBF7-0BEA6DE3E4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94F69-35C0-4DD4-9CFB-50830FB8CEC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EBB6E-4F41-4DDA-86A4-977697E03D2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28895-C6F3-467C-A323-AFD02809EEA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70558-D302-403A-8AF1-98F95BAF22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4EFFC-E4D2-4E11-8039-74A6C550039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7DC08-61A3-4C06-B32C-025BA3E8B2D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1178C-CA28-4B00-8C63-E22D2BE2A16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4258A-B1CD-47D1-A6DC-2B7D3837725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AACBD-694A-48A3-BA44-1BDD49C07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1E2E3-2923-4D70-ADA3-156CA42281E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16F06-87F3-4775-92F2-6BF2096FBD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EBCC8-98BA-43EC-9E41-2623C7BD6C8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8142D-A753-4023-90FE-ADE357C06E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F0942-3082-4E17-9AD8-0D2C70C132A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5776F-BCB9-4CDC-9038-0A7FDE3EDDD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D311B-BB0C-48B2-871F-2E4A27E9589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82E99-515F-473B-BDEA-3E8CAC7B4F1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4A027-3CE4-4FBF-8A11-EFDE554E06C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81DC7-35E0-403B-ABC9-83BB51AEFC6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FF8D3-8F94-4C0F-AE48-94A7C5D110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9DDB4-E3D5-4018-9309-DAC5E831EE9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6B46-EE73-49AF-884F-224BC7729AD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98B04-64CE-48E3-B2ED-82640C750D0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588768-46A2-40DD-8D47-88136BAAAB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AC96E8-171D-45D3-9E0C-D945011518F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3DA9D-DC65-4C33-8E22-3FF84461808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9ADEB4-0BB4-490C-98FD-FD10A90CC31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6EFC9A-DBD7-4FB9-94AD-22C51D99C3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FE7771-E5C4-4F5B-A9CE-960593F28DC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A31106-B444-48B4-AE87-E1A85096DE5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586552-8AB3-4723-A1B2-2561E08616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7990B6-9EAF-4C16-9185-FFC2742A0CD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1AEB37-A872-45C1-B03D-B7771E0EEF6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FB95B5-7DC1-404D-BA71-1B4503A877D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F38354-999B-4E2F-B692-DD80967747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0422F2-A694-4ADF-BABE-2D2DB1FB9EF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22862D-C154-4E4A-A917-0316D0C8E7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38D72D-6D23-40FF-A7E5-6CDFFC7153B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96CC3F-C302-442B-B6E4-113265326F1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FD7BEC-0CDF-4F61-ACCB-8A9FED8AF54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C6EB0E-3C3C-455E-A95A-C7D2D18232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904F6C-9A65-4387-AE1A-2BEDEFA16FF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6AB858-5A01-4828-A890-20321A08C5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EB14B8-E0A5-45D8-A1D0-ED8AE1F0CA1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A4F1BF-1866-43FD-B633-A0969C04878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395AD8-5D79-40FC-8762-54FBF21940C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6BDD6-6946-4A8C-B11F-BF399340745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2532E-46B5-4631-8F77-040C8FD13B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C6DD4-F7FC-49A6-82B5-18C649059C1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99352-8012-4AE1-BF68-9AD76DC0380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29AA8-DBB3-4626-8A63-34C8C11121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9D80D-E3E8-4938-A063-64765C8B582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AC41F-F679-4694-B286-85BEBD58F3C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8964A-C1B2-4BB6-8798-C7F6C709BB4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731A3-2E19-4ECB-921C-D484E1783A3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0EADF-897D-4EDF-BE6E-8B538F7559C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841E5-37B1-4D72-8EC8-1FE1D4D0B88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4CFDE-E55A-4D6B-BEC7-52B058A5E7A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DCC2E9-645A-42A9-A012-3EC2E224ED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55AEC4-4DDA-49E4-BD04-61A9C0D3DF9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12BE6C-AB7D-4F15-B9C8-4DC2CEC5E3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F5A90A-0593-4EFD-A0A6-E2BCD64E0FE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BE0BEA-08C1-4372-8396-0EA0AEF1555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5D172F-5CC6-4385-AE16-232CC382EDC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319370-350A-4C15-ADF3-470C1C6409B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8F5FB0-6893-4067-929D-DF3F8857776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E5652-A42F-4038-ACE1-E2C19DB35CF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77874F-DD75-4C25-87E2-6C87ABC90E8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D8244F-39BD-4E91-BC31-9FD7A872199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2B5A5C-4FB3-4F4E-8058-75FDA72046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29D4-ACDB-42D1-BE2B-A693D7EF80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7300-51FA-4500-A29F-0067285C3D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5B05-3DA5-4DA2-9CFA-2E471544E5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C931-1E49-4388-884A-C6B0C4AF7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B282-4AED-485B-821E-9019E240BE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420-0582-4BC8-9BAE-7E8F10001A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1BFA-7E8A-4567-BE38-B7F9A0984C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282E-9FFA-4A21-8977-AAF58FF907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6631-4626-4713-BBBC-C1362802A1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3F67-6EA6-4405-ACBA-D72482BAED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4A82-55EE-441F-BF0A-313A955CFA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ABC2-A54E-4C5F-ACC0-A5CB0D38DF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488C-2BBF-48C4-B0B6-4B0BD1F9CE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88FF-9355-4A29-A3F4-404CF1F0DD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8463B-A417-466C-BB5E-878484B18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4E8A-EEAD-447D-917D-4AE6496273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3CC08-F514-4422-8DA4-E79C44ED54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59E54-2920-4DF2-A4AD-887B3B5F96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BD1FD-C110-4D26-8C1C-EF326CEF0E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FD39A-7484-408E-860C-CC46D79799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78EEA-2E8E-489D-A5F1-289388361D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FD014-CCF3-48DE-9D8A-1D7F1ABDAF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25BF2-18D7-4AF9-A649-42D412D2ED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89E93-19C1-4D4D-8EC1-52085A4F14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C7F06-0E47-430C-91EE-E063CBD083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785EB-6ED4-4493-8F8E-6BD3B8E8D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1BD7-29E2-43E3-A440-D35A9F2128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00856-1F58-425C-904C-7E5E46CAE9B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19E43-015E-44DB-BDD5-2874634B49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E4ABA-09B3-4A29-94A3-31D1F49AEB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256CA-4280-4615-B43D-8CE700EF85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95D3B-CE52-4261-8750-C92B6616A1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D0593-9600-4C28-99C3-A98B70FE73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1E65D-5C3A-4E9E-8EBB-629FD0EF01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CE801-B8B0-43C2-ABFB-C5ADCF6D03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2E46A-9233-4CA9-A62C-D2A252D789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744C3-1BAF-4BCC-A6DC-ABD02955B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32FA-F628-442B-A468-62E06852C4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8AC84-EDBF-4007-B3BE-E75968C1ED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88206-A7ED-461D-80D9-BF106048F4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B8A94-654D-4B56-81C2-8E1F5988E1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5953-ED9D-48D9-BC55-D6E2813038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E541-8511-4F49-8C9A-D6EEC272D3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5DF2-B728-4D58-AF2D-66FEB20D3A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1D01-9A49-45E6-9E0C-171B53FD4A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AAD5-4AFA-464F-889A-A11F22B3BE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A701-6013-495F-A619-C941D16481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D48B-8D01-40F7-B77E-0B51845A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7202-C2F2-4251-BDDA-E0BC88C1F8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065E-0C38-40FA-A370-791D2D01AD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916A-1467-4753-A7C3-B8974FF5D7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6EDF-E286-403C-AA8C-9BEB16BF2A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4FF5-66AC-4729-B5E6-7AA21357D9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BFCC-703C-46B1-86DE-BF2BEA7499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4B3F4-4868-4A47-AC29-5451669368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60974-B093-4BDA-A08B-8CDC31D89F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ABCCB-DB81-49E4-9A58-D17E70BB2D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71A2C-D373-4C56-83ED-CB1F9372EE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39FF9-CE5D-47CD-945E-1CA9CF564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1ED0-CC91-4936-92A4-FEF07DA8C7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29C51-9378-4B25-AA20-F96912AFBF1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49C36-BCA7-4782-BE9B-BEE4790C42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55163-F56C-4142-A1C9-9E2048ABCF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4EB0A-25E9-4ED7-BF73-D528A4A14E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FAE50-2C80-463A-A1DF-8602DDEDE9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B8151-B893-4527-9218-AA5820839F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EC3E6-8735-48A4-B341-2264857200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9EABA8-038F-450D-ACE7-727F5262E7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F43B65-F07F-45A0-900C-95A46FB043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A26FD-91F0-452F-A5CE-A1E1FCBF6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7" descr="IHI_LogoWhite"/>
          <p:cNvPicPr/>
          <p:nvPr/>
        </p:nvPicPr>
        <p:blipFill>
          <a:blip r:embed="rId2"/>
          <a:stretch/>
        </p:blipFill>
        <p:spPr>
          <a:xfrm>
            <a:off x="7238880" y="6019920"/>
            <a:ext cx="1700280" cy="657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301680" y="1249200"/>
            <a:ext cx="85374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FA3-0262-4A2F-BA8A-7F8703FCA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4AD0-D783-4069-9058-4DEC72B12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7032-F447-4B58-A50D-D7391EFA4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946C-96AE-48F5-B0A5-BDB85E991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2035-6922-4D67-BBE6-6C1240959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IHI_LogoColor"/>
          <p:cNvPicPr/>
          <p:nvPr/>
        </p:nvPicPr>
        <p:blipFill>
          <a:blip r:embed="rId2"/>
          <a:stretch/>
        </p:blipFill>
        <p:spPr>
          <a:xfrm>
            <a:off x="3048120" y="325440"/>
            <a:ext cx="3047760" cy="11984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2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31E-255B-478D-9B9D-75E727BAB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2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2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644-4C33-423B-AFFA-8EBBCB1E9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BFD-829A-4906-895B-6E041BB5D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F5A4-14D2-46B9-923D-AF245C32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EE78-9190-4C16-AB0F-7B87B279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HI_LogoColor"/>
          <p:cNvPicPr/>
          <p:nvPr/>
        </p:nvPicPr>
        <p:blipFill>
          <a:blip r:embed="rId2"/>
          <a:stretch/>
        </p:blipFill>
        <p:spPr>
          <a:xfrm>
            <a:off x="7238880" y="6019920"/>
            <a:ext cx="167652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228600" y="1249200"/>
            <a:ext cx="8720280" cy="46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226a55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C9EF-926A-44C4-BC41-95B2CF6B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3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3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CD8D-6650-42D7-AEA5-0ADB23F36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6A01-F17A-41F9-9CFB-48DE3D4C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3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DAF9-FEFC-4C60-967A-F1AFA32E8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E76-5A48-465F-897D-3A289369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4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4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6BCB-23FE-4F61-BAB6-FB6BB5AD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IHI_LogoWhite"/>
          <p:cNvPicPr/>
          <p:nvPr/>
        </p:nvPicPr>
        <p:blipFill>
          <a:blip r:embed="rId2"/>
          <a:stretch/>
        </p:blipFill>
        <p:spPr>
          <a:xfrm>
            <a:off x="3048120" y="328680"/>
            <a:ext cx="3043080" cy="1174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465A-4A28-4618-9F6E-06A91BD65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1AE-E6DA-4B63-A763-AAF0FDC36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7BA-03AF-4012-A23F-6693A0A94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932E-8952-43CB-AC00-997A66F73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02B1-CA85-4A8A-A17C-3765E3544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1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99F-C7D2-488B-B5F9-2A3FD7901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74124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pread Problem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Challenge and Promise of Delivery System Research: A Meeting of AHRQ Grantees, Experts, and Stakehold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Joe McCanno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enters for Medicare and Medicaid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ebruary 17, 2011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know how to do so (or at least we don’t approach the challenge systematically enough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9FA-DF5D-4BC1-953E-D5ACE069D4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2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2" descr="InfluentialFactorsImage"/>
          <p:cNvPicPr/>
          <p:nvPr/>
        </p:nvPicPr>
        <p:blipFill>
          <a:blip r:embed="rId2"/>
          <a:stretch/>
        </p:blipFill>
        <p:spPr>
          <a:xfrm>
            <a:off x="1600200" y="790560"/>
            <a:ext cx="6324480" cy="5915160"/>
          </a:xfrm>
          <a:prstGeom prst="rect">
            <a:avLst/>
          </a:prstGeom>
          <a:ln w="0">
            <a:noFill/>
          </a:ln>
        </p:spPr>
      </p:pic>
      <p:sp>
        <p:nvSpPr>
          <p:cNvPr id="102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711-8190-4E5B-8FDD-AFCF6F9440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Environment (Wil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and economic environ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dership eng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itization sche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c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5991-1EC2-4B8E-A468-70B0BDCBCA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s for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2189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y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at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ui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fess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f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sonal considerations (de-zombifica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082-A345-4CF8-AEE3-4653C8C06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ndation (Timin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ica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ectiveness on a smaller sc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aware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conf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BAB-A3CC-4EFB-BDA2-4F712CCDE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li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al im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rrative image (predicted sequence of change over tim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42F-3871-435B-9182-B2B68A5273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ure of the Inter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otional reson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al-ability/Observ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594B-BFAF-42F4-8027-46C1F9885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l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infra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patterns of behavior (centers of influenc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les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ancing paradig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F71C-185C-4F01-95F3-28CC4ABCC8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approach to scale up 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ver mix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ursive eval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nowledg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istics/resourc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3D4E-549E-49D7-94C8-804730065F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 for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l diffusio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kthrough Series Collaborative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nsion ag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ergency mobil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mpaign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mov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ve sequence (wedge and sprea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ad and dee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brid mode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437-4971-47FA-A351-7A3450622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nd to C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pread Probl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ossible Solution (Framework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r Ideas and Ad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2946-58AF-4983-97B7-1CE49EA4A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6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" descr="InfluentialFactorsImage"/>
          <p:cNvPicPr/>
          <p:nvPr/>
        </p:nvPicPr>
        <p:blipFill>
          <a:blip r:embed="rId2"/>
          <a:stretch/>
        </p:blipFill>
        <p:spPr>
          <a:xfrm>
            <a:off x="1523880" y="685800"/>
            <a:ext cx="6516720" cy="6095880"/>
          </a:xfrm>
          <a:prstGeom prst="rect">
            <a:avLst/>
          </a:prstGeom>
          <a:ln w="0">
            <a:noFill/>
          </a:ln>
        </p:spPr>
      </p:pic>
      <p:sp>
        <p:nvSpPr>
          <p:cNvPr id="106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BC1B-9820-4DB9-901B-9EAE1D4AB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408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 Best Practitioners Stimulate Change at Scale and Spread Effective Practic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end to address six key quest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you get people to care (and care enough to take action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re are you in the process of change (foundations/history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your “hard count” (explicit and implicit aims) and your story for achieving i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of your intervention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 of your social system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will you spread your better practice (method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9D40-C226-48DB-82B8-99B7F6A31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ble Lessons on Managing Change at Scale (What Do the Best Do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ttempt remarkable things (provocation and optimism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alk about justi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a shared st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pply “many levers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play jazz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keep it simple (e.g., interventions, measurement system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model trust (ecosystems not hierarchies; “distributed laboratories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seek affection and give recognition (recognition economy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break rules (avoid consensus, condense timefram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go broad and dee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revere logistics (“Amateurs discuss strategy…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69D7-4426-402D-BD0C-760DFE465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Conference to Advance the State of the Science and Practice on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cale-up and Spread of Effective Health Programs (July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ught to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ew existing knowled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y challenges and g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a research and practice agenda for immediate exec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311-D544-498D-A7E0-70E9FB7378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Hills to Tak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ild the fie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incentiv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new method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new forms of evalu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nd spread practical to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597C-2A5C-40CB-9C2C-55844CB33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Massoud MR, Nielsen GA, Nolan K, Schall MW, Sevin C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Arial"/>
              </a:rPr>
              <a:t>. A Framework for Spread.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 Cambridge, Massachusetts: Institute for Healthcare Improvement; 2006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mons R, Fajans P, Ghiron L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 health service delive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Geneva: The World Health Organization, 2007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ctora C, Hanson K, Bryce J, Vaughan P. Achieving universal coverage with health interven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364: 1541-154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rossing the Quality Chasm: A New Health System for the 21st Centu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Committee on Quality of Health Care in America, Institute of Medicine. Washington, DC, USA: National Academies Press; 200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gers 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iffusion of Innov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New York: The Free Press, 199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4972-880B-4DC3-B5A1-71BBD3169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gham LJ, Hanson K. “Scaling up in international health: what are the key issues?”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alth Policy and Plann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10; 25:85-9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ugherty D, Conway P. The “3T’s” Road Map to Transform US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8; 299 (19):2319-232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eenhalgh T, Robert G, Macfarlane F, Bate P, Kyriakidou O. Diffusion of Innovations in Service Organizations: Systematic Review and Recommenda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ilbank Quarterl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82: 581-629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oley L., Kohl R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: From Vision to Large-scale Chang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ashington, DC: Management Systems International, 200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358B-8C2C-40C9-AF0F-6FD416901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Schall MW, Perla RJ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lanning for Scale: A Guide for Designing Large-Scale Improvement Initiativ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IHI Innovation Series white paper. Cambridge, Massachusetts: Institute for Healthcare Improvement; 200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Berwick DM, Massoud MR. The Science of Large-Scale Change in Global Health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October 24/31, 2007; 298: 1937 - 1939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rwick DM. Disseminating innovations in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3;289(15):1969-197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adach J. Scaling Impact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tanford Social Innovation Review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ummer 2010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A8B-99BD-4207-970B-6EFCA2F133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85800" y="144792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 think when people look back at our time, they will be amazed at one thing more than any other. It is this – that we do know more about ourselves now than people did in the past, but that very little of this knowledge has been put into effect.” –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oris Less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535-EBB9-47C8-A38E-A0F4E6D1BF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F5D8-8565-4DD5-AA7F-F8AC127434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2400" y="205920"/>
            <a:ext cx="9021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Expla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Oval 4"/>
          <p:cNvSpPr/>
          <p:nvPr/>
        </p:nvSpPr>
        <p:spPr>
          <a:xfrm>
            <a:off x="2741760" y="1600200"/>
            <a:ext cx="442116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"/>
          <p:cNvSpPr/>
          <p:nvPr/>
        </p:nvSpPr>
        <p:spPr>
          <a:xfrm>
            <a:off x="3657600" y="2362320"/>
            <a:ext cx="2514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6"/>
          <p:cNvSpPr/>
          <p:nvPr/>
        </p:nvSpPr>
        <p:spPr>
          <a:xfrm>
            <a:off x="4648320" y="3352680"/>
            <a:ext cx="53316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 rot="7588800">
            <a:off x="5410080" y="35812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4190040" y="434340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"/>
          <p:cNvSpPr/>
          <p:nvPr/>
        </p:nvSpPr>
        <p:spPr>
          <a:xfrm>
            <a:off x="4200480" y="5133960"/>
            <a:ext cx="16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299C-773C-413E-86ED-6BABF771D6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20320" y="282240"/>
            <a:ext cx="8923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ore Accurate Repres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4"/>
          <p:cNvSpPr/>
          <p:nvPr/>
        </p:nvSpPr>
        <p:spPr>
          <a:xfrm>
            <a:off x="2590920" y="1447920"/>
            <a:ext cx="472428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5"/>
          <p:cNvSpPr/>
          <p:nvPr/>
        </p:nvSpPr>
        <p:spPr>
          <a:xfrm>
            <a:off x="2895480" y="175248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"/>
          <p:cNvSpPr/>
          <p:nvPr/>
        </p:nvSpPr>
        <p:spPr>
          <a:xfrm>
            <a:off x="3352680" y="2209680"/>
            <a:ext cx="3276720" cy="2819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9"/>
          <p:cNvSpPr/>
          <p:nvPr/>
        </p:nvSpPr>
        <p:spPr>
          <a:xfrm>
            <a:off x="4425120" y="510552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4159440" y="5638680"/>
            <a:ext cx="1544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eft-Right Arrow 12"/>
          <p:cNvSpPr/>
          <p:nvPr/>
        </p:nvSpPr>
        <p:spPr>
          <a:xfrm rot="3313800">
            <a:off x="5063400" y="4241160"/>
            <a:ext cx="1768320" cy="661680"/>
          </a:xfrm>
          <a:prstGeom prst="leftRightArrow">
            <a:avLst>
              <a:gd name="adj1" fmla="val 50000"/>
              <a:gd name="adj2" fmla="val 5002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E3D-6B68-463F-8A96-144DAC1BE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A2A6-37BA-4C7D-8371-FC4E79613C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134-8947-43BD-87DA-53025BE0E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quence of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innovativ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demonstration in 50 hospit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standing results in 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est from purchasers and pay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tate law in 1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national mand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art of graduate-level train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expectation and a standar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idence in ability to make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ambitious ai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31:58Z</dcterms:created>
  <dc:creator>juran</dc:creator>
  <dc:description/>
  <dc:language>en-US</dc:language>
  <cp:lastModifiedBy>emily.moser</cp:lastModifiedBy>
  <dcterms:modified xsi:type="dcterms:W3CDTF">2011-04-14T17:54:08Z</dcterms:modified>
  <cp:revision>308</cp:revision>
  <dc:subject/>
  <dc:title>Slide 1</dc:title>
</cp:coreProperties>
</file>