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  <p:sldId id="282" r:id="rId5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slide" Target="slides/slide27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dt" idx="4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ftr" idx="4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 type="sldNum" idx="4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6629-DDC6-4C90-9B5A-9542EFBC0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3F59-2717-4574-80A6-49A21A17F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7020-DBB4-4C90-832E-8D8E3885A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FDB9-BC19-416E-9C76-62FCC871A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6CF5-9DD3-434B-B517-54FC8A1E8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7BCF-FCC6-4C89-B40B-A78613B23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C211-C5FF-4E2E-9576-4E49C823F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should scale-up programs select their aims? What are typical (aggressive) patterns of spread, in terms of rate and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change efforts introduce narrative methods in order to increase emotional engagement of prospective participa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B4C0-5FB9-49CA-BEA6-096AD5466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E039-BFFE-48D1-90CD-0092BC9CC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AEDC-F0D2-4151-820E-2C6800D27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43E2-DE0B-468C-BD9A-7FF7F1AC1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7E26-6782-4662-9ADF-7C834B902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7CD4-20D6-4DCE-8DA9-B74C9AF63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45CD-CBB9-4876-82A7-216056320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8987-C28A-417E-8478-8A1920087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4C3C-1F95-430E-AD50-DAF39A603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2CAF-71DC-42ED-8309-08225FE9C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566640" y="4995720"/>
            <a:ext cx="5975280" cy="246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E4E1-9EAD-4E4E-8304-1C98FE693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4E16-3D7D-4E2F-8791-17C8BE1B0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7F5E-8589-4C9E-8525-1E02407EE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566640" y="4995720"/>
            <a:ext cx="597528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9A52-EDA7-44D2-878E-7988F5B2F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566640" y="4995720"/>
            <a:ext cx="597528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8F66-4901-447C-A68D-882234905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9277-CB7B-45E1-BFF9-1200BE0DC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71CC-67D0-4388-B6C5-6251E2F56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A02ED-AEE3-451D-B8F1-F19FD281AB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D7724-A0F6-42FD-9EC9-87E763B0EA2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7A276C-877E-4CB7-BA66-D2E88976C95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667A3C-DCD2-48C6-BD05-8B7A3A0CF08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7E0740-E76F-4369-889C-02485CB5CF2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692A23-2050-4518-8F15-853B4CE0328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9A7768-A015-47BF-9C94-61B14312DC0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2D10C3-C09B-43C3-889F-653B4DA0C24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53843A-88E1-406A-8B75-0B3DB0F6A44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13B79F-45E1-4ED6-9C4F-B563163781E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2383BB-7552-4C46-8F13-ECCDCF197B5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F3DD2-6621-4721-A4B3-E0CE73AE5E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75869-D428-44F9-AF20-5765292B59E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31D7A-EAFE-49BB-AC07-194961A118B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D6C67-9311-408F-A468-33501444C93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3626D-9D12-447F-9F65-2C15857046D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7CFAD-7F52-42D8-A230-2832F2B633B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89A10-6602-4928-A17D-86BA29BDED9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C1720-D15D-4985-99FA-0F7D4678743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AE2C4-041C-4164-86A5-D555CF6D3FA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72139-C4B6-45A3-A395-B0FE5EE176E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1C419-ACDA-470E-B6E1-A90001ADA81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62A0E-B0C1-4E49-AAAA-31047BE3CE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AF204-634C-4796-97F2-223D4170D2C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A6A89-0476-4943-A8A2-C47FFEBF1F7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A754BC-10EE-4C04-A504-4A999D154E6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4C2CB9-BFE5-4AD8-ACAE-D658AF0B264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50E0C9-1AB9-4BAF-A7DE-C6F4BCBA986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5BD84A-7B7F-488D-B0CE-C5DDFC43E57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39A644-9E76-48DF-94D9-2240F47566A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55A533-26F8-4D10-A1C4-60E8AFF888D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DA9D02-580B-4D90-80EB-7CDD36BC5FB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41EB42-9795-4BD6-927B-C5EAD3CCF21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1DE724-4C2E-413E-8CDB-7793CDF5D0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131D8-8659-485E-A367-9E2F6135F90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D26930-CF4A-4370-A9EF-93EFC89BA08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935BCA-4FDD-4AC4-942C-8D8B8E6C55F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CC739D-33C2-4D03-BD27-04451B44F92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FD5C33-2C84-40B0-AB1D-AC1C14DA9FF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4E1113-AC10-4E12-8E34-8B784148CF8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FE66A1-FD43-44B0-8EB3-6EC3C8E13CC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5B98A9-0FC4-4609-B898-C4298A3E88B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82691A-3BF1-4BB9-8210-1BF8E6D6166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1D1915-D59C-4C5E-83D7-453EE6745F3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78E62C-AD3E-4BC2-8A7C-A752497E22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38C4A-216C-4AEF-90D8-BAEAD7E14EC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FB8373-9D31-4B06-AC9D-B3DAAF45091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A9DF7A-281C-4835-AB26-41196AE3D4D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6A7FB2-641B-4913-8B7F-78D3F277E93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FA7D13-0024-4EB9-954F-E31283D4E10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3AD841-C7AF-4D45-A78E-0FE69D26574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FBCDC-7940-4696-8F3F-BBA262A7D3F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DF1D5-B995-4C5A-AFC7-47692D93FE5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85387-3D38-4602-A18C-BC4F60D30C0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70586-708C-444C-A85C-2ECE5629FDC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34256-6026-4526-96EE-EEC5498271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30A5B-F27D-4551-87F9-265EB949546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0ADA5-EBF0-429A-BC4D-D3799949BF2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5E2FC-2146-462E-BD32-E674BE53C1E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497D7-2446-4C16-B3A4-F7A5554BE72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5C6D8-BE6B-4298-96C2-0AAA0CD4215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43017-A424-468A-9861-CDD2AB9FE9F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8AC58-204D-461E-8111-C192B5DFFAE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B0EC2-EE78-445A-A730-B66E7C1608E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806A0-D736-408A-AECD-544339E6002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021A87-893C-4A9B-B77D-E025032E11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ECA7F-1AAE-4E77-8935-82770E73A65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0D3B2E-49E5-42E9-A334-4687B51DE1F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BEA1F2-E1BF-4499-B9CD-F6BFAE4487F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8B9DED-E216-40C3-BDA0-5AD139A9AE5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889829-0DDE-48BC-BEFB-5307648D55B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06D200-1DF5-445A-956B-65DD7046F6F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8FC7AD-3FFF-4759-A07E-4644DD2F4EC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7482A6-0417-43D7-AC45-A0C2E70BA86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77430F-0E96-4D9B-8A29-085A5E636B6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7A2FAC-4FAB-43EB-A4DC-44AAFC914D1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7F78E3-1858-4960-94B7-10B0D94811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2D13B-160E-4DA1-AD84-CC9067383E0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E7C348-F5E6-44BB-8D4A-50C4BF5B32B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4B7B2C-557B-4F26-A181-E4D9E1A6F1C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A28B8B-6C13-401F-BE8D-A911678E452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FBBAFF-C770-46A0-A3F8-E226D8AE9C9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9A1D8C-0CF2-4C4B-B295-1F8B61D1E14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EEEC70-A6CD-4C97-965C-F3A5A1979E5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3159F4-829C-4356-BFE7-E41BB07032A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C60E12-114C-4881-80F9-0CB8BF8A923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54CF53-AEE9-4DC7-BDC4-F566DE95F04B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C099EF-53DF-49FD-85C4-8A61E45709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FAF71-F6DD-4231-93C7-0A0298B5330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1E2BDF-5C89-466B-804A-34BF767EFBF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D86C40-8955-4093-8182-A7857B83FE6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AED5E2-2382-4A73-8964-B6946C58FFD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1C6A8-7D85-41B4-BB94-851E1EBD052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9CCFE4-CED2-4A20-95C8-8424C1C07FB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CBD82-A68C-4A57-AEA2-0515974CA5D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98CDC-6A73-4604-8DE5-109B2910CE28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6E231-E1D8-4936-81C2-829F38072DA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B0BEE-9E1D-4B98-B010-F31637CB471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8351A4-781C-4EBB-B67F-3FEA8974CB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E0FF4-48E5-44AC-9B94-E51FFC8D4D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B1F36-63A0-418D-931A-A9EAA0BC4BC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533DA-ACB5-4324-89AE-ABC58E26546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17908-F359-4692-85AB-5CDBAF4FE83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7C6BE-6250-4D76-9C36-5225D9F51A4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2906F-EBF4-42F8-A2B2-DEF8962CE40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3301F-1711-442D-914A-2544719C600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EFEBB7-3EDD-4C1E-AFA8-009091430D0D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3C23C5-8445-4D25-970C-3A330AD9FD0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C13909-12DC-4C38-897D-8F66C1B2E39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B58B81-8070-4AC5-BC45-01DCB43CEE7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BF8141-1861-40CF-AF96-27D34D57F1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18DCE-07A8-4A6F-82D0-F6DB68CEF11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DA8C76-F92A-4387-B5AE-F4F80C7F7F3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5B843C-8C0B-4F57-8893-8314C29BA98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FD6F1D-8376-4159-BDC9-2232D3232480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0368C4B-46BF-41A4-82D8-87EFD6DF551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EB6B6A-E692-442F-B8B7-7607CC0B590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5826C68-31F7-4E8D-A83E-ECE761E37A97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2100D6-8D0E-467D-8EFE-449AD1332D24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A003F3-419D-4DC7-B9C7-A286DB1D8C4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E1413F-384D-4B91-983F-C976A9295125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83FAC3-43B6-4138-8A45-5AF7676E90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23D44-6A8A-4AE1-BA9F-882CEAD7A61F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1D9A12-54AE-40BD-891E-FDD1BF263DB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A642F5-EFC9-4B6A-9479-857918899F9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308247-4E04-41C2-A975-2D1971CD7F5B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1C2A01-9718-4BC8-91E2-95780E5C315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0E9200-5161-455F-8260-8492A433E28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98C1C3-1E6E-4279-89BE-6F5FB73EB33C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E822E8-2239-4F0E-BE4A-9EA67164A489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7DB46A-4E5D-45D1-974A-C0F1CB892D5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49DECC-103A-4B4C-87B7-68716A1D924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62BDD-1CCA-4E28-843C-220123ECA4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5C20A-62B3-43FA-84C1-3CC60109739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730744-C0E7-45C3-B5CB-D4CC6EEA0E28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C1DA7-257C-4A10-8DB2-FEA2E8BD17C6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CC9FD-89DC-4210-98B2-3CD56A397D7A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C5436-8863-4747-8FCA-46CDA6FDB118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D52C6D-1CB0-4E15-8FCF-5FF78D559783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0B032-8A62-47BE-BCA0-C561E09FF612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DEC0C-8E36-4096-9D5D-342F062C75B2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B42ED9-98FB-4A96-941A-0E112938E396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BD67D-9A00-456F-ACB2-5B4832748633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C48D6-9494-4092-BCCB-287E37FE5F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D0E02-AB99-4C34-B9BE-89A8FCDFEA2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F6073-6B06-4191-BBCA-4F86A26C2461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866473-9856-4E28-A4E9-32A3B6A0189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0BED5A-6A71-44A0-945A-D668507A63C0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745249-01FF-4971-8EE6-8F18DD17A75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93EF32-6583-4EDB-8402-0409C280DDA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B2C981-3191-4F04-BB74-7AF44FD903A7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E42FA6-C311-498C-AF3B-26661221F14A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DC7E2E-E109-4E15-8BDC-C6495D44E26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32E2B9-2BED-440C-8954-AE99A95773C6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5E6DB6-A53D-4BAC-A3D7-E370B2119AA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8D3E48-FC6D-4B30-8A05-F7A04B507CB3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BCE6C5-9EF5-4934-A80F-E8010282D4D2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A35AA9-5F74-4207-BA9E-3D0E0DFE3AB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F226728-B7AA-41B2-A264-E7222CAB7BA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2C355D9-CB80-4617-BA5C-5B4FDA8429BC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32EE506-6AB1-46B6-993F-DF541A213DE5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AD2B28C-C20C-4DEA-AD12-1B8871192802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B3CD267-6DB0-4382-B98D-7373B36D0FB5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A114176-C2D6-4DB1-957B-6835869E93AE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F063E99-65E0-4BC8-AAFA-4E6294327C7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60D6E94-61CF-48E0-8820-02F9CF59A8E8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21D8719-F247-40F7-83CF-89ADB65C9612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1E60C2C-3B96-4526-B068-BCF663015C89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A3E227B-A70E-4EAD-B5B3-33937434DAC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1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F58CD87-48A1-42FD-AF36-3C64EECEC062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B40222-0D53-48F1-A73F-54E4A37E4441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0B76FC-ED0F-43A5-BD8F-9D733DA4150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4D511D-07EF-4CB5-9C7E-49720406FD06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3326FC-19B7-4DC5-8B3D-3DCD33290A73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686DE7-6D53-4C5B-A740-F5C9F2DA26E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D9066C-DA77-41FA-B2EA-51D39855B6F3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DCA2D3-0748-483E-98F2-630BD7E2D2B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6CA8E0-EDDB-4D89-8BD6-B05AB5329DAB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AC2CC7-EB07-47ED-AD1B-B4B87BAAC278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15EC93-12E5-4784-ABCE-5C0A767A984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2CD186-CD1B-4037-A264-F6DFD37DA1BE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5DB831-8A76-41C5-9052-3B362827963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3EA33A3-908E-442C-8ED3-3A33F0718BA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B04B943-ED38-42AB-B080-743F003FD7D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EB209A6-F8BB-4D03-A096-1F6C15E4937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19755B4-A3CA-49C7-BA41-11F5AB094456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C464761-0F9E-4A8D-94AD-87D15B5251E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C5DBA35-0201-401A-9E59-5727A88F6D32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1586503-B4D7-4431-BC03-71E2CE77421B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9217A29-5B97-4409-9CAF-3D64974880BF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4D190F2-D78A-4026-9FBD-C3DCE817BD1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6FF6179-6C86-4E98-A38F-181D52BD7B2E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4F82263-455A-4F4A-AD01-4DB1D76629B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EA918B1-B922-4CAB-AECF-78D65B21526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2733D-1D05-4D55-B495-7A723CAE77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8894-F115-47A9-AFBA-28ECEBB8D17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0FEB-2347-4A06-A453-163589FC853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D88F-FED2-42AC-A8EA-23E18E6222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8FED4-67E5-4FDC-9E88-5032D43445D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933E-CD5D-4147-A1FD-B0B281E524B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54D4-4965-4B8C-9F3A-1427D5F5B11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C042-2C76-49F8-83BA-F3D2FABE8ED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CE9C-ADCE-4D54-AFFF-8885757B4BE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DF8E-BEDE-452C-A4A6-1307262A68D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7184-6DB3-4493-A5F4-AE97FC4219A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FBB2-D0F6-44DB-BE49-6409A419852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404E-0330-4C47-A744-48216370811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40AA-CD8F-446E-9AD7-CD839DAE476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BD6670-C3CE-465A-9AF0-7848FE9FB8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99510-94C9-46CD-B0E2-7E7F7371B89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0B25F2-BC9D-491D-AEAB-DF3115172CD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A77692-2A34-465F-B771-851BC4975DB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D1B1C6-4B9F-440E-898C-33C75F29738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295E4A-6BB9-4A0A-AE9C-7FE410EC852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E93103-94C3-401E-8CF3-4AED38A5853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E2E09E-B11D-498C-8868-8148D496FF1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E5B635-EE69-4CFB-96B0-AB001A3F18D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B889D6-D9AF-414E-A1FA-93D3BF7CBD1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D6AC19-20C4-473E-AD08-517AF492522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B59CED-B7CD-4ACA-8428-C9C772BD2D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D4337-C629-42E5-99FA-9C6262275CA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1D87EC-BEE5-42B0-BF36-61ECB631349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C7A246-7BA7-4F3F-8BF7-923C806671B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FF91CE-A0D6-405A-95A3-12E1AC13863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97C31E-EBBD-4CF4-9094-87C6AB4272C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8C00D7-68FD-4D9D-AEEB-227BF664223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A54DA1-ED83-4429-A1A1-57BD54DF0E0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700C0C-753C-4019-8705-A431611EFF4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881698-E10D-4C65-A20B-31CB90F2C87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ECEC9C-4061-4BC2-9D23-47D0877D49B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02050C-269B-448A-AAC3-97CA9E8D4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AFF54-6118-450A-983D-DB36F756358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0FF7AC-2B5E-4A0A-9664-0978097D57A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40F6E6-5455-4D18-B95F-94313CE2086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A90F7B-6BA9-490C-B8DD-6BABC107AE9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1E686-70C1-46C9-82A5-2E061EF1E83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57FE4-1EC2-4D8F-A0BE-3BC2A230EA7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12DA8-31AA-4758-B1E3-222807CBDB7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778E7-5FFE-46FF-8456-4E4A83978E4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3A847-EA2F-4A84-9B5F-4A32FBE259F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1092D-A155-434B-9159-5CE154375A9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AD327-1B11-494F-8B76-C799C25A24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99F42-A6AE-4CA8-B9AF-D9198DFFCF4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86A12-5FF8-4EEA-AEC7-2EC8F2F44A0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FA10E-509F-40F3-AF27-AA669383664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D12F9-3519-44A2-A757-D954DCD37A0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058BA-6577-4557-886B-2EEA82C6A1A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1DAC6-39B8-4449-A217-6872796564E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FD8A1A-8D46-490B-A6A0-51B8E4FD384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9EBCA8-99A0-4137-AED2-5F0FD8A6FCC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5B16BD-31BD-43E1-8EB1-C69CBFB2FFF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FC61B3-20A5-48A6-B993-3745AFB3BD3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D1556D-8D6E-4808-9096-02AC21BEF4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9AA04-019D-4359-8FE8-46229CD17AB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49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1ABDA0-64BC-4036-843D-6662247D4DF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C96EDD-6D34-4112-84B1-704C0C1CA0E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28B2EF-1408-4104-9A26-BEC87D8E548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EDC811-AC6E-4273-AD5C-990D936EBF4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A9EF4A-0844-4C57-83E7-F9A51FD66F2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45C500-E74A-4DD8-B86F-634B4987C0D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46E03E-DBA0-43A4-BDFA-DF01F01AEA8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FBDC1E-0C24-4284-902C-BDD924686BE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371230-3725-4C5F-95FD-73DE4588B2F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D5FA78-9A0B-49EA-8C6D-6969BFFC0C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4a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7" descr="IHI_LogoWhite"/>
          <p:cNvPicPr/>
          <p:nvPr/>
        </p:nvPicPr>
        <p:blipFill>
          <a:blip r:embed="rId2"/>
          <a:stretch/>
        </p:blipFill>
        <p:spPr>
          <a:xfrm>
            <a:off x="7238880" y="6019920"/>
            <a:ext cx="1700280" cy="657000"/>
          </a:xfrm>
          <a:prstGeom prst="rect">
            <a:avLst/>
          </a:prstGeom>
          <a:ln w="0">
            <a:noFill/>
          </a:ln>
        </p:spPr>
      </p:pic>
      <p:sp>
        <p:nvSpPr>
          <p:cNvPr id="3" name="Rectangle 8"/>
          <p:cNvSpPr/>
          <p:nvPr/>
        </p:nvSpPr>
        <p:spPr>
          <a:xfrm>
            <a:off x="301680" y="1249200"/>
            <a:ext cx="8537400" cy="4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676160" y="615276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457200" y="615276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4AD6-FEB6-4B63-9DBB-488CB3E4EF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4a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ftr" idx="17"/>
          </p:nvPr>
        </p:nvSpPr>
        <p:spPr>
          <a:xfrm>
            <a:off x="1676160" y="615276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sldNum" idx="18"/>
          </p:nvPr>
        </p:nvSpPr>
        <p:spPr>
          <a:xfrm>
            <a:off x="457200" y="615276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9F8E-45DE-4207-A5C1-EF390203F5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4a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ftr" idx="19"/>
          </p:nvPr>
        </p:nvSpPr>
        <p:spPr>
          <a:xfrm>
            <a:off x="1676160" y="615276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sldNum" idx="20"/>
          </p:nvPr>
        </p:nvSpPr>
        <p:spPr>
          <a:xfrm>
            <a:off x="457200" y="615276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D85B-6F14-48E9-B8F7-3723E3FBC7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4a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ftr" idx="21"/>
          </p:nvPr>
        </p:nvSpPr>
        <p:spPr>
          <a:xfrm>
            <a:off x="1676160" y="615276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sldNum" idx="22"/>
          </p:nvPr>
        </p:nvSpPr>
        <p:spPr>
          <a:xfrm>
            <a:off x="457200" y="615276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4EEC-0852-4674-BC10-6B78B88FAB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4a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ftr" idx="23"/>
          </p:nvPr>
        </p:nvSpPr>
        <p:spPr>
          <a:xfrm>
            <a:off x="1676160" y="615276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sldNum" idx="24"/>
          </p:nvPr>
        </p:nvSpPr>
        <p:spPr>
          <a:xfrm>
            <a:off x="457200" y="615276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D1B4-CBD5-4192-9054-D8A2F45590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IHI_LogoColor"/>
          <p:cNvPicPr/>
          <p:nvPr/>
        </p:nvPicPr>
        <p:blipFill>
          <a:blip r:embed="rId2"/>
          <a:stretch/>
        </p:blipFill>
        <p:spPr>
          <a:xfrm>
            <a:off x="3048120" y="325440"/>
            <a:ext cx="3047760" cy="119844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ftr" idx="25"/>
          </p:nvPr>
        </p:nvSpPr>
        <p:spPr>
          <a:xfrm>
            <a:off x="1600200" y="6152760"/>
            <a:ext cx="541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sldNum" idx="26"/>
          </p:nvPr>
        </p:nvSpPr>
        <p:spPr>
          <a:xfrm>
            <a:off x="457200" y="61513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4774-E17A-469F-948C-857D3A885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ftr" idx="27"/>
          </p:nvPr>
        </p:nvSpPr>
        <p:spPr>
          <a:xfrm>
            <a:off x="1600200" y="6152760"/>
            <a:ext cx="541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sldNum" idx="28"/>
          </p:nvPr>
        </p:nvSpPr>
        <p:spPr>
          <a:xfrm>
            <a:off x="457200" y="61513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63EF-F587-4FA8-A904-A471BA01D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ftr" idx="29"/>
          </p:nvPr>
        </p:nvSpPr>
        <p:spPr>
          <a:xfrm>
            <a:off x="1600200" y="6152760"/>
            <a:ext cx="541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sldNum" idx="30"/>
          </p:nvPr>
        </p:nvSpPr>
        <p:spPr>
          <a:xfrm>
            <a:off x="457200" y="61513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34BE-265D-44B0-93C6-7DFC8B364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ftr" idx="31"/>
          </p:nvPr>
        </p:nvSpPr>
        <p:spPr>
          <a:xfrm>
            <a:off x="1600200" y="6152760"/>
            <a:ext cx="541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sldNum" idx="32"/>
          </p:nvPr>
        </p:nvSpPr>
        <p:spPr>
          <a:xfrm>
            <a:off x="457200" y="61513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8B26-5847-43B7-A832-CFB70991B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ftr" idx="33"/>
          </p:nvPr>
        </p:nvSpPr>
        <p:spPr>
          <a:xfrm>
            <a:off x="1600200" y="6152760"/>
            <a:ext cx="541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34"/>
          </p:nvPr>
        </p:nvSpPr>
        <p:spPr>
          <a:xfrm>
            <a:off x="457200" y="61513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3238-6115-4886-973B-1BAEA4274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IHI_LogoColor"/>
          <p:cNvPicPr/>
          <p:nvPr/>
        </p:nvPicPr>
        <p:blipFill>
          <a:blip r:embed="rId2"/>
          <a:stretch/>
        </p:blipFill>
        <p:spPr>
          <a:xfrm>
            <a:off x="7238880" y="6019920"/>
            <a:ext cx="1676520" cy="6588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228600" y="1249200"/>
            <a:ext cx="8720280" cy="460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226a55"/>
              </a:gs>
            </a:gsLst>
            <a:lin ang="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1600200" y="6152760"/>
            <a:ext cx="541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457200" y="61513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DC9F-3176-4890-BC87-9DAC18C55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 type="ftr" idx="35"/>
          </p:nvPr>
        </p:nvSpPr>
        <p:spPr>
          <a:xfrm>
            <a:off x="1600200" y="6152760"/>
            <a:ext cx="541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sldNum" idx="36"/>
          </p:nvPr>
        </p:nvSpPr>
        <p:spPr>
          <a:xfrm>
            <a:off x="457200" y="61513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66EB-9A45-4A04-8DB9-30354C989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 type="ftr" idx="37"/>
          </p:nvPr>
        </p:nvSpPr>
        <p:spPr>
          <a:xfrm>
            <a:off x="1600200" y="6152760"/>
            <a:ext cx="541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 type="sldNum" idx="38"/>
          </p:nvPr>
        </p:nvSpPr>
        <p:spPr>
          <a:xfrm>
            <a:off x="457200" y="61513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E2BE-5624-4D2F-9722-9E24F58D2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ftr" idx="39"/>
          </p:nvPr>
        </p:nvSpPr>
        <p:spPr>
          <a:xfrm>
            <a:off x="1600200" y="6152760"/>
            <a:ext cx="541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sldNum" idx="40"/>
          </p:nvPr>
        </p:nvSpPr>
        <p:spPr>
          <a:xfrm>
            <a:off x="457200" y="61513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1C64-01E6-4F05-94F3-6576D0CCB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 type="ftr" idx="41"/>
          </p:nvPr>
        </p:nvSpPr>
        <p:spPr>
          <a:xfrm>
            <a:off x="1600200" y="6152760"/>
            <a:ext cx="541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 type="sldNum" idx="42"/>
          </p:nvPr>
        </p:nvSpPr>
        <p:spPr>
          <a:xfrm>
            <a:off x="457200" y="61513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9F10-BA90-4B9B-AD79-481C17A21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ftr" idx="43"/>
          </p:nvPr>
        </p:nvSpPr>
        <p:spPr>
          <a:xfrm>
            <a:off x="1600200" y="6152760"/>
            <a:ext cx="541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sldNum" idx="44"/>
          </p:nvPr>
        </p:nvSpPr>
        <p:spPr>
          <a:xfrm>
            <a:off x="457200" y="615132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2744-0E67-4D2F-8145-1E27108AF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4a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IHI_LogoWhite"/>
          <p:cNvPicPr/>
          <p:nvPr/>
        </p:nvPicPr>
        <p:blipFill>
          <a:blip r:embed="rId2"/>
          <a:stretch/>
        </p:blipFill>
        <p:spPr>
          <a:xfrm>
            <a:off x="3048120" y="328680"/>
            <a:ext cx="3043080" cy="1174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4a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5"/>
          </p:nvPr>
        </p:nvSpPr>
        <p:spPr>
          <a:xfrm>
            <a:off x="1676160" y="615276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6"/>
          </p:nvPr>
        </p:nvSpPr>
        <p:spPr>
          <a:xfrm>
            <a:off x="457200" y="615276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E996-DA15-4609-8818-9608374EF0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4a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7"/>
          </p:nvPr>
        </p:nvSpPr>
        <p:spPr>
          <a:xfrm>
            <a:off x="1676160" y="615276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8"/>
          </p:nvPr>
        </p:nvSpPr>
        <p:spPr>
          <a:xfrm>
            <a:off x="457200" y="615276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7947-120F-48B9-98E7-7CC2B3967E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4a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9"/>
          </p:nvPr>
        </p:nvSpPr>
        <p:spPr>
          <a:xfrm>
            <a:off x="1676160" y="615276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0"/>
          </p:nvPr>
        </p:nvSpPr>
        <p:spPr>
          <a:xfrm>
            <a:off x="457200" y="615276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FDF6-CCF9-4D21-ADAE-48D7C7F49E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4a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11"/>
          </p:nvPr>
        </p:nvSpPr>
        <p:spPr>
          <a:xfrm>
            <a:off x="1676160" y="615276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2"/>
          </p:nvPr>
        </p:nvSpPr>
        <p:spPr>
          <a:xfrm>
            <a:off x="457200" y="615276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50A0-EF5F-4FA4-8B9E-88B6E6A068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4a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ftr" idx="13"/>
          </p:nvPr>
        </p:nvSpPr>
        <p:spPr>
          <a:xfrm>
            <a:off x="1676160" y="615276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sldNum" idx="14"/>
          </p:nvPr>
        </p:nvSpPr>
        <p:spPr>
          <a:xfrm>
            <a:off x="457200" y="615276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94AB-DD5E-4476-9A6B-F4D2264852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4a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49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ftr" idx="15"/>
          </p:nvPr>
        </p:nvSpPr>
        <p:spPr>
          <a:xfrm>
            <a:off x="1676160" y="615276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sldNum" idx="16"/>
          </p:nvPr>
        </p:nvSpPr>
        <p:spPr>
          <a:xfrm>
            <a:off x="457200" y="6152760"/>
            <a:ext cx="914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12CF-8BC1-4085-90A4-2970345ECE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741240"/>
            <a:ext cx="7772400" cy="144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Spread Problem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The Challenge and Promise of Delivery System Research: A Meeting of AHRQ Grantees, Experts, and Stakehold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Joe McCannon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enters for Medicare and Medicaid Servic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February 17, 2011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Do We Fail to Take Effective Practice to Sca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cause we lack incentives to do s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cause we don’t expect to do s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cause we don’t appreciate how large-scale  change unfol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cause we don’t know how to do so (or at least we don’t approach the challenge systematically enough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7" name="Slide Number Placeholder 3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3241-C914-49E7-A876-58E0A5C5DC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Frame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267080"/>
          </a:xfrm>
          <a:prstGeom prst="rect">
            <a:avLst/>
          </a:prstGeom>
          <a:ln w="0">
            <a:noFill/>
          </a:ln>
        </p:spPr>
      </p:pic>
      <p:sp>
        <p:nvSpPr>
          <p:cNvPr id="1020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Slide Number Placeholder 4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2" name="Picture 2" descr="InfluentialFactorsImage"/>
          <p:cNvPicPr/>
          <p:nvPr/>
        </p:nvPicPr>
        <p:blipFill>
          <a:blip r:embed="rId2"/>
          <a:stretch/>
        </p:blipFill>
        <p:spPr>
          <a:xfrm>
            <a:off x="1600200" y="790560"/>
            <a:ext cx="6324480" cy="5915160"/>
          </a:xfrm>
          <a:prstGeom prst="rect">
            <a:avLst/>
          </a:prstGeom>
          <a:ln w="0">
            <a:noFill/>
          </a:ln>
        </p:spPr>
      </p:pic>
      <p:sp>
        <p:nvSpPr>
          <p:cNvPr id="1023" name="Slide Number Placeholder 3"/>
          <p:cNvSpPr/>
          <p:nvPr/>
        </p:nvSpPr>
        <p:spPr>
          <a:xfrm>
            <a:off x="609480" y="630540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D9B0-D6A1-4ECD-B80D-0762A20750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rrent Environment (Will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litical and economic environ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adership engage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ioritization schem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ces for chang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centives for chang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6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Slide Number Placeholder 4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Slide Number Placeholder 3"/>
          <p:cNvSpPr/>
          <p:nvPr/>
        </p:nvSpPr>
        <p:spPr>
          <a:xfrm>
            <a:off x="609480" y="630540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6F6D-3313-4FFF-87CD-647A3993BE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vers for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457200" y="121896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ym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ransparenc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gul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nsationalis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uil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cogni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fessionalis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ffec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ersonal considerations (de-zombification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1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Slide Number Placeholder 3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77CC-6C83-4241-BBF5-B832476CFA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undation (Timing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ior work to establish efficac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ior work to establish effectiveness on a smaller sca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gree of awarenes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gree of confide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5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Slide Number Placeholder 4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609480" y="630540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A584-7C95-43C7-B7F3-0E5C1C4DA4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am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blem defini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plicit aim-sett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acit aim-sett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perational imag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arrative image (predicted sequence of change over time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0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Slide Number Placeholder 4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Slide Number Placeholder 3"/>
          <p:cNvSpPr/>
          <p:nvPr/>
        </p:nvSpPr>
        <p:spPr>
          <a:xfrm>
            <a:off x="609480" y="630540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0923-2DD1-4E00-9F81-36C996E124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ture of the Interven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vidence bas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motional resona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mplicit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ial-ability/Observabilit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5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Slide Number Placeholder 4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Slide Number Placeholder 3"/>
          <p:cNvSpPr/>
          <p:nvPr/>
        </p:nvSpPr>
        <p:spPr>
          <a:xfrm>
            <a:off x="609480" y="630540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5BCC-3E9B-4E12-86F9-8F1EE4D3C5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ructural Contex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cal infrastructur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cal patterns of behavior (centers of influence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ules bas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nancing paradig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eograph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0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Slide Number Placeholder 4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Slide Number Placeholder 3"/>
          <p:cNvSpPr/>
          <p:nvPr/>
        </p:nvSpPr>
        <p:spPr>
          <a:xfrm>
            <a:off x="609480" y="630540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D826-3DF8-4CF6-9AE0-ACBCFFFB92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chnical approach to scale up O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ver mix”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ta collec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cursive evalu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Knowledge manage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gistics/resource manage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5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Slide Number Placeholder 4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Slide Number Placeholder 3"/>
          <p:cNvSpPr/>
          <p:nvPr/>
        </p:nvSpPr>
        <p:spPr>
          <a:xfrm>
            <a:off x="609480" y="630540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0741-6ABA-4440-8833-4B7268A7D3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Slide Number Placeholder 4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6248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hods for Sp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tural diffusion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eakthrough Series Collaborative mod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tension age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mergency mobiliz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ampaign mod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cial moveme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ave sequence (wedge and spread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oad and deep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ybrid model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2" name="Slide Number Placeholder 3"/>
          <p:cNvSpPr/>
          <p:nvPr/>
        </p:nvSpPr>
        <p:spPr>
          <a:xfrm>
            <a:off x="609480" y="630540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5B76-9E31-4E78-B5B6-DF1914F332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ound to Co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457200" y="914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Spread Proble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Possible Solution (Framework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pen Ques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our Ideas and Advi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3" name="Slide Number Placeholder 3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7156-FE93-4ED6-B564-389653D061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Frame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267080"/>
          </a:xfrm>
          <a:prstGeom prst="rect">
            <a:avLst/>
          </a:prstGeom>
          <a:ln w="0">
            <a:noFill/>
          </a:ln>
        </p:spPr>
      </p:pic>
      <p:sp>
        <p:nvSpPr>
          <p:cNvPr id="1065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Slide Number Placeholder 4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7" name="Picture 2" descr="InfluentialFactorsImage"/>
          <p:cNvPicPr/>
          <p:nvPr/>
        </p:nvPicPr>
        <p:blipFill>
          <a:blip r:embed="rId2"/>
          <a:stretch/>
        </p:blipFill>
        <p:spPr>
          <a:xfrm>
            <a:off x="1523880" y="685800"/>
            <a:ext cx="6516720" cy="6095880"/>
          </a:xfrm>
          <a:prstGeom prst="rect">
            <a:avLst/>
          </a:prstGeom>
          <a:ln w="0">
            <a:noFill/>
          </a:ln>
        </p:spPr>
      </p:pic>
      <p:sp>
        <p:nvSpPr>
          <p:cNvPr id="1068" name="Slide Number Placeholder 3"/>
          <p:cNvSpPr/>
          <p:nvPr/>
        </p:nvSpPr>
        <p:spPr>
          <a:xfrm>
            <a:off x="609480" y="630540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A514-801F-4CDA-BF6B-200EAFEEEF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15408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The Best Practitioners Stimulate Change at Scale and Spread Effective Practice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457200" y="16459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tend to address six key questions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w do you get people to care (and care enough to take action)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ere are you in the process of change (foundations/history)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at is your “hard count” (explicit and implicit aims) and your story for achieving it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at is the nature of your intervention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at is the nature  of your social system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w will you spread your better practice (method)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1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lide Number Placeholder 4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Slide Number Placeholder 3"/>
          <p:cNvSpPr/>
          <p:nvPr/>
        </p:nvSpPr>
        <p:spPr>
          <a:xfrm>
            <a:off x="609480" y="630540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2046-F50B-44A0-92FA-69D7A9F840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urable Lessons on Managing Change at Scale (What Do the Best Do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228600" y="12952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attempt remarkable things (provocation and optimism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talk about justi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have a shared stor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apply “many levers”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play jazz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keep it simple (e.g., interventions, measurement systems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model trust (ecosystems not hierarchies; “distributed laboratories”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seek affection and give recognition (recognition economy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break rules (avoid consensus, condense timeframes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go broad and deep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revere logistics (“Amateurs discuss strategy…”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6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Slide Number Placeholder 3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9FF3-CCDB-4D14-B429-1F7C0F5ABC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 Conference to Advance the State of the Science and Practice on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cale-up and Spread of Effective Health Programs (July 201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ught to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view existing knowledg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dentify challenges and gap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t a research and practice agenda for immediate exec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1" name="Slide Number Placeholder 3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587C-A0D4-4D8A-BCD3-3E922E3287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jor Hills to Take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uild the fiel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eriment with incentiv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eriment with new methods and technologi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st new forms of evalu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reate and spread practical tool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4" name="Slide Number Placeholder 3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E547-C5B8-4507-9DFE-E9D65373DD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lected 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Massoud MR, Nielsen GA, Nolan K, Schall MW, Sevin C</a:t>
            </a:r>
            <a:r>
              <a:rPr b="0" i="1" lang="en-US" sz="2800" spc="-1" strike="noStrike" baseline="30000">
                <a:solidFill>
                  <a:srgbClr val="ffff00"/>
                </a:solidFill>
                <a:latin typeface="Arial"/>
              </a:rPr>
              <a:t>. A Framework for Spread.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 Cambridge, Massachusetts: Institute for Healthcare Improvement; 2006.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immons R, Fajans P, Ghiron L.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Scaling up health service deliver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Geneva: The World Health Organization, 2007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ictora C, Hanson K, Bryce J, Vaughan P. Achieving universal coverage with health interventions.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Lance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2004; 364: 1541-1548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Crossing the Quality Chasm: A New Health System for the 21st Centur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Committee on Quality of Health Care in America, Institute of Medicine. Washington, DC, USA: National Academies Press; 2001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ogers E.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Diffusion of Innovation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New York: The Free Press, 1995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7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Slide Number Placeholder 4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Slide Number Placeholder 3"/>
          <p:cNvSpPr/>
          <p:nvPr/>
        </p:nvSpPr>
        <p:spPr>
          <a:xfrm>
            <a:off x="609480" y="630540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F6E7-B8B5-41CC-A121-360E1DD930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lected 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ngham LJ, Hanson K. “Scaling up in international health: what are the key issues?”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ealth Policy and Planning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2010; 25:85-96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ougherty D, Conway P. The “3T’s” Road Map to Transform US Health Care.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JAM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2008; 299 (19):2319-2321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reenhalgh T, Robert G, Macfarlane F, Bate P, Kyriakidou O. Diffusion of Innovations in Service Organizations: Systematic Review and Recommendations.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Milbank Quarterl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2004; 82: 581-629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oley L., Kohl R.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Scaling Up: From Vision to Large-scale Chang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ashington, DC: Management Systems International, 2006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2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lide Number Placeholder 4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Slide Number Placeholder 3"/>
          <p:cNvSpPr/>
          <p:nvPr/>
        </p:nvSpPr>
        <p:spPr>
          <a:xfrm>
            <a:off x="609480" y="630540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8E1B-63A4-4C6C-804D-86A03A8D56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lected 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cCannon CJ, Schall MW, Perla RJ.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lanning for Scale: A Guide for Designing Large-Scale Improvement Initiative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IHI Innovation Series white paper. Cambridge, Massachusetts: Institute for Healthcare Improvement; 2008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cCannon CJ, Berwick DM, Massoud MR. The Science of Large-Scale Change in Global Health.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JAM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October 24/31, 2007; 298: 1937 - 1939.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rwick DM. Disseminating innovations in health care.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JAM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2003;289(15):1969-1975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radach J. Scaling Impact.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Stanford Social Innovation Review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Summer 2010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7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Slide Number Placeholder 4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3"/>
          <p:cNvSpPr/>
          <p:nvPr/>
        </p:nvSpPr>
        <p:spPr>
          <a:xfrm>
            <a:off x="609480" y="630540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FA80-321B-4746-B650-096028C818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685800" y="1447920"/>
            <a:ext cx="7772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“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I think when people look back at our time, they will be amazed at one thing more than any other. It is this – that we do know more about ourselves now than people did in the past, but that very little of this knowledge has been put into effect.” –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Doris Less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6" name="Slide Numb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lide Number Placeholder 3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3E31-4585-4063-A9CC-3C425161BA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Do We Fail to Take Effective Practice to Sca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cause we lack incentives to do s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0" name="Slide Number Placeholder 3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9DA8-76E9-4FBB-B77A-42C0F15330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Footer Placeholder 3"/>
          <p:cNvSpPr/>
          <p:nvPr/>
        </p:nvSpPr>
        <p:spPr>
          <a:xfrm>
            <a:off x="8751960" y="6561000"/>
            <a:ext cx="19980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457200" y="615168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22400" y="205920"/>
            <a:ext cx="9021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ypical Expla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5" name="Oval 4"/>
          <p:cNvSpPr/>
          <p:nvPr/>
        </p:nvSpPr>
        <p:spPr>
          <a:xfrm>
            <a:off x="2741760" y="1600200"/>
            <a:ext cx="4421160" cy="426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Oval 5"/>
          <p:cNvSpPr/>
          <p:nvPr/>
        </p:nvSpPr>
        <p:spPr>
          <a:xfrm>
            <a:off x="3657600" y="2362320"/>
            <a:ext cx="251460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6"/>
          <p:cNvSpPr/>
          <p:nvPr/>
        </p:nvSpPr>
        <p:spPr>
          <a:xfrm>
            <a:off x="4648320" y="3352680"/>
            <a:ext cx="533160" cy="60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AutoShape 8"/>
          <p:cNvSpPr/>
          <p:nvPr/>
        </p:nvSpPr>
        <p:spPr>
          <a:xfrm rot="7588800">
            <a:off x="5410080" y="35812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9"/>
          <p:cNvSpPr/>
          <p:nvPr/>
        </p:nvSpPr>
        <p:spPr>
          <a:xfrm>
            <a:off x="4190040" y="4343400"/>
            <a:ext cx="1160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10"/>
          <p:cNvSpPr/>
          <p:nvPr/>
        </p:nvSpPr>
        <p:spPr>
          <a:xfrm>
            <a:off x="4200480" y="5133960"/>
            <a:ext cx="161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s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11"/>
          <p:cNvSpPr/>
          <p:nvPr/>
        </p:nvSpPr>
        <p:spPr>
          <a:xfrm>
            <a:off x="4593960" y="3519360"/>
            <a:ext cx="66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Slide Number Placeholder 3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F66A-64D2-4242-80F0-4D497F30C4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Footer Placeholder 3"/>
          <p:cNvSpPr/>
          <p:nvPr/>
        </p:nvSpPr>
        <p:spPr>
          <a:xfrm>
            <a:off x="8751960" y="6561000"/>
            <a:ext cx="19980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lide Number Placeholder 4"/>
          <p:cNvSpPr/>
          <p:nvPr/>
        </p:nvSpPr>
        <p:spPr>
          <a:xfrm>
            <a:off x="457200" y="615168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220320" y="282240"/>
            <a:ext cx="89233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More Accurate Represent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7" name="Oval 4"/>
          <p:cNvSpPr/>
          <p:nvPr/>
        </p:nvSpPr>
        <p:spPr>
          <a:xfrm>
            <a:off x="2590920" y="1447920"/>
            <a:ext cx="4724280" cy="457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Oval 5"/>
          <p:cNvSpPr/>
          <p:nvPr/>
        </p:nvSpPr>
        <p:spPr>
          <a:xfrm>
            <a:off x="2895480" y="1752480"/>
            <a:ext cx="4114800" cy="3962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Oval 6"/>
          <p:cNvSpPr/>
          <p:nvPr/>
        </p:nvSpPr>
        <p:spPr>
          <a:xfrm>
            <a:off x="3352680" y="2209680"/>
            <a:ext cx="3276720" cy="2819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9"/>
          <p:cNvSpPr/>
          <p:nvPr/>
        </p:nvSpPr>
        <p:spPr>
          <a:xfrm>
            <a:off x="4425120" y="5105520"/>
            <a:ext cx="1160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10"/>
          <p:cNvSpPr/>
          <p:nvPr/>
        </p:nvSpPr>
        <p:spPr>
          <a:xfrm>
            <a:off x="4159440" y="5638680"/>
            <a:ext cx="15444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ssemin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11"/>
          <p:cNvSpPr/>
          <p:nvPr/>
        </p:nvSpPr>
        <p:spPr>
          <a:xfrm>
            <a:off x="4593960" y="3519360"/>
            <a:ext cx="66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eft-Right Arrow 12"/>
          <p:cNvSpPr/>
          <p:nvPr/>
        </p:nvSpPr>
        <p:spPr>
          <a:xfrm rot="3313800">
            <a:off x="5063400" y="4241160"/>
            <a:ext cx="1768320" cy="661680"/>
          </a:xfrm>
          <a:prstGeom prst="leftRightArrow">
            <a:avLst>
              <a:gd name="adj1" fmla="val 50000"/>
              <a:gd name="adj2" fmla="val 5002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AF3E-B6EC-4630-81FB-EB1A7105B6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Do We Fail to Take Effective Practice to Sca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cause we lack incentives to do s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cause we don’t expect to do s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7" name="Slide Number Placeholder 3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121E-60A1-48BA-9E33-46549AE66D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Do We Fail to Take Effective Practice to Sca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cause we lack incentives to do s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cause we don’t expect to do s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cause we don’t appreciate how large-scale  change unfol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0" name="Slide Number Placeholder 3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80B7-198C-42E7-8C2D-8F5FF473A2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Sequence of Chan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457200" y="144756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26960" indent="-42696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 innovative discove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26960" indent="-42696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demonstration in 50 hospital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26960" indent="-42696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utstanding results in 4 sta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26960" indent="-42696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terest from purchasers and payer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26960" indent="-42696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state law in 14 sta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26960" indent="-42696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national manda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26960" indent="-42696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part of graduate-level trainin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26960" indent="-42696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 expectation and a standar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26960" indent="-42696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fidence in ability to make chang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26960" indent="-42696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re ambitious aim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3" name="Footer Placeholder 3"/>
          <p:cNvSpPr/>
          <p:nvPr/>
        </p:nvSpPr>
        <p:spPr>
          <a:xfrm>
            <a:off x="1676520" y="6153120"/>
            <a:ext cx="52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Slide Number Placeholder 4"/>
          <p:cNvSpPr/>
          <p:nvPr/>
        </p:nvSpPr>
        <p:spPr>
          <a:xfrm>
            <a:off x="457200" y="615312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4T16:31:58Z</dcterms:created>
  <dc:creator>juran</dc:creator>
  <dc:description/>
  <dc:language>en-US</dc:language>
  <cp:lastModifiedBy>emily.moser</cp:lastModifiedBy>
  <dcterms:modified xsi:type="dcterms:W3CDTF">2011-04-14T17:54:08Z</dcterms:modified>
  <cp:revision>308</cp:revision>
  <dc:subject/>
  <dc:title>Slide 1</dc:title>
</cp:coreProperties>
</file>