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  <p:sldId id="274" r:id="rId45"/>
    <p:sldId id="275" r:id="rId46"/>
    <p:sldId id="276" r:id="rId47"/>
    <p:sldId id="277" r:id="rId48"/>
    <p:sldId id="278" r:id="rId49"/>
    <p:sldId id="279" r:id="rId50"/>
    <p:sldId id="280" r:id="rId51"/>
    <p:sldId id="281" r:id="rId52"/>
    <p:sldId id="282" r:id="rId5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slide" Target="slides/slide19.xml"/><Relationship Id="rId46" Type="http://schemas.openxmlformats.org/officeDocument/2006/relationships/slide" Target="slides/slide20.xml"/><Relationship Id="rId47" Type="http://schemas.openxmlformats.org/officeDocument/2006/relationships/slide" Target="slides/slide21.xml"/><Relationship Id="rId48" Type="http://schemas.openxmlformats.org/officeDocument/2006/relationships/slide" Target="slides/slide22.xml"/><Relationship Id="rId49" Type="http://schemas.openxmlformats.org/officeDocument/2006/relationships/slide" Target="slides/slide23.xml"/><Relationship Id="rId50" Type="http://schemas.openxmlformats.org/officeDocument/2006/relationships/slide" Target="slides/slide24.xml"/><Relationship Id="rId51" Type="http://schemas.openxmlformats.org/officeDocument/2006/relationships/slide" Target="slides/slide25.xml"/><Relationship Id="rId52" Type="http://schemas.openxmlformats.org/officeDocument/2006/relationships/slide" Target="slides/slide26.xml"/><Relationship Id="rId53" Type="http://schemas.openxmlformats.org/officeDocument/2006/relationships/slide" Target="slides/slide27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dt" idx="45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 type="ftr" idx="46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6"/>
          <p:cNvSpPr>
            <a:spLocks noGrp="1"/>
          </p:cNvSpPr>
          <p:nvPr>
            <p:ph type="sldNum" idx="47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19BE8-F716-4AD6-A086-88E0C0C94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E40C7-3719-4790-84CC-BBE4955CF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4E45E-4A0F-462E-8A58-1297BCF05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77969-8DA2-4CC1-861E-A49B4D67D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D6B0F-4C88-47EA-8374-18E4EEE9E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D495-79D3-4AA0-93E2-6AAFD2B2F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DC77F-E036-4D93-A82E-DF5640350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should scale-up programs select their aims? What are typical (aggressive) patterns of spread, in terms of rate and sca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change efforts introduce narrative methods in order to increase emotional engagement of prospective participa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E160E-B3CE-4374-B2F9-CB2903005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B5BB2-5680-4267-BA2D-11785CA54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10734-4AED-45FC-903A-E1A5E4067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73759-39E6-47F3-BF53-02CFFF69F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CE36B-9BEE-4CDC-9AA5-E0CD2D2E0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E2DB5-6344-4C29-9E47-3BF7C2414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1BF61-EAAF-4326-9195-FD9B46E2E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F6D39-D20D-4BEF-BAE3-F404F0B98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1B5B6-AAAC-4E98-B80A-7D6E83619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B1522-2670-4216-9EBC-1381F41AE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566640" y="4995720"/>
            <a:ext cx="5975280" cy="246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4F365-E8D5-449E-97AF-F1879B023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E01BB-9908-4311-BF03-54A63CDFE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165AB-9A54-47E4-B164-A6555332B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566640" y="4995720"/>
            <a:ext cx="5975280" cy="2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578AD-4AB4-4F75-A0D2-5F7C8D6A6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566640" y="4995720"/>
            <a:ext cx="5975280" cy="2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B07B7-67FE-4C85-BA45-655AF4D69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6B195-5DD6-4F5B-840F-0492BC1C6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E56F2-4A75-47E0-885C-A29F69807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E76BA-49DA-4D6B-8B6D-149304F8C5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E3C5F-A733-49CF-95BB-C57E3530350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9DCC1A1-30BC-47D1-A676-D7BF9D89DDB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691263-FEA8-44F2-8AA1-F3AA52E77D2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49840"/>
            <a:ext cx="82296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BE085E-657E-499B-B955-C63264C5E63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CF8EA5E-97FA-487C-B428-E997E88EB50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E2374A4-E6CF-4E9D-B2E8-6FFBCA76859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EA7645-F91F-4E6B-A506-97980B43E0C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7AA4F4-EA6A-426F-BD46-3BE858348DD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53319FA-109A-4F8B-805B-BF88EB265DF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C84C7A-6336-4587-8C53-C1EA0AF93C6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C580E-9ABE-43E6-ADA5-57D54684DB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EC26F-9578-4994-9785-134F540F078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3AAF9-5FB4-46DB-8EDF-E1951E9C722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A0A626-5F5A-442A-BCEB-84AB252AE75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FA709A-9437-4445-8137-3E8BB383AAE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29E73-5799-4EF6-8927-D8552F5D3EC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457200" y="249840"/>
            <a:ext cx="82296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75DBB-ACAE-46E8-84BD-256B00069DA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6B80A-1E39-49CB-9DF2-75BE4A5944C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0FB76-010D-4CA5-8DCB-25150E171C8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F0727-2D20-42FA-8575-9C94A6DBB1F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123218-AE34-4270-8A35-9830648F1E1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9DECEE-8028-4FEB-B400-45CAC51F62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10195-28F9-4297-8840-2BAEA2C5733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572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3964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02208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B43E5-52B9-49F8-9414-D37A0015311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B36D61-954E-41AC-B344-70184D9D6649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BECDB6-55F4-48FB-9057-B921D17A0D1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8DFAAF-6E32-4D92-A571-0FDFB057111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5A7413-EF1A-42B0-A377-BDB292F80A6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E5C85C-C41A-4B1D-91FF-9E564E4C29F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49840"/>
            <a:ext cx="82296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4B9850-2C2A-4FA6-B57F-F1D139E0713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E59675-C306-4866-9555-E4196497079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0CC726-B0DF-403C-AA53-68B9B5D9C89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DCD973-5080-478A-8168-2490D0D36F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E34FEC-7E8A-4278-BE58-1D0518394B6A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88C6F4-07ED-4005-8A9F-90E907B73FE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B9B50C-9B19-421D-91DF-0F3D5B9FEBA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369F40-6267-47AC-9D10-350DA4ACBB9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DEC72A3-91A4-4C35-9D61-65B3F85A1D7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F068E4-4874-4239-A676-B12E53200FC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9CD1797-EA73-41B5-9800-D280D87F62E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C4FDC48-47BF-4CE9-8B02-09D1A9E257D3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DDB895F-8A8D-43A1-AE64-D06239F9EA3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49840"/>
            <a:ext cx="82296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5E457EE-6E9D-4367-AE30-A432F333FBA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689DC9D-CD65-43B5-B7B5-BF039111A08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ED759D-451E-4E54-8818-E6D8984AB519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DEBC52A-199B-4CB8-BE14-65D58A844A4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4183BE9-CD49-44BA-8C7A-E0E162C1571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5F63436-8D38-492C-A6ED-A6C67CBD7DF4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6A30567-26EF-4D93-9212-3DB911E65C77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68DE1D5-2ABA-4815-B40C-B73E2F7CBE5A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9EA0DC-A1A2-4044-B440-08AFA24B3CBF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6F33A1-1A6A-4ED1-883A-4DCA3215CC30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7F68B9-E139-4902-8D12-5F789CED13EA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300B50-7358-424D-B02C-CFC469CFC598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0561C9-129D-4149-BD19-5EC98BFD4D4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D76EB2-8F59-4674-AEEE-FD4A367DD7AD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457200" y="249840"/>
            <a:ext cx="82296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B85AAF-9092-44E4-BAE7-B560C8A13E56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94E076-7B6B-4080-8665-156F62FF783F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CDC7EE-60CA-43F6-BD45-BFEC0ADFEB83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DB16CA-8F8A-4887-9EB6-0E256179A012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496A90-A8A2-48D7-A274-A52114F4FE7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C386B3-B47A-4CA7-AD5C-E6EAD38E0B56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572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3964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02208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1DEE30-2D8B-4BDD-AA67-3EF5B0D9284B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61AABE-377C-4590-9A96-30CFEE1B6716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457200" y="249840"/>
            <a:ext cx="82296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572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3964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2208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FF5958-C9E7-44BC-B09B-8E442B5593E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0418DC-3CBF-45D9-A872-9E7A355A9C31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E1ECF5-B892-47BC-8514-BE3A32BF4206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0FEA81-85D7-4F4F-935C-D60965E1E3AA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B7D155-74EB-41FF-A8A7-4A84EE069F48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1BA783-4005-407D-8C0F-635E3392C763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457200" y="249840"/>
            <a:ext cx="82296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88C895-6444-40BB-AC95-0EFB02F911B9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CB3224-2AC2-4087-8058-F373BC20C6B9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4305CE-9C16-4DD0-A9AC-1F4CCBD14914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BC80C7-3130-47DB-9683-8962EC6C1480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B024CD-2825-4EA0-9C3A-2D6B7628F2F3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B0252C-03CA-4B88-9006-1420172C66C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49840"/>
            <a:ext cx="82296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CA1131-F527-4E5B-922D-0A21784DA349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572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3964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2208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04E8ED-4054-4BD9-8696-9537C4AE54BC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16C518-1D69-4792-9C83-2A5DC2F7D7AE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15231D-48CB-4CCF-B1D6-D68BC1E77743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05EA25-1A34-4673-888E-7F03C28592F2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84FB5E-2581-4E80-84C8-73E888250CDC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91DD27-D8C0-43BF-BD53-D81C36B44C6C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249840"/>
            <a:ext cx="82296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101DFF-D581-49D8-9B58-101C69039711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5DE8F8-4F3F-4E3D-8AB2-B5E139003BE9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D24786-2360-4A9E-BC35-3E95A61DB462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2DC999-8554-4F59-995E-85C9EA91D83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C7FC2E-4CA4-4238-86EE-DB729F438354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4634EF-A153-448F-A2B7-307BDEDAEBCE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4FB90A-9B58-4516-9803-A0BBF689EFA1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800DAB-E83D-442A-8D0C-5504F473886E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A0F294-441C-4337-A165-2FAEB0226C54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7D844F-60D7-4284-B541-7C93C6D6630A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BF556A-1E8D-4E25-BC95-E3AC0D9522E3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EE33B6-746D-4D3F-80CB-B72E3932FECD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6898FF-1858-41BB-8FE5-FFA2D9EDDDED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457200" y="249840"/>
            <a:ext cx="82296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2139B6-6C5C-4FAE-A895-79A19368CCBC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366FD4-F295-402F-AB2C-8EF395CB96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3FBE0-8ECC-4913-A27E-D41EF3AAC4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47A20E-60B9-439A-8F1E-5B33DCAD0C6B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7F625A-E96C-4716-A7D6-00728111A76D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FC80F3-077F-4701-8E6A-B2CE135D793C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BF71BA-736B-4CF7-9BD7-8DDC66F50747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C5B539-FBFA-4926-9F4E-F4597314D044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572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23964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602208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FD63C3-44BC-4EA2-AF34-650F568C7FFF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719D1A0-F21A-401E-BD7A-FADBBA3984C1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F52CBB9-04CD-4226-A9E4-70B278F0201C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C55197D-53DF-4C89-BEF5-3181229DA5DF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920FB05-9F73-4FCF-B557-C5DC0CFF08D8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330B551-9231-403B-B4A4-25A9E7C88D1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64160B-DCCD-48B5-9507-DFBCCF8376FB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ubTitle"/>
          </p:nvPr>
        </p:nvSpPr>
        <p:spPr>
          <a:xfrm>
            <a:off x="457200" y="249840"/>
            <a:ext cx="82296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6B6C152-7EAD-4F23-9446-7B474F09BC83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CAC40E4-6BFB-4EF2-95E8-6BB89ECA3D17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18444C7-32B7-4C0C-A42A-45ECE42B6A28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2944450-94B2-48B3-B971-739719CBDBA0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9273DCD-4BC9-4AFE-8F22-081619BB394A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70EA193-678D-43F7-89B7-ED440D4F86FB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4572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0" name="PlaceHolder 6"/>
          <p:cNvSpPr>
            <a:spLocks noGrp="1"/>
          </p:cNvSpPr>
          <p:nvPr>
            <p:ph/>
          </p:nvPr>
        </p:nvSpPr>
        <p:spPr>
          <a:xfrm>
            <a:off x="323964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1" name="PlaceHolder 7"/>
          <p:cNvSpPr>
            <a:spLocks noGrp="1"/>
          </p:cNvSpPr>
          <p:nvPr>
            <p:ph/>
          </p:nvPr>
        </p:nvSpPr>
        <p:spPr>
          <a:xfrm>
            <a:off x="602208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EEE8615-B3E3-4CF1-AA3B-9CE0A0931A11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0FEB48-31F4-48BE-951B-1F2E88ECE53B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AFF45D-6C95-4C85-B2B5-CB21143A4D16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6914CB-4A38-4E38-9C7A-725025E1486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4E5D1F-ED49-4BF1-9C85-77497FE362C9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AD168D-8C3A-4FBD-A722-47CCD7D253E3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0E1457-681E-4DA9-94F6-2C23061D14D8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457200" y="249840"/>
            <a:ext cx="82296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2ECA67-4CD0-4B26-89B6-EB584326BE6F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5CFA5E-0F2D-4814-85E3-143B42179B40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F921AD-45D9-43DA-B347-9F24FBAF104C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72977F-53FE-4BFC-A2FF-815B30D77ACF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635ADC-58C5-43F1-8776-9222FEE22DC0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3DC503-E5D4-411E-8BCA-5004BF0829FD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572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3964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2208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46722E-433E-4D37-BC9E-91E73AF27A13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53283F-47BF-45F8-8CAC-196B0F33E37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300AC3-D3E6-4375-A323-EDFDEC2000FF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C357FE-80C6-4743-8E52-1023AC1FF093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B50747-F4F5-4958-90D3-34AC8E938B34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9DFDEE-C557-48C9-B9A6-842273E15D0D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6B163E-5A23-429B-BB1A-5E5C1A5E555E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ubTitle"/>
          </p:nvPr>
        </p:nvSpPr>
        <p:spPr>
          <a:xfrm>
            <a:off x="457200" y="249840"/>
            <a:ext cx="82296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80E392-0F76-4DD0-82F0-248D8B9ACF77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D79381-92C1-4AC8-9EDF-1042D0D52817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83D76C-B420-4004-B137-79635FE7A974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F3AA27-4EA1-46BC-ACB4-794548CBE6BD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FC4549-6631-4EAD-8668-93C0DC460842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CAFE59-263E-4D92-8011-52573B0F060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3B2E5A-7542-4F3C-931C-399426B882BC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572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0" name="PlaceHolder 6"/>
          <p:cNvSpPr>
            <a:spLocks noGrp="1"/>
          </p:cNvSpPr>
          <p:nvPr>
            <p:ph/>
          </p:nvPr>
        </p:nvSpPr>
        <p:spPr>
          <a:xfrm>
            <a:off x="323964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1" name="PlaceHolder 7"/>
          <p:cNvSpPr>
            <a:spLocks noGrp="1"/>
          </p:cNvSpPr>
          <p:nvPr>
            <p:ph/>
          </p:nvPr>
        </p:nvSpPr>
        <p:spPr>
          <a:xfrm>
            <a:off x="602208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031A55-4A36-4F1B-BEDF-A733F37EF688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A8FF0FC-7588-4102-948C-3769E4B7AF39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74F3C37-F724-435A-B2F4-90BCF8EEAE49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A0EF42F-B55C-47E8-8312-F723EBCF583C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54AFB55-902E-4698-92BB-E5BA79A231DE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E87A391-5914-4E79-9585-74BCF127E666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ubTitle"/>
          </p:nvPr>
        </p:nvSpPr>
        <p:spPr>
          <a:xfrm>
            <a:off x="457200" y="249840"/>
            <a:ext cx="82296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4D5BFBB-7C16-4D53-B31E-169981C214FB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097B671-38D3-4C7E-8CD4-3D0DC45D5457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DBF708C-61C9-4B93-AF9D-35DCA39EEBD3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5488C0C-EE46-422F-9321-539A003DF52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06F7258-FDFF-4E6C-8CB1-14A6BD399F92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9EB30F4-EB4B-452D-9981-66CE0E42E6EF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572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0" name="PlaceHolder 6"/>
          <p:cNvSpPr>
            <a:spLocks noGrp="1"/>
          </p:cNvSpPr>
          <p:nvPr>
            <p:ph/>
          </p:nvPr>
        </p:nvSpPr>
        <p:spPr>
          <a:xfrm>
            <a:off x="323964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1" name="PlaceHolder 7"/>
          <p:cNvSpPr>
            <a:spLocks noGrp="1"/>
          </p:cNvSpPr>
          <p:nvPr>
            <p:ph/>
          </p:nvPr>
        </p:nvSpPr>
        <p:spPr>
          <a:xfrm>
            <a:off x="602208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5110D7B-2854-4B63-9493-B43C5634FBDE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C2778D9-F553-4EFD-B5DC-054BC28B4AF9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D832E77-727F-4B11-90E4-9116396E4E91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AA81B37-44AF-4FA6-BF0C-D175DD6B4B10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B0AC94E-A08B-46F9-A661-910F0B8FCC1E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6539F5F-F767-4A9B-BA6F-B278591E2DFA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ubTitle"/>
          </p:nvPr>
        </p:nvSpPr>
        <p:spPr>
          <a:xfrm>
            <a:off x="457200" y="249840"/>
            <a:ext cx="82296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92CD263-D0AF-4CD0-BB25-B68D4E23B6EC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A85A5FA-9E7A-4ABD-8B0C-32A9971614B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8446E8E-B67E-479F-8CE8-E31063CAD8E0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C9AB7CF-D52D-4485-AD4D-486D1CFF628B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07E1683-0350-479A-813C-08D30DDA1FB6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AEE8733-ACF7-4D43-BFEA-895330C96CF0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/>
          </p:nvPr>
        </p:nvSpPr>
        <p:spPr>
          <a:xfrm>
            <a:off x="4572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0" name="PlaceHolder 6"/>
          <p:cNvSpPr>
            <a:spLocks noGrp="1"/>
          </p:cNvSpPr>
          <p:nvPr>
            <p:ph/>
          </p:nvPr>
        </p:nvSpPr>
        <p:spPr>
          <a:xfrm>
            <a:off x="323964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1" name="PlaceHolder 7"/>
          <p:cNvSpPr>
            <a:spLocks noGrp="1"/>
          </p:cNvSpPr>
          <p:nvPr>
            <p:ph/>
          </p:nvPr>
        </p:nvSpPr>
        <p:spPr>
          <a:xfrm>
            <a:off x="602208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0CEF806-AA8E-4298-981B-67D8E1106AA2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449EDE-983D-4C4A-AF3E-FFBEF03D9F38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ADA301-BEF8-400B-BB3B-2E618BBCC368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3405CC-59B0-45A8-9BD6-C0A564E14145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19DFB7-B989-4791-A578-73110C9A77AD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A22ECA-F618-4ACB-8C1F-E6092EE7AF4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ubTitle"/>
          </p:nvPr>
        </p:nvSpPr>
        <p:spPr>
          <a:xfrm>
            <a:off x="457200" y="249840"/>
            <a:ext cx="82296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45137D-D306-48BF-91A2-867CFFAFA215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04EE77-6419-417B-80E9-23D7ADC65CDC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F2FD64-E65B-4C7C-A1F4-DAAB1AA97B23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3BB618-556F-43AD-AB52-A7C77540823A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7F3EB6-6913-40F2-B7A2-FF42BD2CDDCB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8E3530-4A6A-4A44-B558-17470B2771FE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4572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0" name="PlaceHolder 6"/>
          <p:cNvSpPr>
            <a:spLocks noGrp="1"/>
          </p:cNvSpPr>
          <p:nvPr>
            <p:ph/>
          </p:nvPr>
        </p:nvSpPr>
        <p:spPr>
          <a:xfrm>
            <a:off x="323964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1" name="PlaceHolder 7"/>
          <p:cNvSpPr>
            <a:spLocks noGrp="1"/>
          </p:cNvSpPr>
          <p:nvPr>
            <p:ph/>
          </p:nvPr>
        </p:nvSpPr>
        <p:spPr>
          <a:xfrm>
            <a:off x="602208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0ED1A5-6A43-4AAE-A913-C53857B52C46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C9576B2-7F10-4E58-9180-17B097E3A9FD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24558EE-0ECA-4FD6-A13C-780E7F41AE53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82C2AA6-5046-4F22-B085-8A4AA6952C5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52B2E49-DDA6-45D8-84C2-C52C493DA34C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D7FBEF4-913C-4D31-A539-032F56F8973A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457200" y="249840"/>
            <a:ext cx="82296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1B271D0-6254-45A5-AD9A-833003FA64DC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AF2569D-43A0-4581-8654-5468F359A431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5D0D858-1F2E-4679-AB3C-68E5D317F0D2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0D65BB6-F1AC-44A6-A872-354A02C1AC16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E3462CD-5309-4937-81E3-FB910A3111FE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5B9B6AF-75EC-4B96-889C-7E4A55426095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4572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3964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02208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9E990F1-8BE2-408F-B3B6-9D7B4707F6E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74107-1FFE-4C63-8230-A2A278DF163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49840"/>
            <a:ext cx="82296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7C0DF-9B86-438A-8D19-98BCEB48E5B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53EE5-7D67-46A6-8C4E-3F940CC3DE0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67B86-CF11-4C91-9C87-48E069CD87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4C6CB-2E47-4F9D-8C9C-CE22EF33743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5A253-2956-449D-AC4B-8ECBCC1EAF4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ED9F0-8684-4226-94CC-31CCD8B5520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49840"/>
            <a:ext cx="82296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9FE16-4CC8-4423-AE32-9E8699B2701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79E27-9C98-4832-9409-D8DF4E011C4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2B5DE-1054-4E9E-84C2-07D1499B96D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6608A-8588-4678-9C24-F12FC206531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7F811-7E45-40D4-A85E-1597A62CA12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4008D-77EC-41EF-A106-61A7575F4E4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2596B-EE1A-4EB8-82B4-82B1CAA5BE9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6432B7-AA59-4EFA-AF33-219C75352B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923C6-BAD0-4104-974A-7AA34ECAA7E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155CD5-1EAD-47FB-9319-26200149351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1836BB-029C-4439-9F8E-57BF3FDA307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ADB529-22CD-4ECA-A220-1BF8149245E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01CFE6-8C13-4124-856E-3F9EAE77CCF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49840"/>
            <a:ext cx="82296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9EDD8A-3B1E-4D3F-9629-94139BCB549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FC6310-D110-4774-805D-C2A0D89D522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F26CCD-20BB-4190-BF91-C4879E51AFE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E2D8A5-7919-4021-B046-1F9BCA5C415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181880-746B-4889-B955-FC2574A3C46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4F3D30-753D-417F-B41C-444B55E984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49840"/>
            <a:ext cx="82296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B7483-2F91-443D-BD82-61BB3117D8C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6B4618-5E6A-4653-BC70-F4A99192BA8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DF83D6-C4E8-4205-8B4B-066BD3DF6E5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DC92FB-4B64-473A-AD61-5AD177ECA36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E67CFB-5CE9-4EC7-9FD9-51FDCC22EB2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7F3A5F-6758-47A6-A830-EB71678A932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58B410-7C5B-4E8C-AF01-23B5A14E483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49840"/>
            <a:ext cx="82296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51F7A7-95C0-4F69-BF51-1336179F723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EADB1A-704E-4A14-9362-C324F82304D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502CEF-11A5-46CD-96FD-781F20D27ED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562893-B55B-44E8-85BC-C08737AF01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69C2D-C31E-49A7-8E6A-0C2A7E4BED7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FB61CA-CB4B-4173-8943-286727EE041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87746F-7CE3-4EE6-A42B-68696E93AC1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18E859-97DE-4DB1-8AA6-81997B5BE0D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2D6C4-CC1C-4DF1-9F56-D604E9C2042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D8AA2-FE18-44DB-95FF-A41F2FDBFDA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657BC-C992-4DC3-AE29-D2C8F1B6477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B0DA1-D36B-4DCD-814E-F0BAF77B851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16454-1660-4C22-AD15-EB93267157A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49840"/>
            <a:ext cx="82296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FA538-197D-4CA2-B265-079165F3140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6BC54-8DFC-4FB0-9CAD-06B14C353A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0FD4E-C1E8-43B8-A92B-030DC073C4E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21D1B-E19F-4991-BA11-AA4AB74DED0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DE54E-9001-4947-A34B-2C0C54435D2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88C4B-5F09-4808-ABBF-77A89F254D8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C33D5-BAAC-4571-84DA-D035413E05A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0DE86-9919-4F48-B881-CEEEA273E10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58613A-C65C-41DD-B780-94B853CBB4B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07CB07-8EDF-4BCB-89BC-9983E0861EA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798E18-8ACB-41E1-8FD4-C7D49CC7AA2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0AD043-658F-4412-ADF2-F08574D4E15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898A3B-F1F3-4C71-9FED-AE5A2EDE8F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B29F1-9DE8-4F92-A8C6-1E060F96C62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49840"/>
            <a:ext cx="82296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3696B5-699D-475E-B15E-479B4C8C1FF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FF83EB-AC2D-4B33-9C6C-512CAB13310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6F6D89-78FC-4180-9036-7992690BF51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D3F714-770F-4A61-AFA3-CBC5127584C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797FC9-A562-4B93-BE29-69D560525AC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595691-ECBD-465D-9078-DF91CB2AD64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C3C047-0BBA-4AF5-A7CD-275C8EFB2D8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E79E65-2225-41E6-89E0-F6945F94D61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1E4054-57EB-46E2-9931-060B4171389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8CF505-E75F-4483-8E06-3814295F32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4a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Picture 7" descr="IHI_LogoWhite"/>
          <p:cNvPicPr/>
          <p:nvPr/>
        </p:nvPicPr>
        <p:blipFill>
          <a:blip r:embed="rId2"/>
          <a:stretch/>
        </p:blipFill>
        <p:spPr>
          <a:xfrm>
            <a:off x="7238880" y="6019920"/>
            <a:ext cx="1700280" cy="657000"/>
          </a:xfrm>
          <a:prstGeom prst="rect">
            <a:avLst/>
          </a:prstGeom>
          <a:ln w="0">
            <a:noFill/>
          </a:ln>
        </p:spPr>
      </p:pic>
      <p:sp>
        <p:nvSpPr>
          <p:cNvPr id="3" name="Rectangle 8"/>
          <p:cNvSpPr/>
          <p:nvPr/>
        </p:nvSpPr>
        <p:spPr>
          <a:xfrm>
            <a:off x="301680" y="1249200"/>
            <a:ext cx="8537400" cy="4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1676160" y="6152760"/>
            <a:ext cx="5257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457200" y="6152760"/>
            <a:ext cx="914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2C0D6-B37F-4ACF-BB89-B925F25330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4a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ftr" idx="17"/>
          </p:nvPr>
        </p:nvSpPr>
        <p:spPr>
          <a:xfrm>
            <a:off x="1676160" y="6152760"/>
            <a:ext cx="5257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sldNum" idx="18"/>
          </p:nvPr>
        </p:nvSpPr>
        <p:spPr>
          <a:xfrm>
            <a:off x="457200" y="6152760"/>
            <a:ext cx="914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F2FA1-23C4-49D6-A739-42B0F5D3D1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4a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ftr" idx="19"/>
          </p:nvPr>
        </p:nvSpPr>
        <p:spPr>
          <a:xfrm>
            <a:off x="1676160" y="6152760"/>
            <a:ext cx="5257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sldNum" idx="20"/>
          </p:nvPr>
        </p:nvSpPr>
        <p:spPr>
          <a:xfrm>
            <a:off x="457200" y="6152760"/>
            <a:ext cx="914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D3828-ACD3-4C38-8E28-2258719CAA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4a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ftr" idx="21"/>
          </p:nvPr>
        </p:nvSpPr>
        <p:spPr>
          <a:xfrm>
            <a:off x="1676160" y="6152760"/>
            <a:ext cx="5257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sldNum" idx="22"/>
          </p:nvPr>
        </p:nvSpPr>
        <p:spPr>
          <a:xfrm>
            <a:off x="457200" y="6152760"/>
            <a:ext cx="914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01E39-D128-4BA1-99D6-45FE0FAC6E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4a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ftr" idx="23"/>
          </p:nvPr>
        </p:nvSpPr>
        <p:spPr>
          <a:xfrm>
            <a:off x="1676160" y="6152760"/>
            <a:ext cx="5257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sldNum" idx="24"/>
          </p:nvPr>
        </p:nvSpPr>
        <p:spPr>
          <a:xfrm>
            <a:off x="457200" y="6152760"/>
            <a:ext cx="914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FBABA-C0EA-462A-B6A5-5A4C629BA9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IHI_LogoColor"/>
          <p:cNvPicPr/>
          <p:nvPr/>
        </p:nvPicPr>
        <p:blipFill>
          <a:blip r:embed="rId2"/>
          <a:stretch/>
        </p:blipFill>
        <p:spPr>
          <a:xfrm>
            <a:off x="3048120" y="325440"/>
            <a:ext cx="3047760" cy="1198440"/>
          </a:xfrm>
          <a:prstGeom prst="rect">
            <a:avLst/>
          </a:prstGeom>
          <a:ln w="0">
            <a:noFill/>
          </a:ln>
        </p:spPr>
      </p:pic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ftr" idx="25"/>
          </p:nvPr>
        </p:nvSpPr>
        <p:spPr>
          <a:xfrm>
            <a:off x="1600200" y="6152760"/>
            <a:ext cx="5410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sldNum" idx="26"/>
          </p:nvPr>
        </p:nvSpPr>
        <p:spPr>
          <a:xfrm>
            <a:off x="457200" y="6151320"/>
            <a:ext cx="914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8B556-80DB-4572-8A76-B0DA6D9A43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 type="ftr" idx="27"/>
          </p:nvPr>
        </p:nvSpPr>
        <p:spPr>
          <a:xfrm>
            <a:off x="1600200" y="6152760"/>
            <a:ext cx="5410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 type="sldNum" idx="28"/>
          </p:nvPr>
        </p:nvSpPr>
        <p:spPr>
          <a:xfrm>
            <a:off x="457200" y="6151320"/>
            <a:ext cx="914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28FF8-75B8-4908-BBF5-C3DBAFDCD4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ftr" idx="29"/>
          </p:nvPr>
        </p:nvSpPr>
        <p:spPr>
          <a:xfrm>
            <a:off x="1600200" y="6152760"/>
            <a:ext cx="5410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sldNum" idx="30"/>
          </p:nvPr>
        </p:nvSpPr>
        <p:spPr>
          <a:xfrm>
            <a:off x="457200" y="6151320"/>
            <a:ext cx="914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57D38-E5F1-4D14-A655-9732CBCBFE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 type="ftr" idx="31"/>
          </p:nvPr>
        </p:nvSpPr>
        <p:spPr>
          <a:xfrm>
            <a:off x="1600200" y="6152760"/>
            <a:ext cx="5410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 type="sldNum" idx="32"/>
          </p:nvPr>
        </p:nvSpPr>
        <p:spPr>
          <a:xfrm>
            <a:off x="457200" y="6151320"/>
            <a:ext cx="914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09467-6955-43C3-B7EF-3EED44634E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 type="ftr" idx="33"/>
          </p:nvPr>
        </p:nvSpPr>
        <p:spPr>
          <a:xfrm>
            <a:off x="1600200" y="6152760"/>
            <a:ext cx="5410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 type="sldNum" idx="34"/>
          </p:nvPr>
        </p:nvSpPr>
        <p:spPr>
          <a:xfrm>
            <a:off x="457200" y="6151320"/>
            <a:ext cx="914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5C9F5-8D58-4E37-A784-78DB1010E2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IHI_LogoColor"/>
          <p:cNvPicPr/>
          <p:nvPr/>
        </p:nvPicPr>
        <p:blipFill>
          <a:blip r:embed="rId2"/>
          <a:stretch/>
        </p:blipFill>
        <p:spPr>
          <a:xfrm>
            <a:off x="7238880" y="6019920"/>
            <a:ext cx="1676520" cy="6588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228600" y="1249200"/>
            <a:ext cx="8720280" cy="4608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226a55"/>
              </a:gs>
            </a:gsLst>
            <a:lin ang="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1600200" y="6152760"/>
            <a:ext cx="5410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457200" y="6151320"/>
            <a:ext cx="914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2B352-8611-4FD4-A82F-0AE58F55E6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 type="ftr" idx="35"/>
          </p:nvPr>
        </p:nvSpPr>
        <p:spPr>
          <a:xfrm>
            <a:off x="1600200" y="6152760"/>
            <a:ext cx="5410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 type="sldNum" idx="36"/>
          </p:nvPr>
        </p:nvSpPr>
        <p:spPr>
          <a:xfrm>
            <a:off x="457200" y="6151320"/>
            <a:ext cx="914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F9FF7-CEBC-4945-BC44-1105672636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 type="ftr" idx="37"/>
          </p:nvPr>
        </p:nvSpPr>
        <p:spPr>
          <a:xfrm>
            <a:off x="1600200" y="6152760"/>
            <a:ext cx="5410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 type="sldNum" idx="38"/>
          </p:nvPr>
        </p:nvSpPr>
        <p:spPr>
          <a:xfrm>
            <a:off x="457200" y="6151320"/>
            <a:ext cx="914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F7278-BBC0-4BDB-AFD9-0B0137F8FF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 type="ftr" idx="39"/>
          </p:nvPr>
        </p:nvSpPr>
        <p:spPr>
          <a:xfrm>
            <a:off x="1600200" y="6152760"/>
            <a:ext cx="5410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 type="sldNum" idx="40"/>
          </p:nvPr>
        </p:nvSpPr>
        <p:spPr>
          <a:xfrm>
            <a:off x="457200" y="6151320"/>
            <a:ext cx="914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7A77A-3492-4EA3-9121-1FC0E8E3AE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 type="ftr" idx="41"/>
          </p:nvPr>
        </p:nvSpPr>
        <p:spPr>
          <a:xfrm>
            <a:off x="1600200" y="6152760"/>
            <a:ext cx="5410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 type="sldNum" idx="42"/>
          </p:nvPr>
        </p:nvSpPr>
        <p:spPr>
          <a:xfrm>
            <a:off x="457200" y="6151320"/>
            <a:ext cx="914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EA882-26A1-49F7-84B0-8222BE3D68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ftr" idx="43"/>
          </p:nvPr>
        </p:nvSpPr>
        <p:spPr>
          <a:xfrm>
            <a:off x="1600200" y="6152760"/>
            <a:ext cx="5410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sldNum" idx="44"/>
          </p:nvPr>
        </p:nvSpPr>
        <p:spPr>
          <a:xfrm>
            <a:off x="457200" y="6151320"/>
            <a:ext cx="914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0989F-39DC-4FA9-BD71-05AC7E50B5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4a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IHI_LogoWhite"/>
          <p:cNvPicPr/>
          <p:nvPr/>
        </p:nvPicPr>
        <p:blipFill>
          <a:blip r:embed="rId2"/>
          <a:stretch/>
        </p:blipFill>
        <p:spPr>
          <a:xfrm>
            <a:off x="3048120" y="328680"/>
            <a:ext cx="3043080" cy="11746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4a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5"/>
          </p:nvPr>
        </p:nvSpPr>
        <p:spPr>
          <a:xfrm>
            <a:off x="1676160" y="6152760"/>
            <a:ext cx="5257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6"/>
          </p:nvPr>
        </p:nvSpPr>
        <p:spPr>
          <a:xfrm>
            <a:off x="457200" y="6152760"/>
            <a:ext cx="914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68CAB-191C-49CB-9FDB-A3012A403C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4a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ftr" idx="7"/>
          </p:nvPr>
        </p:nvSpPr>
        <p:spPr>
          <a:xfrm>
            <a:off x="1676160" y="6152760"/>
            <a:ext cx="5257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sldNum" idx="8"/>
          </p:nvPr>
        </p:nvSpPr>
        <p:spPr>
          <a:xfrm>
            <a:off x="457200" y="6152760"/>
            <a:ext cx="914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3D1D9-79AC-4A5D-9C98-C12E99BCBE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4a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ftr" idx="9"/>
          </p:nvPr>
        </p:nvSpPr>
        <p:spPr>
          <a:xfrm>
            <a:off x="1676160" y="6152760"/>
            <a:ext cx="5257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sldNum" idx="10"/>
          </p:nvPr>
        </p:nvSpPr>
        <p:spPr>
          <a:xfrm>
            <a:off x="457200" y="6152760"/>
            <a:ext cx="914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3AC02-92CC-406A-9B8C-F9231AA392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4a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11"/>
          </p:nvPr>
        </p:nvSpPr>
        <p:spPr>
          <a:xfrm>
            <a:off x="1676160" y="6152760"/>
            <a:ext cx="5257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2"/>
          </p:nvPr>
        </p:nvSpPr>
        <p:spPr>
          <a:xfrm>
            <a:off x="457200" y="6152760"/>
            <a:ext cx="914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C3CB6-3695-4CA3-85C6-86DCB504BB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4a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ftr" idx="13"/>
          </p:nvPr>
        </p:nvSpPr>
        <p:spPr>
          <a:xfrm>
            <a:off x="1676160" y="6152760"/>
            <a:ext cx="5257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sldNum" idx="14"/>
          </p:nvPr>
        </p:nvSpPr>
        <p:spPr>
          <a:xfrm>
            <a:off x="457200" y="6152760"/>
            <a:ext cx="914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0D271-FE91-4043-BE50-1D986D7624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4a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ftr" idx="15"/>
          </p:nvPr>
        </p:nvSpPr>
        <p:spPr>
          <a:xfrm>
            <a:off x="1676160" y="6152760"/>
            <a:ext cx="5257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sldNum" idx="16"/>
          </p:nvPr>
        </p:nvSpPr>
        <p:spPr>
          <a:xfrm>
            <a:off x="457200" y="6152760"/>
            <a:ext cx="914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BF5A3-66AE-45D1-8917-D2D443FAC8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800" y="741240"/>
            <a:ext cx="7772400" cy="144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Spread Problem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The Challenge and Promise of Delivery System Research: A Meeting of AHRQ Grantees, Experts, and Stakeholder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Joe McCannon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enters for Medicare and Medicaid Servic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February 17, 2011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-3024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y Do We Fail to Take Effective Practice to Sca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ecause we lack incentives to do s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ecause we don’t expect to do s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ecause we don’t appreciate how large-scale  change unfold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ecause we don’t know how to do so (or at least we don’t approach the challenge systematically enough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7" name="Slide Number Placeholder 3"/>
          <p:cNvSpPr/>
          <p:nvPr/>
        </p:nvSpPr>
        <p:spPr>
          <a:xfrm>
            <a:off x="457200" y="615312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08626-7894-492D-AF8C-0971B4114A5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Frame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9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267080"/>
          </a:xfrm>
          <a:prstGeom prst="rect">
            <a:avLst/>
          </a:prstGeom>
          <a:ln w="0">
            <a:noFill/>
          </a:ln>
        </p:spPr>
      </p:pic>
      <p:sp>
        <p:nvSpPr>
          <p:cNvPr id="1020" name="Footer Placeholder 3"/>
          <p:cNvSpPr/>
          <p:nvPr/>
        </p:nvSpPr>
        <p:spPr>
          <a:xfrm>
            <a:off x="1676520" y="6153120"/>
            <a:ext cx="5257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Slide Number Placeholder 4"/>
          <p:cNvSpPr/>
          <p:nvPr/>
        </p:nvSpPr>
        <p:spPr>
          <a:xfrm>
            <a:off x="457200" y="615312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2" name="Picture 2" descr="InfluentialFactorsImage"/>
          <p:cNvPicPr/>
          <p:nvPr/>
        </p:nvPicPr>
        <p:blipFill>
          <a:blip r:embed="rId2"/>
          <a:stretch/>
        </p:blipFill>
        <p:spPr>
          <a:xfrm>
            <a:off x="1600200" y="790560"/>
            <a:ext cx="6324480" cy="5915160"/>
          </a:xfrm>
          <a:prstGeom prst="rect">
            <a:avLst/>
          </a:prstGeom>
          <a:ln w="0">
            <a:noFill/>
          </a:ln>
        </p:spPr>
      </p:pic>
      <p:sp>
        <p:nvSpPr>
          <p:cNvPr id="1023" name="Slide Number Placeholder 3"/>
          <p:cNvSpPr/>
          <p:nvPr/>
        </p:nvSpPr>
        <p:spPr>
          <a:xfrm>
            <a:off x="609480" y="630540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53383-36B8-463A-964D-0E90820110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urrent Environment (Will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olitical and economic environmen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eadership engagemen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ioritization schem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rces for chang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centives for chang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6" name="Footer Placeholder 3"/>
          <p:cNvSpPr/>
          <p:nvPr/>
        </p:nvSpPr>
        <p:spPr>
          <a:xfrm>
            <a:off x="1676520" y="6153120"/>
            <a:ext cx="5257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Slide Number Placeholder 4"/>
          <p:cNvSpPr/>
          <p:nvPr/>
        </p:nvSpPr>
        <p:spPr>
          <a:xfrm>
            <a:off x="457200" y="615312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Slide Number Placeholder 3"/>
          <p:cNvSpPr/>
          <p:nvPr/>
        </p:nvSpPr>
        <p:spPr>
          <a:xfrm>
            <a:off x="609480" y="630540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247D7-B971-437F-8C21-E95B8AAF931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vers for 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"/>
          <p:cNvSpPr txBox="1"/>
          <p:nvPr/>
        </p:nvSpPr>
        <p:spPr>
          <a:xfrm>
            <a:off x="457200" y="121896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aymen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ransparenc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gul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nsationalis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uil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cogni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fessionalis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ffec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ersonal considerations (de-zombification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1" name="Footer Placeholder 3"/>
          <p:cNvSpPr/>
          <p:nvPr/>
        </p:nvSpPr>
        <p:spPr>
          <a:xfrm>
            <a:off x="1676520" y="6153120"/>
            <a:ext cx="5257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Slide Number Placeholder 3"/>
          <p:cNvSpPr/>
          <p:nvPr/>
        </p:nvSpPr>
        <p:spPr>
          <a:xfrm>
            <a:off x="457200" y="615312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7F13C-6DAB-4452-953F-EB8AB3B4BD8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undation (Timing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ior work to establish efficac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ior work to establish effectiveness on a smaller scal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gree of awarenes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gree of confidenc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5" name="Footer Placeholder 3"/>
          <p:cNvSpPr/>
          <p:nvPr/>
        </p:nvSpPr>
        <p:spPr>
          <a:xfrm>
            <a:off x="1676520" y="6153120"/>
            <a:ext cx="5257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Slide Number Placeholder 4"/>
          <p:cNvSpPr/>
          <p:nvPr/>
        </p:nvSpPr>
        <p:spPr>
          <a:xfrm>
            <a:off x="457200" y="615312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Slide Number Placeholder 3"/>
          <p:cNvSpPr/>
          <p:nvPr/>
        </p:nvSpPr>
        <p:spPr>
          <a:xfrm>
            <a:off x="609480" y="630540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06153-7ECD-435F-988B-AF33903DEF0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ram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oblem defini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xplicit aim-setting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acit aim-setting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perational imag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arrative image (predicted sequence of change over time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0" name="Footer Placeholder 3"/>
          <p:cNvSpPr/>
          <p:nvPr/>
        </p:nvSpPr>
        <p:spPr>
          <a:xfrm>
            <a:off x="1676520" y="6153120"/>
            <a:ext cx="5257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Slide Number Placeholder 4"/>
          <p:cNvSpPr/>
          <p:nvPr/>
        </p:nvSpPr>
        <p:spPr>
          <a:xfrm>
            <a:off x="457200" y="615312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Slide Number Placeholder 3"/>
          <p:cNvSpPr/>
          <p:nvPr/>
        </p:nvSpPr>
        <p:spPr>
          <a:xfrm>
            <a:off x="609480" y="630540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062D6-9798-4B69-9CB7-D031FAEF90B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ture of the Interven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vidence bas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motional resonanc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mplicit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rial-ability/Observabilit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5" name="Footer Placeholder 3"/>
          <p:cNvSpPr/>
          <p:nvPr/>
        </p:nvSpPr>
        <p:spPr>
          <a:xfrm>
            <a:off x="1676520" y="6153120"/>
            <a:ext cx="5257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Slide Number Placeholder 4"/>
          <p:cNvSpPr/>
          <p:nvPr/>
        </p:nvSpPr>
        <p:spPr>
          <a:xfrm>
            <a:off x="457200" y="615312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Slide Number Placeholder 3"/>
          <p:cNvSpPr/>
          <p:nvPr/>
        </p:nvSpPr>
        <p:spPr>
          <a:xfrm>
            <a:off x="609480" y="630540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F2DD5-2A18-40E7-8C26-6EF86C5C812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ructural Contex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ocal infrastructur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ocal patterns of behavior (centers of influence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ules bas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nancing paradigm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eograph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0" name="Footer Placeholder 3"/>
          <p:cNvSpPr/>
          <p:nvPr/>
        </p:nvSpPr>
        <p:spPr>
          <a:xfrm>
            <a:off x="1676520" y="6153120"/>
            <a:ext cx="5257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Slide Number Placeholder 4"/>
          <p:cNvSpPr/>
          <p:nvPr/>
        </p:nvSpPr>
        <p:spPr>
          <a:xfrm>
            <a:off x="457200" y="615312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Slide Number Placeholder 3"/>
          <p:cNvSpPr/>
          <p:nvPr/>
        </p:nvSpPr>
        <p:spPr>
          <a:xfrm>
            <a:off x="609480" y="630540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CF186-042C-4BEF-A908-8DA36513386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echnical approach to scale up O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ever mix”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ata collec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cursive evalua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Knowledge managemen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ogistics/resource managemen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5" name="Footer Placeholder 3"/>
          <p:cNvSpPr/>
          <p:nvPr/>
        </p:nvSpPr>
        <p:spPr>
          <a:xfrm>
            <a:off x="1676520" y="6153120"/>
            <a:ext cx="5257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Slide Number Placeholder 4"/>
          <p:cNvSpPr/>
          <p:nvPr/>
        </p:nvSpPr>
        <p:spPr>
          <a:xfrm>
            <a:off x="457200" y="615312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Slide Number Placeholder 3"/>
          <p:cNvSpPr/>
          <p:nvPr/>
        </p:nvSpPr>
        <p:spPr>
          <a:xfrm>
            <a:off x="609480" y="630540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4A918-65EC-4C75-B1AF-11A2802158E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Footer Placeholder 3"/>
          <p:cNvSpPr/>
          <p:nvPr/>
        </p:nvSpPr>
        <p:spPr>
          <a:xfrm>
            <a:off x="1676520" y="6153120"/>
            <a:ext cx="5257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Slide Number Placeholder 4"/>
          <p:cNvSpPr/>
          <p:nvPr/>
        </p:nvSpPr>
        <p:spPr>
          <a:xfrm>
            <a:off x="457200" y="615312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1676520" y="380520"/>
            <a:ext cx="62481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hods for Sp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atural diffusion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reakthrough Series Collaborative mod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tension agen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mergency mobiliz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ampaign mod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ocial movemen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ave sequence (wedge and spread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road and deep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ybrid model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2" name="Slide Number Placeholder 3"/>
          <p:cNvSpPr/>
          <p:nvPr/>
        </p:nvSpPr>
        <p:spPr>
          <a:xfrm>
            <a:off x="609480" y="630540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731C6-B269-4AFC-8804-4CC846B158F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round to Cov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"/>
          <p:cNvSpPr txBox="1"/>
          <p:nvPr/>
        </p:nvSpPr>
        <p:spPr>
          <a:xfrm>
            <a:off x="457200" y="9140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Spread Proble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 Possible Solution (Framework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pen Questi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Your Ideas and Advic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3" name="Slide Number Placeholder 3"/>
          <p:cNvSpPr/>
          <p:nvPr/>
        </p:nvSpPr>
        <p:spPr>
          <a:xfrm>
            <a:off x="457200" y="615312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A6848-4E48-4CD6-A17D-8A0683FB40D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Frame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4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267080"/>
          </a:xfrm>
          <a:prstGeom prst="rect">
            <a:avLst/>
          </a:prstGeom>
          <a:ln w="0">
            <a:noFill/>
          </a:ln>
        </p:spPr>
      </p:pic>
      <p:sp>
        <p:nvSpPr>
          <p:cNvPr id="1065" name="Footer Placeholder 3"/>
          <p:cNvSpPr/>
          <p:nvPr/>
        </p:nvSpPr>
        <p:spPr>
          <a:xfrm>
            <a:off x="1676520" y="6153120"/>
            <a:ext cx="5257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Slide Number Placeholder 4"/>
          <p:cNvSpPr/>
          <p:nvPr/>
        </p:nvSpPr>
        <p:spPr>
          <a:xfrm>
            <a:off x="457200" y="615312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7" name="Picture 2" descr="InfluentialFactorsImage"/>
          <p:cNvPicPr/>
          <p:nvPr/>
        </p:nvPicPr>
        <p:blipFill>
          <a:blip r:embed="rId2"/>
          <a:stretch/>
        </p:blipFill>
        <p:spPr>
          <a:xfrm>
            <a:off x="1523880" y="685800"/>
            <a:ext cx="6516720" cy="6095880"/>
          </a:xfrm>
          <a:prstGeom prst="rect">
            <a:avLst/>
          </a:prstGeom>
          <a:ln w="0">
            <a:noFill/>
          </a:ln>
        </p:spPr>
      </p:pic>
      <p:sp>
        <p:nvSpPr>
          <p:cNvPr id="1068" name="Slide Number Placeholder 3"/>
          <p:cNvSpPr/>
          <p:nvPr/>
        </p:nvSpPr>
        <p:spPr>
          <a:xfrm>
            <a:off x="609480" y="630540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551B-C0A2-485D-A57F-E9B137D324B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154080"/>
            <a:ext cx="8229600" cy="95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o The Best Practitioners Stimulate Change at Scale and Spread Effective Practices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"/>
          <p:cNvSpPr txBox="1"/>
          <p:nvPr/>
        </p:nvSpPr>
        <p:spPr>
          <a:xfrm>
            <a:off x="457200" y="16459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y tend to address six key questions: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ow do you get people to care (and care enough to take action)?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ere are you in the process of change (foundations/history)?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at is your “hard count” (explicit and implicit aims) and your story for achieving it?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at is the nature of your intervention?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at is the nature  of your social system?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ow will you spread your better practice (method)?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1" name="Footer Placeholder 3"/>
          <p:cNvSpPr/>
          <p:nvPr/>
        </p:nvSpPr>
        <p:spPr>
          <a:xfrm>
            <a:off x="1676520" y="6153120"/>
            <a:ext cx="5257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Slide Number Placeholder 4"/>
          <p:cNvSpPr/>
          <p:nvPr/>
        </p:nvSpPr>
        <p:spPr>
          <a:xfrm>
            <a:off x="457200" y="615312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Slide Number Placeholder 3"/>
          <p:cNvSpPr/>
          <p:nvPr/>
        </p:nvSpPr>
        <p:spPr>
          <a:xfrm>
            <a:off x="609480" y="630540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8A759-FE07-4966-B1ED-FB30201944F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urable Lessons on Managing Change at Scale (What Do the Best Do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"/>
          <p:cNvSpPr txBox="1"/>
          <p:nvPr/>
        </p:nvSpPr>
        <p:spPr>
          <a:xfrm>
            <a:off x="228600" y="1295280"/>
            <a:ext cx="87631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y attempt remarkable things (provocation and optimism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y talk about justic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y have a shared story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y apply “many levers”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y play jazz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y keep it simple (e.g., interventions, measurement systems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y model trust (ecosystems not hierarchies; “distributed laboratories”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y seek affection and give recognition (recognition economy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y break rules (avoid consensus, condense timeframes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y go broad and deep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y revere logistics (“Amateurs discuss strategy…”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6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Slide Number Placeholder 3"/>
          <p:cNvSpPr/>
          <p:nvPr/>
        </p:nvSpPr>
        <p:spPr>
          <a:xfrm>
            <a:off x="457200" y="615312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187FB-0BFD-4170-A890-7194F59667A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 Conference to Advance the State of the Science and Practice on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cale-up and Spread of Effective Health Programs (July 201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"/>
          <p:cNvSpPr txBox="1"/>
          <p:nvPr/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ought to: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view existing knowledg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dentify challenges and gap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t a research and practice agenda for immediate exec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1" name="Slide Number Placeholder 3"/>
          <p:cNvSpPr/>
          <p:nvPr/>
        </p:nvSpPr>
        <p:spPr>
          <a:xfrm>
            <a:off x="457200" y="615312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6246F-3138-4C0E-B9DB-9104FEC49C5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jor Hills to Take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"/>
          <p:cNvSpPr txBox="1"/>
          <p:nvPr/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uild the fiel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periment with incentiv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periment with new methods and technologi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est new forms of evalu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reate and spread practical tool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4" name="Slide Number Placeholder 3"/>
          <p:cNvSpPr/>
          <p:nvPr/>
        </p:nvSpPr>
        <p:spPr>
          <a:xfrm>
            <a:off x="457200" y="615312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64B79-C71A-42C8-A0EA-C97C9432170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lected 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Massoud MR, Nielsen GA, Nolan K, Schall MW, Sevin C</a:t>
            </a:r>
            <a:r>
              <a:rPr b="0" i="1" lang="en-US" sz="2800" spc="-1" strike="noStrike" baseline="30000">
                <a:solidFill>
                  <a:srgbClr val="ffff00"/>
                </a:solidFill>
                <a:latin typeface="Arial"/>
              </a:rPr>
              <a:t>. A Framework for Spread.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 Cambridge, Massachusetts: Institute for Healthcare Improvement; 2006.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immons R, Fajans P, Ghiron L.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Scaling up health service delivery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 Geneva: The World Health Organization, 2007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Victora C, Hanson K, Bryce J, Vaughan P. Achieving universal coverage with health interventions.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Lance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 2004; 364: 1541-1548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Crossing the Quality Chasm: A New Health System for the 21st Century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 Committee on Quality of Health Care in America, Institute of Medicine. Washington, DC, USA: National Academies Press; 2001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ogers E.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Diffusion of Innovation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 New York: The Free Press, 1995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7" name="Footer Placeholder 3"/>
          <p:cNvSpPr/>
          <p:nvPr/>
        </p:nvSpPr>
        <p:spPr>
          <a:xfrm>
            <a:off x="1676520" y="6153120"/>
            <a:ext cx="5257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Slide Number Placeholder 4"/>
          <p:cNvSpPr/>
          <p:nvPr/>
        </p:nvSpPr>
        <p:spPr>
          <a:xfrm>
            <a:off x="457200" y="615312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Slide Number Placeholder 3"/>
          <p:cNvSpPr/>
          <p:nvPr/>
        </p:nvSpPr>
        <p:spPr>
          <a:xfrm>
            <a:off x="609480" y="630540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5E9EC-B32C-4BA3-A096-1A45F636114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lected 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angham LJ, Hanson K. “Scaling up in international health: what are the key issues?”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Health Policy and Planning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 2010; 25:85-96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ougherty D, Conway P. The “3T’s” Road Map to Transform US Health Care.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JAMA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 2008; 299 (19):2319-2321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Greenhalgh T, Robert G, Macfarlane F, Bate P, Kyriakidou O. Diffusion of Innovations in Service Organizations: Systematic Review and Recommendations.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Milbank Quarterly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 2004; 82: 581-629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oley L., Kohl R.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Scaling Up: From Vision to Large-scale Change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Washington, DC: Management Systems International, 2006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2" name="Footer Placeholder 3"/>
          <p:cNvSpPr/>
          <p:nvPr/>
        </p:nvSpPr>
        <p:spPr>
          <a:xfrm>
            <a:off x="1676520" y="6153120"/>
            <a:ext cx="5257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Slide Number Placeholder 4"/>
          <p:cNvSpPr/>
          <p:nvPr/>
        </p:nvSpPr>
        <p:spPr>
          <a:xfrm>
            <a:off x="457200" y="615312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Slide Number Placeholder 3"/>
          <p:cNvSpPr/>
          <p:nvPr/>
        </p:nvSpPr>
        <p:spPr>
          <a:xfrm>
            <a:off x="609480" y="630540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06D1B-02EB-46A7-98E5-8017BBBFD36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lected 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cCannon CJ, Schall MW, Perla RJ.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Planning for Scale: A Guide for Designing Large-Scale Improvement Initiative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 IHI Innovation Series white paper. Cambridge, Massachusetts: Institute for Healthcare Improvement; 2008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cCannon CJ, Berwick DM, Massoud MR. The Science of Large-Scale Change in Global Health.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JAMA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 October 24/31, 2007; 298: 1937 - 1939.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rwick DM. Disseminating innovations in health care.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JAMA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 2003;289(15):1969-1975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radach J. Scaling Impact.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Stanford Social Innovation Review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Summer 2010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7" name="Footer Placeholder 3"/>
          <p:cNvSpPr/>
          <p:nvPr/>
        </p:nvSpPr>
        <p:spPr>
          <a:xfrm>
            <a:off x="1676520" y="6153120"/>
            <a:ext cx="5257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Slide Number Placeholder 4"/>
          <p:cNvSpPr/>
          <p:nvPr/>
        </p:nvSpPr>
        <p:spPr>
          <a:xfrm>
            <a:off x="457200" y="615312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Slide Number Placeholder 3"/>
          <p:cNvSpPr/>
          <p:nvPr/>
        </p:nvSpPr>
        <p:spPr>
          <a:xfrm>
            <a:off x="609480" y="630540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BDFB5-9818-4114-BCED-545071F13A8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"/>
          <p:cNvSpPr txBox="1"/>
          <p:nvPr/>
        </p:nvSpPr>
        <p:spPr>
          <a:xfrm>
            <a:off x="685800" y="1447920"/>
            <a:ext cx="77724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“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I think when people look back at our time, they will be amazed at one thing more than any other. It is this – that we do know more about ourselves now than people did in the past, but that very little of this knowledge has been put into effect.” –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Doris Lessing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6" name="Slide Numb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Slide Number Placeholder 3"/>
          <p:cNvSpPr/>
          <p:nvPr/>
        </p:nvSpPr>
        <p:spPr>
          <a:xfrm>
            <a:off x="457200" y="615312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1766C-E901-4592-8055-97AB9B87DF2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-3024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y Do We Fail to Take Effective Practice to Sca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ecause we lack incentives to do s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0" name="Slide Number Placeholder 3"/>
          <p:cNvSpPr/>
          <p:nvPr/>
        </p:nvSpPr>
        <p:spPr>
          <a:xfrm>
            <a:off x="457200" y="615312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4AF0-9C1D-49D0-90A5-7EF675996C3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Footer Placeholder 3"/>
          <p:cNvSpPr/>
          <p:nvPr/>
        </p:nvSpPr>
        <p:spPr>
          <a:xfrm>
            <a:off x="8751960" y="6561000"/>
            <a:ext cx="199800" cy="1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Slide Number Placeholder 4"/>
          <p:cNvSpPr/>
          <p:nvPr/>
        </p:nvSpPr>
        <p:spPr>
          <a:xfrm>
            <a:off x="457200" y="615168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122400" y="205920"/>
            <a:ext cx="9021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ypical Explan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5" name="Oval 4"/>
          <p:cNvSpPr/>
          <p:nvPr/>
        </p:nvSpPr>
        <p:spPr>
          <a:xfrm>
            <a:off x="2741760" y="1600200"/>
            <a:ext cx="4421160" cy="426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Oval 5"/>
          <p:cNvSpPr/>
          <p:nvPr/>
        </p:nvSpPr>
        <p:spPr>
          <a:xfrm>
            <a:off x="3657600" y="2362320"/>
            <a:ext cx="251460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6"/>
          <p:cNvSpPr/>
          <p:nvPr/>
        </p:nvSpPr>
        <p:spPr>
          <a:xfrm>
            <a:off x="4648320" y="3352680"/>
            <a:ext cx="533160" cy="609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AutoShape 8"/>
          <p:cNvSpPr/>
          <p:nvPr/>
        </p:nvSpPr>
        <p:spPr>
          <a:xfrm rot="7588800">
            <a:off x="5410080" y="35812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 Box 9"/>
          <p:cNvSpPr/>
          <p:nvPr/>
        </p:nvSpPr>
        <p:spPr>
          <a:xfrm>
            <a:off x="4190040" y="4343400"/>
            <a:ext cx="1160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o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 Box 10"/>
          <p:cNvSpPr/>
          <p:nvPr/>
        </p:nvSpPr>
        <p:spPr>
          <a:xfrm>
            <a:off x="4200480" y="5133960"/>
            <a:ext cx="1614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se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 Box 11"/>
          <p:cNvSpPr/>
          <p:nvPr/>
        </p:nvSpPr>
        <p:spPr>
          <a:xfrm>
            <a:off x="4593960" y="3519360"/>
            <a:ext cx="665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&amp;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Slide Number Placeholder 3"/>
          <p:cNvSpPr/>
          <p:nvPr/>
        </p:nvSpPr>
        <p:spPr>
          <a:xfrm>
            <a:off x="457200" y="615312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34AE-D908-46DC-8F29-F532EBB2BF0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Footer Placeholder 3"/>
          <p:cNvSpPr/>
          <p:nvPr/>
        </p:nvSpPr>
        <p:spPr>
          <a:xfrm>
            <a:off x="8751960" y="6561000"/>
            <a:ext cx="199800" cy="1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Slide Number Placeholder 4"/>
          <p:cNvSpPr/>
          <p:nvPr/>
        </p:nvSpPr>
        <p:spPr>
          <a:xfrm>
            <a:off x="457200" y="615168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220320" y="282240"/>
            <a:ext cx="892332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More Accurate Represent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7" name="Oval 4"/>
          <p:cNvSpPr/>
          <p:nvPr/>
        </p:nvSpPr>
        <p:spPr>
          <a:xfrm>
            <a:off x="2590920" y="1447920"/>
            <a:ext cx="4724280" cy="457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Oval 5"/>
          <p:cNvSpPr/>
          <p:nvPr/>
        </p:nvSpPr>
        <p:spPr>
          <a:xfrm>
            <a:off x="2895480" y="1752480"/>
            <a:ext cx="4114800" cy="3962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Oval 6"/>
          <p:cNvSpPr/>
          <p:nvPr/>
        </p:nvSpPr>
        <p:spPr>
          <a:xfrm>
            <a:off x="3352680" y="2209680"/>
            <a:ext cx="3276720" cy="2819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Text Box 9"/>
          <p:cNvSpPr/>
          <p:nvPr/>
        </p:nvSpPr>
        <p:spPr>
          <a:xfrm>
            <a:off x="4425120" y="5105520"/>
            <a:ext cx="1160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o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 Box 10"/>
          <p:cNvSpPr/>
          <p:nvPr/>
        </p:nvSpPr>
        <p:spPr>
          <a:xfrm>
            <a:off x="4159440" y="5638680"/>
            <a:ext cx="15444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issemin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Text Box 11"/>
          <p:cNvSpPr/>
          <p:nvPr/>
        </p:nvSpPr>
        <p:spPr>
          <a:xfrm>
            <a:off x="4593960" y="3519360"/>
            <a:ext cx="665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&amp;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Left-Right Arrow 12"/>
          <p:cNvSpPr/>
          <p:nvPr/>
        </p:nvSpPr>
        <p:spPr>
          <a:xfrm rot="3313800">
            <a:off x="5063400" y="4241160"/>
            <a:ext cx="1768320" cy="661680"/>
          </a:xfrm>
          <a:prstGeom prst="leftRightArrow">
            <a:avLst>
              <a:gd name="adj1" fmla="val 50000"/>
              <a:gd name="adj2" fmla="val 50022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457200" y="615312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C2EA6-1CF5-46AD-84AB-06A9D7DAA84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-3024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y Do We Fail to Take Effective Practice to Sca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ecause we lack incentives to do s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ecause we don’t expect to do s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7" name="Slide Number Placeholder 3"/>
          <p:cNvSpPr/>
          <p:nvPr/>
        </p:nvSpPr>
        <p:spPr>
          <a:xfrm>
            <a:off x="457200" y="615312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6FF7D-5F10-45A6-B008-6526699F156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-3024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y Do We Fail to Take Effective Practice to Sca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ecause we lack incentives to do s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ecause we don’t expect to do s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ecause we don’t appreciate how large-scale  change unfold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0" name="Slide Number Placeholder 3"/>
          <p:cNvSpPr/>
          <p:nvPr/>
        </p:nvSpPr>
        <p:spPr>
          <a:xfrm>
            <a:off x="457200" y="615312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0B640-0268-4E2F-98A7-76C3B612F75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Sequence of Chan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"/>
          <p:cNvSpPr txBox="1"/>
          <p:nvPr/>
        </p:nvSpPr>
        <p:spPr>
          <a:xfrm>
            <a:off x="457200" y="144756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426960" indent="-42696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n innovative discove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26960" indent="-42696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demonstration in 50 hospital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26960" indent="-42696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utstanding results in 4 stat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26960" indent="-42696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terest from purchasers and payer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26960" indent="-42696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state law in 14 stat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26960" indent="-42696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national mandat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26960" indent="-42696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part of graduate-level training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26960" indent="-42696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n expectation and a standar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26960" indent="-42696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nfidence in ability to make chang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26960" indent="-42696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ore ambitious aim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3" name="Footer Placeholder 3"/>
          <p:cNvSpPr/>
          <p:nvPr/>
        </p:nvSpPr>
        <p:spPr>
          <a:xfrm>
            <a:off x="1676520" y="6153120"/>
            <a:ext cx="5257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Slide Number Placeholder 4"/>
          <p:cNvSpPr/>
          <p:nvPr/>
        </p:nvSpPr>
        <p:spPr>
          <a:xfrm>
            <a:off x="457200" y="615312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4T16:31:58Z</dcterms:created>
  <dc:creator>juran</dc:creator>
  <dc:description/>
  <dc:language>en-US</dc:language>
  <cp:lastModifiedBy>emily.moser</cp:lastModifiedBy>
  <dcterms:modified xsi:type="dcterms:W3CDTF">2011-04-14T17:54:08Z</dcterms:modified>
  <cp:revision>308</cp:revision>
  <dc:subject/>
  <dc:title>Slide 1</dc:title>
</cp:coreProperties>
</file>